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0.jpeg" ContentType="image/jpeg"/>
  <Override PartName="/ppt/media/image9.jpeg" ContentType="image/jpeg"/>
  <Override PartName="/ppt/media/image11.png" ContentType="image/png"/>
  <Override PartName="/ppt/media/image48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4.jpeg" ContentType="image/jpeg"/>
  <Override PartName="/ppt/media/image35.wmf" ContentType="image/x-wmf"/>
  <Override PartName="/ppt/media/image36.png" ContentType="image/png"/>
  <Override PartName="/ppt/media/image42.png" ContentType="image/png"/>
  <Override PartName="/ppt/media/image43.png" ContentType="image/png"/>
  <Override PartName="/ppt/media/image53.jpeg" ContentType="image/jpeg"/>
  <Override PartName="/ppt/media/image44.png" ContentType="image/png"/>
  <Override PartName="/ppt/media/image40.jpeg" ContentType="image/jpeg"/>
  <Override PartName="/ppt/media/image34.png" ContentType="image/png"/>
  <Override PartName="/ppt/media/image46.png" ContentType="image/png"/>
  <Override PartName="/ppt/media/image39.png" ContentType="image/png"/>
  <Override PartName="/ppt/media/image41.png" ContentType="image/png"/>
  <Override PartName="/ppt/media/image50.png" ContentType="image/png"/>
  <Override PartName="/ppt/media/image13.png" ContentType="image/png"/>
  <Override PartName="/ppt/media/image45.png" ContentType="image/png"/>
  <Override PartName="/ppt/media/image6.jpeg" ContentType="image/jpeg"/>
  <Override PartName="/ppt/media/image51.jpeg" ContentType="image/jpeg"/>
  <Override PartName="/ppt/media/image31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8.jpeg" ContentType="image/jpeg"/>
  <Override PartName="/ppt/media/image38.png" ContentType="image/png"/>
  <Override PartName="/ppt/media/image52.wmf" ContentType="image/x-wmf"/>
  <Override PartName="/ppt/media/image49.png" ContentType="image/png"/>
  <Override PartName="/ppt/media/image12.png" ContentType="image/png"/>
  <Override PartName="/ppt/media/image1.jpeg" ContentType="image/jpeg"/>
  <Override PartName="/ppt/media/image47.png" ContentType="image/png"/>
  <Override PartName="/ppt/media/image7.png" ContentType="image/png"/>
  <Override PartName="/ppt/media/image3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6D75D-259F-4EAB-8CDC-C0741CFF658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3262A-2796-4281-ADDE-746FB4ACAB3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 powierzchni nabłonka węchowego (około 5 c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najduje się około 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10</a:t>
            </a:r>
            <a:r>
              <a:rPr b="0" lang="en-US" sz="1200" spc="-1" strike="noStrike" baseline="30000">
                <a:solidFill>
                  <a:srgbClr val="ff3300"/>
                </a:solidFill>
                <a:latin typeface="Arial"/>
              </a:rPr>
              <a:t>6 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- 10</a:t>
            </a:r>
            <a:r>
              <a:rPr b="0" lang="en-US" sz="1200" spc="-1" strike="noStrike" baseline="30000">
                <a:solidFill>
                  <a:srgbClr val="ff3300"/>
                </a:solidFill>
                <a:latin typeface="Arial"/>
              </a:rPr>
              <a:t>7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 komórek węchowy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awierają około 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1000 różnych receptorów białkowy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waża się, ż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 każdej komórce aktywny jest tylko jeden rodzaj receptor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ą rozmieszczone w nabłonku losow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komórki jednego rodzaju są połączone z określony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zarem opuszki węchowej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ierwszy etap analizy sygnałów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533520" y="5275440"/>
            <a:ext cx="5602320" cy="15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tychczasowe próby obiektywizacji ocen intensywności zapachu polegają na poszukiwaniu jej zależnośc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 stężenia związków zapachowych w powietrz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nowane są równania nazywane prawami psychofizycznymi i modelami interakcji węchowy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03B2B-346D-4829-B604-36D6877FF11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ażda z komórek jest otoczona podwójną </a:t>
            </a:r>
            <a:r>
              <a:rPr b="0" lang="pl-PL" sz="1200" spc="-1" strike="noStrike">
                <a:solidFill>
                  <a:srgbClr val="ff3300"/>
                </a:solidFill>
                <a:latin typeface="Arial"/>
              </a:rPr>
              <a:t>warstwą lipidową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- warstewką nie rozpuszczalnego w wodzie tłuszczu. Błona jest spolaryzowana (jest naładowanym kondensatorem o napięciu </a:t>
            </a:r>
            <a:r>
              <a:rPr b="0" lang="pl-PL" sz="1200" spc="-1" strike="noStrike">
                <a:solidFill>
                  <a:srgbClr val="ff3300"/>
                </a:solidFill>
                <a:latin typeface="Arial"/>
              </a:rPr>
              <a:t>~70 mV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). Na wewnętrznej powierzchni gromadzi się nadmiar dodatnich jonów (kolor czerwony, znak +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Jony + nie przepływają na zewnątrz dopóki błonka jest szczelna. Cząsteczki związków zapachowych, które docierają z zewnątrz mogą to zmienić, jeżeli mają odpowiednie kształ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czestniczą w tym pływające w błonie cząsteczki białek - </a:t>
            </a:r>
            <a:r>
              <a:rPr b="0" lang="pl-PL" sz="1200" spc="-1" strike="noStrike">
                <a:solidFill>
                  <a:srgbClr val="ff3300"/>
                </a:solidFill>
                <a:latin typeface="Arial"/>
              </a:rPr>
              <a:t>receptory białkowe.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Są to cząsteczki biologicznie aktywne, które zmieniają kształt pod wpływem zmian zachodzących w ich środowisk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iektóre zmiany kształtu prowadzą do powstania kanalików, którymi „uciekają” jony. Powstaje sygnał elektryczny, który przemieszcza się wzdłuż nerw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533520" y="5275440"/>
            <a:ext cx="5602320" cy="15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tychczasowe próby obiektywizacji ocen intensywności zapachu polegają na poszukiwaniu jej zależnośc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 stężenia związków zapachowych w powietrz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nowane są równania nazywane prawami psychofizycznymi i modelami interakcji węchowy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744120" y="5197320"/>
            <a:ext cx="5180040" cy="34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jbardziej znane są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arytmiczne prawo Webera-Fechn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 potęgowe prawo Stevens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– intensywność zapachu,  S – stężenia odoranta, SPWW – próg węchowej wyczuwalności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WF,  kS, n  -  stałe empirycz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525600" y="4963680"/>
            <a:ext cx="560232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jbardziej popularny psychologiczny model węchowych interakcji opiera się na założeniu, że intensywność zapachu mieszaniny dwóch związków zapachowych jest wektorową sumą intensywności zapachu składników mieszani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ąt alfa jest charakterystyczny dla danej pary odorantów i  wynosi zwykl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fa w  = od  102 do  115 stopn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zy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 alfa w = od (- 0,2079) do (- 0,4226)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533520" y="5418000"/>
            <a:ext cx="5602320" cy="16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nany psychofizyczny model UPL2 jest próbą kompilacji prawa Stevensa i modelu sumowania wektorowe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aproponowano sposób wykorzystania informacji o stężeniach składników mieszaniny odorantów A i B (S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oraz równań Stevensa, wyznaczonych osobno dla obu związków (wartości wykładnika n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 n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24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óby weryfikacji proponowanych równań były wykonywane Pracowni w latach 1998-2000, między  innymi w ramach pracy doktorskiej Bartosza Wyszyńskieg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ykonano liczne zespołowe oceny intensywności zapachu powietrza zanieczyszczonego cykloheksanolem, cykloheksanonem, cykloheksanem i heksanem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wierdzono znaczne różnice między wartościami oczekiwanymi na podstawie znanych modeli interakcji węchowych i wynikami pomiarów sensoryczny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18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aobserwowano trudną do wyjaśnienia zależność progu wyczuwalności mieszanin dwóch odorantó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 proporcji składników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amo dotyczy współczynnika Webera-Fechner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533520" y="5418000"/>
            <a:ext cx="5602320" cy="34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dania intensywności zapachu próbek powietrza zawierających trzy odoranty ujawniły jeszcze więcej zagadkowych zależnoś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ustrują to wykresy zależności progu wyczuwalności i współczynnika Webera-Fechnera mieszanin cykloheksanolu, cykloheksanonu i  heksanu od molowych udziałów składnikó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tanowiono podjąć próby oznaczania intensywności  zapachu z wykorzystaniem idei elektronicznego nosa -  na podstawie informacji charakteryzujących całą mieszaninę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ja praca dotyczy wykorzystania chromatogramów (GC) traktowanych jak specyficzne „odciski palca mieszanin”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jak charakterystyczne obrazy, które mogą być "skojarzone" z określonymi zapachami przez odpowiednio przygotowaną sztuczną sieć neuronową (N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533160" y="4728960"/>
            <a:ext cx="5825880" cy="34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 podstaw pracy leży założenie, że funkcje zestawu zróżnicowanych czujników elektronicznego nosa, równocześnie poddawanych działaniu badanej mieszaniny gazów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że  spełniać detektor chromatografu gazowego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gujący na obecność kolejno wprowadzanych frakcji tej mieszanin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533160" y="4728960"/>
            <a:ext cx="5825880" cy="34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 podstaw pracy leży założenie, że funkcje zestawu zróżnicowanych czujników elektronicznego nosa, równocześnie poddawanych działaniu badanej mieszaniny gazów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że  spełniać detektor chromatografu gazowego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gujący na obecność kolejno wprowadzanych frakcji tej mieszanin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382680" y="4728960"/>
            <a:ext cx="5976720" cy="46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ktroniczny nos, EN rozpoznaje rodzaj zapachu, jeżeli pod wpływem próbki (np. próbka aromatyzowanego powietrza) i wzorca (np. naturalna cytryna) powstaje podobna „mapa pobudzeń” zestawu czujników. Podobieństwo można oceniać z użyciem różnych N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atogram – uszeregowane w czasie sygnały detektora GC (prawa strona) – dostarcza podobnych informacji co „mapa pobudzeń”. Podobieństwo chromatogramów próbki i wzorca o znanej intensywności zapachu może informować o intensywności zapachu próbki.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dczas badań rozpoznawczych stosowałam hipotetyczne  zbiory  treningowe oraz zbiory sporządzone z wykorzystaniem wyników    sensorycznych pomiarów, wcześniej wykonywanych w Pracown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94140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spólnie z dwunastoosobową grupą studentów Ochrony Środowiska wykonaliśmy chromatograficzno-sensoryczne badania próbek powietrza zawierająceg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ne składniki  olejku cytrynoweg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z różne ilości acetonu,  etanolu,  izopropanolu i octanu izoamylowe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94140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799920" y="4885920"/>
            <a:ext cx="533556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a zmienne objaśniające intensywność zapachu postanowiłam uznać powierzchnie pięciu pików GC  rejestrowanych w warunkach zamierzonego nie pełnego chromatograficznego rozdziału - odpowiadających zaznaczonym czasom retencj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nsywność zapachu była określana przy użyciu n-butanolowej skali wzorców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owy histogram ilustruje precyzję tych oznaczeń (odchylenie standardowe wynosi 0,96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533520" y="5119200"/>
            <a:ext cx="5602320" cy="18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kość wielu różnych artykułów codziennego użytku jest oceniana z uwzględnieniem ich zapachu. Zagadnienia te są od dawna przedmiotem badań i tematem licznych publikacji. Największa ich liczba dotyczy zapachu artykułów spożywczych i kosmetykó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żo rzadziej ukazują się publikacje dotyczące zapachu powietrza atmosferycznego lub powietrza wnętrz (bardzo często decydującego o naszym samopoczuciu).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94140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023480" y="4806720"/>
            <a:ext cx="4900680" cy="35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cc"/>
                </a:solidFill>
                <a:latin typeface="Arial"/>
              </a:rPr>
              <a:t>UWAGA!  Tu brakuje kolumny z ocenami indywidualnymi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rzymane wyniki analiz sensoryczno-chromatograficzny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owiły podstawowy zbiór treningowy, złożony z 1578 wzorców, który  wykorzystywałam podczas przygotowywania sieci neuronowej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ocen intensywności zapachu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dczas treningów stosowałam zbio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różnej wielkości i różnym stopniu wygładzenia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zawierające wszystkie indywidualne oceny intensywności zapachu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oceny nie odbiegające od średniej bardziej niż o wartość odchylenia standardowego (SD=0,85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ediany ocen każdej z próbe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jlepsze wyniki uzyskałam stosując zbiory dany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eszczące się w zakresie:   średnia ±S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03360" y="4885920"/>
            <a:ext cx="5602320" cy="35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ysunek ilustruje wyniki jednego z testów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zeprowadzonego po treningu z użyciem 1446 wzorcó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dolność wyszkolonej sieci do generalizacji oceniała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lasycznie - na podstawie wartości błędu RMS testu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(może warto wzór i wartość zamieścić na slajdzi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z  w specyficzny sposób - obliczając procentowy udział poprawnych odpowiedzi podawanych przez sieć podczas test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zyjęłam, że poprawne są te odpowiedzi sieci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tóre nie różnią się od mediany ocen sensorycznych o więcej niż 0,5 lub 1,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 przedstawionym przypadku sieć udzielała  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....... %   i  ....... %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 zdefiniowanych odpowiedzi poprawnyc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806040" y="4729320"/>
            <a:ext cx="511812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 punktu widzenia możliwości realizacji techniki GC-NN w rzeczywistych warunkach przemysłowych bardzo istotna jest odpowiedź na pytanie, jaka jest minimalna liczebność zbioru treningowego, który powinien być zgromadzony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sując zbiory treningowe złożone z  200 - 1000 wzorców otrzymywałam sieci udzielające </a:t>
            </a: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około 95% odpowiedzi różniących się od mediany o mniej niż 1,0, 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a około  75%  -  o mniej niż  0,5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rening wykonywany z użyciem 50 - 100 wzorców był wyraźnie mniej efektyw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66360" y="4714920"/>
            <a:ext cx="53355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yniki badań pozwalają stwierdzić, że technika GC-NN może być wykorzystana jako narzędzie monitoringu intensywności zapachu gazów przemysłowych, takich jak gazy odlotowe z produkcji kwasu fosforowe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534960" y="4571640"/>
            <a:ext cx="57405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tychczasowe wyniki pozwalają stwierdzić, że przygotowanie baz danych będzie można rozpocząć od pobrania około </a:t>
            </a: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100 reprezentatywnych próbek gazów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(w różnych warunkach technologicznych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Olfaktometryczne oznaczenia intensywności zapachu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próbek powinny być prowadzone z udziałem co najmniej dziesięciu oceniających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a podstawie statystycznej analizy rozkładu indywidualnych ocen badanych  próbek  należy wytypować 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wygładzony zbiór oce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(intensywności zapachu, które mieszczą się w zakresie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,med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 oraz 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zbiór media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Analizy chromatograficzn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powinny być wykonywane w zróżnicowanych warunkach (ze zmianami wypełnienia kolumn, typu detektora, fizycznych warunków rozdziału GC). Im bogatsza będzie  baza danych chromatograficznych tym bardziej prawdopodobne będzie, że znajdą się w niej parametry ściśle skorelowane z wynikami pomiarów sensorycznych. </a:t>
            </a: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Selekcj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wytypowanie optymalnego zbioru parametrów, będzie zadaniem wymagającym udziału ekspertów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Następnie należy utworzyć zbiory treningowe - uczący i testowy.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Zbiór ucząc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powstaje w wyniku zestawienia wygładzonego zbioru wyników analiz sensorycznych z kompletami wybranych cech chromatogramów odpowiednich próbek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W zbiorze testowym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kompletowi wybranych cech każdego chromatogramu odpowiada tylko jedna wartość intensywności zapachu - mediana indywidualnych ocen sensorycznych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dczas wyboru typu sieci oraz parametrów uczenia możliwe jest użycie "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utomatycznych Projektantów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ieci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„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 testach poprawności predykcji należy obliczyć </a:t>
            </a: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udział poprawnych odpowiedzi sieci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eżeli precyzja okaże się </a:t>
            </a: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zadowalając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system GC-NN może być zastosowany do monitoringu intensywności zapachu.gazów przemysłowych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eżeli precyzja okaże się </a:t>
            </a: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nie satysfakcjonując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wtedy należy zwiększyć ilość zmiennych objaśniających (wykorzystać dodatkowe parametry z bazy danych chromatograficznych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eżeli precyzja będzie niezadowalająca mimo wykorzystania wszystkich dostępnych parametrów, niezbędne będzie pobranie i zanalizowanie dodatkowych próbek (powiększenie chromatograficznych i sensorycznych baz danych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04800" y="4885920"/>
            <a:ext cx="56008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tęp w zakresie doskonalenia jakości kompozycji zapachowych oraz ograniczania uciążliwości zapachów niepożądanych hamuje brak jednoznacznych metod pomiarów. Zapach jest wciąż jeszcze oceniany przez ludzi – ekspertów o wysokich kwalifikacjach lub grupy oceniających o przeciętnym węch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 ostatnich latach coraz częściej wykorzystywany jest też „elektroniczny nos”. Elektroniczne nosy rozpoznają rodzaj zapachu - nie określają jego intensywnoś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04800" y="4885920"/>
            <a:ext cx="56008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tęp w zakresie doskonalenia jakości kompozycji zapachowych oraz ograniczania uciążliwości zapachów niepożądanych hamuje brak jednoznacznych metod pomiarów. Zapach jest wciąż jeszcze oceniany przez ludzi – ekspertów o wysokich kwalifikacjach lub grupy oceniających o przeciętnym węch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 ostatnich latach coraz częściej wykorzystywany jest też „elektroniczny nos”. Elektroniczne nosy rozpoznają rodzaj zapachu - nie określają jego intensywnoś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533520" y="5275440"/>
            <a:ext cx="5602320" cy="15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tychczasowe próby obiektywizacji ocen intensywności zapachu polegają na poszukiwaniu jej zależnośc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 stężenia związków zapachowych w powietrz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nowane są równania nazywane prawami psychofizycznymi i modelami interakcji węchowy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58852-C08C-4042-AD43-C6F3396089B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ddychając wprowadzamy próbki powietrza do jamy nosowej, którą tylko blaszka sitowa oddziela od najbardziej atawistycznych części mózgu - </a:t>
            </a:r>
            <a:r>
              <a:rPr b="0" lang="pl-PL" sz="1200" spc="-1" strike="noStrike">
                <a:solidFill>
                  <a:srgbClr val="ff3300"/>
                </a:solidFill>
                <a:latin typeface="Arial"/>
              </a:rPr>
              <a:t>opuszki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węchowej.  Do opuszki docierają aksony </a:t>
            </a:r>
            <a:r>
              <a:rPr b="0" lang="pl-PL" sz="1200" spc="-1" strike="noStrike">
                <a:solidFill>
                  <a:srgbClr val="ff3300"/>
                </a:solidFill>
                <a:latin typeface="Arial"/>
              </a:rPr>
              <a:t>komórek węchowych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Żaden z pozostałych zmysłów nie jest tak bezpośrednio związany z mózgiem!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d strony jamy nosowej komórki te są zakończone licznymi drobnymi rzęskami, które „łowią” zanieczyszczenia wdychanego powietrz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zyjrzyjmy się jednej z komórek węchowy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146B8-A166-4F32-B892-F9E9A581075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ażda z komórek jest otoczona podwójną </a:t>
            </a:r>
            <a:r>
              <a:rPr b="0" lang="pl-PL" sz="1200" spc="-1" strike="noStrike">
                <a:solidFill>
                  <a:srgbClr val="ff3300"/>
                </a:solidFill>
                <a:latin typeface="Arial"/>
              </a:rPr>
              <a:t>warstwą lipidową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- warstewką nie rozpuszczalnego w wodzie tłuszczu. Błona jest spolaryzowana (jest naładowanym kondensatorem o napięciu </a:t>
            </a:r>
            <a:r>
              <a:rPr b="0" lang="pl-PL" sz="1200" spc="-1" strike="noStrike">
                <a:solidFill>
                  <a:srgbClr val="ff3300"/>
                </a:solidFill>
                <a:latin typeface="Arial"/>
              </a:rPr>
              <a:t>~70 mV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). Na wewnętrznej powierzchni gromadzi się nadmiar dodatnich jonów (kolor czerwony, znak +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Jony + nie przepływają na zewnątrz dopóki błonka jest szczelna. Cząsteczki związków zapachowych, które docierają z zewnątrz mogą to zmienić, jeżeli mają odpowiednie kształ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czestniczą w tym pływające w błonie cząsteczki białek - </a:t>
            </a:r>
            <a:r>
              <a:rPr b="0" lang="pl-PL" sz="1200" spc="-1" strike="noStrike">
                <a:solidFill>
                  <a:srgbClr val="ff3300"/>
                </a:solidFill>
                <a:latin typeface="Arial"/>
              </a:rPr>
              <a:t>receptory białkowe.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Są to cząsteczki biologicznie aktywne, które zmieniają kształt pod wpływem zmian zachodzących w ich środowisk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iektóre zmiany kształtu prowadzą do powstania kanalików, którymi „uciekają” jony. Powstaje sygnał elektryczny, który przemieszcza się wzdłuż nerw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471B-CFEF-4A4E-A9D6-498CF6FAC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3BB3-3695-41C7-9F83-6D53907F2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81EA-6195-4CCB-861D-2D127290C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105A-63F2-4315-B967-F27CDE7D2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586E-6B2B-438E-8323-EE2594062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86A3-DFDF-4E8C-B009-28BF3D634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D8E6-6654-4012-B3AA-23263F889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69F9-B2AF-4422-9F0F-956953C3F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F5E3-D5AC-4433-A184-3644DC7DE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9B9A-92AB-4C28-8A06-28925A797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A273-64BE-4845-8DDF-15A8F4221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4BB5-15CA-4304-B09C-3AE1AB039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06590-6948-4EAD-ADC9-D9CA3BD98C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nobelprize.virtual.museum/medicine/laureates/2004/buck-slides.pdf" TargetMode="External"/><Relationship Id="rId3" Type="http://schemas.openxmlformats.org/officeDocument/2006/relationships/hyperlink" Target="http://nobelprize.virtual.museum/medicine/laureates/2004/buck-slides.pdf" TargetMode="External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hyperlink" Target="http://bi.gazeta.pl/im/6/2322/m2322416.jpg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wtiich.ps.pl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nobelprize.virtual.museum/medicine/laureates/2004/buck-slides.pdf" TargetMode="External"/><Relationship Id="rId2" Type="http://schemas.openxmlformats.org/officeDocument/2006/relationships/hyperlink" Target="http://nobelprize.virtual.museum/medicine/laureates/2004/buck-slides.pdf" TargetMode="Externa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3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34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image" Target="../media/image41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image" Target="../media/image40.jpeg"/><Relationship Id="rId4" Type="http://schemas.openxmlformats.org/officeDocument/2006/relationships/image" Target="../media/image4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42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44.png"/><Relationship Id="rId9" Type="http://schemas.openxmlformats.org/officeDocument/2006/relationships/oleObject" Target="../embeddings/oleObject3.bin"/><Relationship Id="rId10" Type="http://schemas.openxmlformats.org/officeDocument/2006/relationships/image" Target="../media/image45.png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46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8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17000"/>
            <a:ext cx="9144000" cy="33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ytut Inżynierii Chemicznej i Procesów Ochrony Środowiska  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akład Ekologicznych Podstaw Inżynierii Środowis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ACOWNIA  ZAPACHOWEJ  JAKOŚCI  POWIETR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00000" y="2924280"/>
            <a:ext cx="7488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SZTUCZNE  SIECI  NEURONOWE  W  ODORYMETRII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Koncepcja "systemu GC-NN" i wyniki badań wstępnych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50" name=""/>
          <p:cNvSpPr/>
          <p:nvPr/>
        </p:nvSpPr>
        <p:spPr>
          <a:xfrm>
            <a:off x="2627280" y="4292640"/>
            <a:ext cx="4572000" cy="27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rof. dr hab. inż. Joanna Kośm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spółpracownic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dr inż. Bartosz Wyszyńs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dr inż. Małgorzata Zamelczyk-Pajewsk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mgr inż. Beata Krajewsk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dr inż. Barbara Mazur-Chrzanowsk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mgr inż. Monika Sosialu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i inn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995640" y="1557360"/>
            <a:ext cx="911160" cy="896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108000" y="380880"/>
          <a:ext cx="5315040" cy="585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380880"/>
                    <a:ext cx="5315040" cy="585972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441440" y="6324480"/>
            <a:ext cx="22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zujni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990720" y="5638320"/>
            <a:ext cx="1440" cy="335160"/>
          </a:xfrm>
          <a:prstGeom prst="line">
            <a:avLst/>
          </a:prstGeom>
          <a:ln w="57240">
            <a:solidFill>
              <a:srgbClr val="696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2209320" y="5638320"/>
            <a:ext cx="1800" cy="335160"/>
          </a:xfrm>
          <a:prstGeom prst="line">
            <a:avLst/>
          </a:prstGeom>
          <a:ln w="57240">
            <a:solidFill>
              <a:srgbClr val="00d7d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3124080" y="5638320"/>
            <a:ext cx="1800" cy="335160"/>
          </a:xfrm>
          <a:prstGeom prst="line">
            <a:avLst/>
          </a:prstGeom>
          <a:ln w="57240">
            <a:solidFill>
              <a:srgbClr val="d27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138560" y="5638320"/>
            <a:ext cx="1800" cy="3351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4"/>
          <a:srcRect l="0" t="11327" r="0" b="4247"/>
          <a:stretch/>
        </p:blipFill>
        <p:spPr>
          <a:xfrm>
            <a:off x="5527800" y="333360"/>
            <a:ext cx="3581280" cy="20224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659640" y="379440"/>
            <a:ext cx="184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iz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876920" y="609480"/>
            <a:ext cx="1181160" cy="1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5"/>
          <a:srcRect l="0" t="12742" r="0" b="0"/>
          <a:stretch/>
        </p:blipFill>
        <p:spPr>
          <a:xfrm>
            <a:off x="5508720" y="2349360"/>
            <a:ext cx="3581280" cy="23893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rcRect l="0" t="7079" r="0" b="7079"/>
          <a:stretch/>
        </p:blipFill>
        <p:spPr>
          <a:xfrm>
            <a:off x="5562720" y="4508640"/>
            <a:ext cx="3581280" cy="1728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11280" y="3645000"/>
            <a:ext cx="4032000" cy="1728720"/>
          </a:xfrm>
          <a:prstGeom prst="upArrow">
            <a:avLst>
              <a:gd name="adj1" fmla="val 50000"/>
              <a:gd name="adj2" fmla="val 25000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958000" y="2671920"/>
            <a:ext cx="3438360" cy="36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uktura  warstwowa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onwergencja i dywergencj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łączenia zwrot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mienne wag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progi pobudzeni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uczenie się - wzmacnian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kreślonych połączeń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naptycznych)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7"/>
          <a:stretch/>
        </p:blipFill>
        <p:spPr>
          <a:xfrm>
            <a:off x="6445080" y="836640"/>
            <a:ext cx="2087640" cy="151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LITECHNIKA SZCZECIŃSKA, IIChiPOŚ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E6E0-5DED-42D8-ACE2-45C969698D24}" type="slidenum">
              <a:t>10</a:t>
            </a:fld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60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8000"/>
                            </p:stCondLst>
                            <p:childTnLst>
                              <p:par>
                                <p:cTn id="15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68360" y="2236680"/>
            <a:ext cx="831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 Black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 Black"/>
              </a:rPr>
              <a:t>Linda Buck i Richard Ax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 Black"/>
              </a:rPr>
              <a:t>Nagroda Nobla 200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 Black"/>
              </a:rPr>
              <a:t>w dziedzinie medycy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LITECHNIKA SZCZECIŃSKA, IIChiPOŚ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4D40-F288-400F-83B0-03BCA86857CA}" type="slidenum">
              <a:t>11</a:t>
            </a:fld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42920" y="5229360"/>
            <a:ext cx="76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nobelprize.virtual.museum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medicine/laureates/2004/buck-slides.pdf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423720" y="1568520"/>
            <a:ext cx="4149720" cy="27082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4645080" y="1557360"/>
            <a:ext cx="4103640" cy="2744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LITECHNIKA SZCZECIŃSKA, IIChiPOŚ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A8BF-2316-4A77-B1E2-F43ECE3FA04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"/>
          <p:cNvGrpSpPr/>
          <p:nvPr/>
        </p:nvGrpSpPr>
        <p:grpSpPr>
          <a:xfrm>
            <a:off x="1692360" y="549360"/>
            <a:ext cx="5907600" cy="5618520"/>
            <a:chOff x="1692360" y="549360"/>
            <a:chExt cx="5907600" cy="5618520"/>
          </a:xfrm>
        </p:grpSpPr>
        <p:pic>
          <p:nvPicPr>
            <p:cNvPr id="116" name="" descr=""/>
            <p:cNvPicPr/>
            <p:nvPr/>
          </p:nvPicPr>
          <p:blipFill>
            <a:blip r:embed="rId2"/>
            <a:srcRect l="0" t="1966" r="0" b="2458"/>
            <a:stretch/>
          </p:blipFill>
          <p:spPr>
            <a:xfrm>
              <a:off x="1692360" y="549360"/>
              <a:ext cx="5832360" cy="535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3991680" y="5860800"/>
              <a:ext cx="360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9999"/>
                  </a:solidFill>
                  <a:uFillTx/>
                  <a:latin typeface="Arial"/>
                  <a:hlinkClick r:id="rId3"/>
                </a:rPr>
                <a:t>http://bi.gazeta.pl/im/6/2322/m2322416.jpg</a:t>
              </a: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2123640" y="44280"/>
            <a:ext cx="50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udowa analizatora węchowego  (podstaw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LITECHNIKA SZCZECIŃSKA, IIChiPOŚ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5956-55C9-4126-9203-473A6321823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LITECHNIKA SZCZECIŃSKA, IIChiPOŚ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8DB5-40D0-408B-976E-6077262A8066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LITECHNIKA SZCZECIŃSKA, IIChiPOŚ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4128-F645-4CAF-AFF4-FC5EA3995CF6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LITECHNIKA SZCZECIŃSKA, IIChiPOŚ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A53F-2530-4C09-A3A6-CC4BF0402EA5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LITECHNIKA SZCZECIŃSKA, IIChiPOŚ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CBA5-D0E3-4240-B089-E383B6B50B6E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LITECHNIKA SZCZECIŃSKA, IIChiPOŚ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D8D5-1BDA-4AD9-A273-CE58CB157B5F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LITECHNIKA SZCZECIŃSKA, IIChiPOŚ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8C63-A586-4834-B45E-0948096ACEE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17000"/>
            <a:ext cx="9144000" cy="33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ytut Inżynierii Chemicznej i Procesów Ochrony Środowiska  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akład Ekologicznych Podstaw Inżynierii Środowis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ACOWNIA  ZAPACHOWEJ  JAKOŚCI  POWIETR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900000" y="2924280"/>
            <a:ext cx="7488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SZTUCZNE  SIECI  NEURONOWE  W  ODORYMETRII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Koncepcja "systemu GC-NN" i wyniki badań wstępnych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54" name=""/>
          <p:cNvSpPr/>
          <p:nvPr/>
        </p:nvSpPr>
        <p:spPr>
          <a:xfrm>
            <a:off x="863640" y="4365720"/>
            <a:ext cx="82803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Granty KBN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2002-2004:   INTENSYWNOŚĆ ZAPACHU.  Prawa psychofizyczne i sztuczne sieci neuronow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2005-2007:  ODORYMETRIA – Nowe metody pomiaró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ublikacje:   patrz wykaz na </a:t>
            </a:r>
            <a:r>
              <a:rPr b="0" lang="pl-PL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wtiich.ps.pl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 (WTiICh/Zakłady/zepiś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3995640" y="1557360"/>
            <a:ext cx="911160" cy="896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LITECHNIKA SZCZECIŃSKA, IIChiPOŚ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8A2F-8A2A-43AE-8BD2-4ABA0F4A2696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LITECHNIKA SZCZECIŃSKA, IIChiPOŚ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E35D-6880-411F-B2BF-80DA9DAFBF3B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LITECHNIKA SZCZECIŃSKA, IIChiPOŚ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687A-AF1C-470E-81C5-B9E51682463D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LITECHNIKA SZCZECIŃSKA, IIChiPOŚ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B492-F439-4F47-8390-BCAAEA839C21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LITECHNIKA SZCZECIŃSKA, IIChiPOŚ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19BE-8B3E-4C41-AFA3-16EFF2F3043D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042920" y="5229360"/>
            <a:ext cx="76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nobelprize.virtual.museum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medicine/laureates/2004/buck-slides.pdf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LITECHNIKA SZCZECIŃSKA, IIChiPOŚ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45F6-351E-4598-B17D-D28878FD3087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826920" y="2133720"/>
            <a:ext cx="83156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Prawa  psychofizycz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Modele  interakcji  węchowy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percepcyjne (psychologicz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psychofizycz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Kierunki  badań Pracowni  Zapachowej  Jakości  Powietr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332000" y="549360"/>
            <a:ext cx="6553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Intensywność zapachu a chemiczny skład ocenianej  próbki</a:t>
            </a:r>
            <a:endParaRPr b="0" lang="en-US" sz="10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LITECHNIKA SZCZECIŃSKA, IIChiPOŚ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6337-78E9-4EAA-ADC5-EFC461A16663}" type="slidenum">
              <a:t>26</a:t>
            </a:fld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506520" y="115920"/>
            <a:ext cx="8637480" cy="65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ff"/>
                </a:solidFill>
                <a:latin typeface="Arial"/>
              </a:rPr>
              <a:t>Prawa psychofizyczne</a:t>
            </a:r>
            <a:r>
              <a:rPr b="1" lang="pl-PL" sz="1400" spc="-1" strike="noStrike">
                <a:solidFill>
                  <a:srgbClr val="0000ff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dotyczą zależności intensywności zapachu (S) od stężenia odorantów (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1" lang="pl-PL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3333"/>
                </a:solidFill>
                <a:latin typeface="Arial"/>
              </a:rPr>
              <a:t>prawo Webera i Fechner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333333"/>
                </a:solidFill>
                <a:latin typeface="Arial"/>
              </a:rPr>
              <a:t>     </a:t>
            </a:r>
            <a:r>
              <a:rPr b="1" i="1" lang="pl-PL" sz="1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i="1" lang="pl-PL" sz="1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i="1" lang="pl-PL" sz="1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i="1" lang="pl-PL" sz="2400" spc="-1" strike="noStrike">
                <a:solidFill>
                  <a:srgbClr val="333333"/>
                </a:solidFill>
                <a:latin typeface="Arial"/>
              </a:rPr>
              <a:t>S  =  k</a:t>
            </a:r>
            <a:r>
              <a:rPr b="1" lang="pl-PL" sz="2400" spc="-1" strike="noStrike" baseline="-25000">
                <a:solidFill>
                  <a:srgbClr val="333333"/>
                </a:solidFill>
                <a:latin typeface="Arial"/>
              </a:rPr>
              <a:t>WF</a:t>
            </a:r>
            <a:r>
              <a:rPr b="1" i="1" lang="pl-PL" sz="24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1" lang="pl-PL" sz="2400" spc="-1" strike="noStrike">
                <a:solidFill>
                  <a:srgbClr val="333333"/>
                </a:solidFill>
                <a:latin typeface="Arial"/>
              </a:rPr>
              <a:t>log (</a:t>
            </a:r>
            <a:r>
              <a:rPr b="1" i="1" lang="pl-PL" sz="2400" spc="-1" strike="noStrike">
                <a:solidFill>
                  <a:srgbClr val="333333"/>
                </a:solidFill>
                <a:latin typeface="Arial"/>
              </a:rPr>
              <a:t>c/c</a:t>
            </a:r>
            <a:r>
              <a:rPr b="1" i="1" lang="pl-PL" sz="2400" spc="-1" strike="noStrike" baseline="-25000">
                <a:solidFill>
                  <a:srgbClr val="333333"/>
                </a:solidFill>
                <a:latin typeface="Arial"/>
              </a:rPr>
              <a:t>th</a:t>
            </a:r>
            <a:r>
              <a:rPr b="1" lang="pl-PL" sz="2400" spc="-1" strike="noStrike">
                <a:solidFill>
                  <a:srgbClr val="333333"/>
                </a:solidFill>
                <a:latin typeface="Arial"/>
              </a:rPr>
              <a:t>)</a:t>
            </a:r>
            <a:r>
              <a:rPr b="1" i="1" lang="pl-PL" sz="1400" spc="-1" strike="noStrike">
                <a:solidFill>
                  <a:srgbClr val="333333"/>
                </a:solidFill>
                <a:latin typeface="Arial"/>
              </a:rPr>
              <a:t>                        </a:t>
            </a:r>
            <a:r>
              <a:rPr b="1" i="1" lang="pl-PL" sz="1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i="1" lang="pl-PL" sz="14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1" i="1" lang="pl-PL" sz="1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i="1" lang="pl-PL" sz="1400" spc="-1" strike="noStrike">
                <a:solidFill>
                  <a:srgbClr val="333333"/>
                </a:solidFill>
                <a:latin typeface="Arial"/>
              </a:rPr>
              <a:t>         </a:t>
            </a:r>
            <a:r>
              <a:rPr b="1" i="1" lang="pl-PL" sz="1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i="1" lang="pl-PL" sz="14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3333"/>
                </a:solidFill>
                <a:latin typeface="Arial"/>
              </a:rPr>
              <a:t>prawo Stevensa:</a:t>
            </a:r>
            <a:r>
              <a:rPr b="1" lang="pl-PL" sz="18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333333"/>
                </a:solidFill>
                <a:latin typeface="Arial"/>
              </a:rPr>
              <a:t>     </a:t>
            </a:r>
            <a:r>
              <a:rPr b="1" i="1" lang="pl-PL" sz="1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i="1" lang="pl-PL" sz="14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i="1" lang="pl-PL" sz="1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i="1" lang="pl-PL" sz="2400" spc="-1" strike="noStrike">
                <a:solidFill>
                  <a:srgbClr val="333333"/>
                </a:solidFill>
                <a:latin typeface="Arial"/>
              </a:rPr>
              <a:t>S  =  k</a:t>
            </a:r>
            <a:r>
              <a:rPr b="1" lang="pl-PL" sz="2400" spc="-1" strike="noStrike" baseline="-25000">
                <a:solidFill>
                  <a:srgbClr val="333333"/>
                </a:solidFill>
                <a:latin typeface="Arial"/>
              </a:rPr>
              <a:t>S</a:t>
            </a:r>
            <a:r>
              <a:rPr b="1" i="1" lang="pl-PL" sz="24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1" lang="pl-PL" sz="2400" spc="-1" strike="noStrike">
                <a:solidFill>
                  <a:srgbClr val="333333"/>
                </a:solidFill>
                <a:latin typeface="Arial"/>
              </a:rPr>
              <a:t>(</a:t>
            </a:r>
            <a:r>
              <a:rPr b="1" i="1" lang="pl-PL" sz="2400" spc="-1" strike="noStrike">
                <a:solidFill>
                  <a:srgbClr val="333333"/>
                </a:solidFill>
                <a:latin typeface="Arial"/>
              </a:rPr>
              <a:t>c – c</a:t>
            </a:r>
            <a:r>
              <a:rPr b="1" i="1" lang="pl-PL" sz="2400" spc="-1" strike="noStrike" baseline="-25000">
                <a:solidFill>
                  <a:srgbClr val="333333"/>
                </a:solidFill>
                <a:latin typeface="Arial"/>
              </a:rPr>
              <a:t>th</a:t>
            </a:r>
            <a:r>
              <a:rPr b="1" lang="pl-PL" sz="2400" spc="-1" strike="noStrike">
                <a:solidFill>
                  <a:srgbClr val="333333"/>
                </a:solidFill>
                <a:latin typeface="Arial"/>
              </a:rPr>
              <a:t>)</a:t>
            </a:r>
            <a:r>
              <a:rPr b="1" i="1" lang="pl-PL" sz="2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pl-PL" sz="2400" spc="-1" strike="noStrike" baseline="30000">
                <a:solidFill>
                  <a:srgbClr val="333333"/>
                </a:solidFill>
                <a:latin typeface="Arial"/>
              </a:rPr>
              <a:t>n</a:t>
            </a:r>
            <a:r>
              <a:rPr b="1" i="1" lang="pl-PL" sz="2400" spc="-1" strike="noStrike">
                <a:solidFill>
                  <a:srgbClr val="333333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333333"/>
                </a:solidFill>
                <a:latin typeface="Arial"/>
              </a:rPr>
              <a:t>                          </a:t>
            </a:r>
            <a:r>
              <a:rPr b="1" lang="pl-PL" sz="1800" spc="-1" strike="noStrike">
                <a:solidFill>
                  <a:srgbClr val="333333"/>
                </a:solidFill>
                <a:latin typeface="Arial"/>
              </a:rPr>
              <a:t>lub </a:t>
            </a:r>
            <a:r>
              <a:rPr b="1" i="1" lang="pl-PL" sz="1800" spc="-1" strike="noStrike">
                <a:solidFill>
                  <a:srgbClr val="333333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i="1" lang="pl-PL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i="1" lang="pl-PL" sz="2400" spc="-1" strike="noStrike">
                <a:solidFill>
                  <a:srgbClr val="333333"/>
                </a:solidFill>
                <a:latin typeface="Arial"/>
              </a:rPr>
              <a:t>S  =  k</a:t>
            </a:r>
            <a:r>
              <a:rPr b="1" lang="pl-PL" sz="2400" spc="-1" strike="noStrike" baseline="-25000">
                <a:solidFill>
                  <a:srgbClr val="333333"/>
                </a:solidFill>
                <a:latin typeface="Arial"/>
              </a:rPr>
              <a:t>S</a:t>
            </a:r>
            <a:r>
              <a:rPr b="1" i="1" lang="pl-PL" sz="2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i="1" lang="pl-PL" sz="2400" spc="-1" strike="noStrike">
                <a:solidFill>
                  <a:srgbClr val="333333"/>
                </a:solidFill>
                <a:latin typeface="Symbol"/>
                <a:ea typeface="Symbol"/>
              </a:rPr>
              <a:t></a:t>
            </a:r>
            <a:r>
              <a:rPr b="1" i="1" lang="pl-PL" sz="2400" spc="-1" strike="noStrike">
                <a:solidFill>
                  <a:srgbClr val="333333"/>
                </a:solidFill>
                <a:latin typeface="Arial"/>
              </a:rPr>
              <a:t> c</a:t>
            </a:r>
            <a:r>
              <a:rPr b="1" lang="pl-PL" sz="2400" spc="-1" strike="noStrike" baseline="30000">
                <a:solidFill>
                  <a:srgbClr val="333333"/>
                </a:solidFill>
                <a:latin typeface="Arial"/>
              </a:rPr>
              <a:t>n</a:t>
            </a:r>
            <a:r>
              <a:rPr b="1" lang="pl-PL" sz="1400" spc="-1" strike="noStrike" baseline="30000">
                <a:solidFill>
                  <a:srgbClr val="333333"/>
                </a:solidFill>
                <a:latin typeface="Arial"/>
              </a:rPr>
              <a:t> </a:t>
            </a:r>
            <a:r>
              <a:rPr b="1" i="1" lang="pl-PL" sz="1400" spc="-1" strike="noStrike">
                <a:solidFill>
                  <a:srgbClr val="333333"/>
                </a:solidFill>
                <a:latin typeface="Arial"/>
              </a:rPr>
              <a:t>       </a:t>
            </a:r>
            <a:r>
              <a:rPr b="1" lang="pl-PL" sz="1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i="1" lang="pl-PL" sz="1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i="1" lang="pl-PL" sz="14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1" i="1" lang="pl-PL" sz="14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33333"/>
                </a:solidFill>
                <a:latin typeface="Arial"/>
              </a:rPr>
              <a:t>gdzi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333333"/>
                </a:solidFill>
                <a:latin typeface="Arial"/>
              </a:rPr>
              <a:t>k</a:t>
            </a:r>
            <a:r>
              <a:rPr b="1" lang="pl-PL" sz="1400" spc="-1" strike="noStrike" baseline="-25000">
                <a:solidFill>
                  <a:srgbClr val="333333"/>
                </a:solidFill>
                <a:latin typeface="Arial"/>
              </a:rPr>
              <a:t>WF</a:t>
            </a:r>
            <a:r>
              <a:rPr b="1" i="1" lang="pl-PL" sz="1400" spc="-1" strike="noStrike">
                <a:solidFill>
                  <a:srgbClr val="333333"/>
                </a:solidFill>
                <a:latin typeface="Arial"/>
              </a:rPr>
              <a:t>,  k</a:t>
            </a:r>
            <a:r>
              <a:rPr b="1" lang="pl-PL" sz="1400" spc="-1" strike="noStrike" baseline="-25000">
                <a:solidFill>
                  <a:srgbClr val="333333"/>
                </a:solidFill>
                <a:latin typeface="Arial"/>
              </a:rPr>
              <a:t>S</a:t>
            </a:r>
            <a:r>
              <a:rPr b="1" i="1" lang="pl-PL" sz="1400" spc="-1" strike="noStrike">
                <a:solidFill>
                  <a:srgbClr val="333333"/>
                </a:solidFill>
                <a:latin typeface="Arial"/>
              </a:rPr>
              <a:t>,  c</a:t>
            </a:r>
            <a:r>
              <a:rPr b="1" i="1" lang="pl-PL" sz="1400" spc="-1" strike="noStrike" baseline="-25000">
                <a:solidFill>
                  <a:srgbClr val="333333"/>
                </a:solidFill>
                <a:latin typeface="Arial"/>
              </a:rPr>
              <a:t>th</a:t>
            </a:r>
            <a:r>
              <a:rPr b="1" i="1" lang="pl-PL" sz="1400" spc="-1" strike="noStrike">
                <a:solidFill>
                  <a:srgbClr val="333333"/>
                </a:solidFill>
                <a:latin typeface="Arial"/>
              </a:rPr>
              <a:t>,  n</a:t>
            </a:r>
            <a:r>
              <a:rPr b="1" lang="pl-PL" sz="1400" spc="-1" strike="noStrike">
                <a:solidFill>
                  <a:srgbClr val="333333"/>
                </a:solidFill>
                <a:latin typeface="Arial"/>
              </a:rPr>
              <a:t>  -  stałe empiryczne  (</a:t>
            </a:r>
            <a:r>
              <a:rPr b="1" i="1" lang="pl-PL" sz="1400" spc="-1" strike="noStrike">
                <a:solidFill>
                  <a:srgbClr val="333333"/>
                </a:solidFill>
                <a:latin typeface="Arial"/>
              </a:rPr>
              <a:t>c</a:t>
            </a:r>
            <a:r>
              <a:rPr b="1" i="1" lang="pl-PL" sz="1400" spc="-1" strike="noStrike" baseline="-25000">
                <a:solidFill>
                  <a:srgbClr val="333333"/>
                </a:solidFill>
                <a:latin typeface="Arial"/>
              </a:rPr>
              <a:t>th</a:t>
            </a:r>
            <a:r>
              <a:rPr b="1" lang="pl-PL" sz="1400" spc="-1" strike="noStrike">
                <a:solidFill>
                  <a:srgbClr val="333333"/>
                </a:solidFill>
                <a:latin typeface="Arial"/>
              </a:rPr>
              <a:t> – próg węchowej wyczuwalności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LITECHNIKA SZCZECIŃSKA, IIChiPOŚ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FF77-A53C-409C-93B1-5CFD538B040F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14200" y="476280"/>
            <a:ext cx="8929800" cy="54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ff"/>
                </a:solidFill>
                <a:latin typeface="Arial"/>
              </a:rPr>
              <a:t>Modele percepcyjne (psychologiczne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3333"/>
                </a:solidFill>
                <a:latin typeface="Arial"/>
              </a:rPr>
              <a:t>wiążą intensywność zapachu mieszaniny odorantów</a:t>
            </a:r>
            <a:r>
              <a:rPr b="1" i="1" lang="pl-PL" sz="1800" spc="-1" strike="noStrike">
                <a:solidFill>
                  <a:srgbClr val="333333"/>
                </a:solidFill>
                <a:latin typeface="Arial"/>
              </a:rPr>
              <a:t> (S</a:t>
            </a:r>
            <a:r>
              <a:rPr b="1" lang="pl-PL" sz="1800" spc="-1" strike="noStrike" baseline="-25000">
                <a:solidFill>
                  <a:srgbClr val="333333"/>
                </a:solidFill>
                <a:latin typeface="Arial"/>
              </a:rPr>
              <a:t>AB</a:t>
            </a:r>
            <a:r>
              <a:rPr b="1" i="1" lang="pl-PL" sz="1800" spc="-1" strike="noStrike">
                <a:solidFill>
                  <a:srgbClr val="333333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3333"/>
                </a:solidFill>
                <a:latin typeface="Arial"/>
              </a:rPr>
              <a:t>i jej składników występujących pojedynczo</a:t>
            </a:r>
            <a:r>
              <a:rPr b="1" i="1" lang="pl-PL" sz="1800" spc="-1" strike="noStrike">
                <a:solidFill>
                  <a:srgbClr val="333333"/>
                </a:solidFill>
                <a:latin typeface="Arial"/>
              </a:rPr>
              <a:t> (S</a:t>
            </a:r>
            <a:r>
              <a:rPr b="1" lang="pl-PL" sz="1800" spc="-1" strike="noStrike" baseline="-25000">
                <a:solidFill>
                  <a:srgbClr val="333333"/>
                </a:solidFill>
                <a:latin typeface="Arial"/>
              </a:rPr>
              <a:t>A</a:t>
            </a:r>
            <a:r>
              <a:rPr b="1" i="1" lang="pl-PL" sz="1800" spc="-1" strike="noStrike">
                <a:solidFill>
                  <a:srgbClr val="333333"/>
                </a:solidFill>
                <a:latin typeface="Arial"/>
              </a:rPr>
              <a:t>, S</a:t>
            </a:r>
            <a:r>
              <a:rPr b="1" lang="pl-PL" sz="1800" spc="-1" strike="noStrike" baseline="-25000">
                <a:solidFill>
                  <a:srgbClr val="333333"/>
                </a:solidFill>
                <a:latin typeface="Arial"/>
              </a:rPr>
              <a:t>B</a:t>
            </a:r>
            <a:r>
              <a:rPr b="1" i="1" lang="pl-PL" sz="1800" spc="-1" strike="noStrike">
                <a:solidFill>
                  <a:srgbClr val="333333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 u="sng">
                <a:solidFill>
                  <a:srgbClr val="333333"/>
                </a:solidFill>
                <a:uFillTx/>
                <a:latin typeface="Arial"/>
              </a:rPr>
              <a:t>Przykład:</a:t>
            </a:r>
            <a:r>
              <a:rPr b="1" lang="pl-PL" sz="1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1" i="1" lang="pl-PL" sz="1800" spc="-1" strike="noStrike">
                <a:solidFill>
                  <a:srgbClr val="333333"/>
                </a:solidFill>
                <a:latin typeface="Arial"/>
              </a:rPr>
              <a:t>S</a:t>
            </a:r>
            <a:r>
              <a:rPr b="1" lang="pl-PL" sz="1800" spc="-1" strike="noStrike" baseline="-25000">
                <a:solidFill>
                  <a:srgbClr val="333333"/>
                </a:solidFill>
                <a:latin typeface="Arial"/>
              </a:rPr>
              <a:t>AB</a:t>
            </a:r>
            <a:r>
              <a:rPr b="1" i="1" lang="pl-PL" sz="1800" spc="-1" strike="noStrike">
                <a:solidFill>
                  <a:srgbClr val="333333"/>
                </a:solidFill>
                <a:latin typeface="Arial"/>
              </a:rPr>
              <a:t> = (S</a:t>
            </a:r>
            <a:r>
              <a:rPr b="1" lang="pl-PL" sz="1800" spc="-1" strike="noStrike" baseline="-25000">
                <a:solidFill>
                  <a:srgbClr val="333333"/>
                </a:solidFill>
                <a:latin typeface="Arial"/>
              </a:rPr>
              <a:t>A</a:t>
            </a:r>
            <a:r>
              <a:rPr b="1" lang="pl-PL" sz="1800" spc="-1" strike="noStrike" baseline="30000">
                <a:solidFill>
                  <a:srgbClr val="333333"/>
                </a:solidFill>
                <a:latin typeface="Arial"/>
              </a:rPr>
              <a:t>2</a:t>
            </a:r>
            <a:r>
              <a:rPr b="1" i="1" lang="pl-PL" sz="1800" spc="-1" strike="noStrike">
                <a:solidFill>
                  <a:srgbClr val="333333"/>
                </a:solidFill>
                <a:latin typeface="Arial"/>
              </a:rPr>
              <a:t> + S</a:t>
            </a:r>
            <a:r>
              <a:rPr b="1" lang="pl-PL" sz="1800" spc="-1" strike="noStrike" baseline="-25000">
                <a:solidFill>
                  <a:srgbClr val="333333"/>
                </a:solidFill>
                <a:latin typeface="Arial"/>
              </a:rPr>
              <a:t>B</a:t>
            </a:r>
            <a:r>
              <a:rPr b="1" lang="pl-PL" sz="1800" spc="-1" strike="noStrike" baseline="30000">
                <a:solidFill>
                  <a:srgbClr val="333333"/>
                </a:solidFill>
                <a:latin typeface="Arial"/>
              </a:rPr>
              <a:t>2</a:t>
            </a:r>
            <a:r>
              <a:rPr b="1" i="1" lang="pl-PL" sz="1800" spc="-1" strike="noStrike">
                <a:solidFill>
                  <a:srgbClr val="333333"/>
                </a:solidFill>
                <a:latin typeface="Arial"/>
              </a:rPr>
              <a:t> + </a:t>
            </a:r>
            <a:r>
              <a:rPr b="1" lang="pl-PL" sz="1800" spc="-1" strike="noStrike">
                <a:solidFill>
                  <a:srgbClr val="333333"/>
                </a:solidFill>
                <a:latin typeface="Arial"/>
              </a:rPr>
              <a:t>2</a:t>
            </a:r>
            <a:r>
              <a:rPr b="1" i="1" lang="pl-PL" sz="1800" spc="-1" strike="noStrike">
                <a:solidFill>
                  <a:srgbClr val="333333"/>
                </a:solidFill>
                <a:latin typeface="Arial"/>
              </a:rPr>
              <a:t> S</a:t>
            </a:r>
            <a:r>
              <a:rPr b="1" lang="pl-PL" sz="1800" spc="-1" strike="noStrike" baseline="-25000">
                <a:solidFill>
                  <a:srgbClr val="333333"/>
                </a:solidFill>
                <a:latin typeface="Arial"/>
              </a:rPr>
              <a:t>A</a:t>
            </a:r>
            <a:r>
              <a:rPr b="1" i="1" lang="pl-PL" sz="1800" spc="-1" strike="noStrike">
                <a:solidFill>
                  <a:srgbClr val="333333"/>
                </a:solidFill>
                <a:latin typeface="Arial"/>
              </a:rPr>
              <a:t> S</a:t>
            </a:r>
            <a:r>
              <a:rPr b="1" lang="pl-PL" sz="1800" spc="-1" strike="noStrike" baseline="-25000">
                <a:solidFill>
                  <a:srgbClr val="333333"/>
                </a:solidFill>
                <a:latin typeface="Arial"/>
              </a:rPr>
              <a:t>B</a:t>
            </a:r>
            <a:r>
              <a:rPr b="1" i="1" lang="pl-PL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333333"/>
                </a:solidFill>
                <a:latin typeface="Arial"/>
              </a:rPr>
              <a:t>cos </a:t>
            </a:r>
            <a:r>
              <a:rPr b="1" i="1" lang="pl-PL" sz="1800" spc="-1" strike="noStrike">
                <a:solidFill>
                  <a:srgbClr val="333333"/>
                </a:solidFill>
                <a:latin typeface="Symbol"/>
                <a:ea typeface="Symbol"/>
              </a:rPr>
              <a:t></a:t>
            </a:r>
            <a:r>
              <a:rPr b="1" lang="pl-PL" sz="1800" spc="-1" strike="noStrike" baseline="-25000">
                <a:solidFill>
                  <a:srgbClr val="333333"/>
                </a:solidFill>
                <a:latin typeface="Arial"/>
              </a:rPr>
              <a:t>w  </a:t>
            </a:r>
            <a:r>
              <a:rPr b="1" i="1" lang="pl-PL" sz="1800" spc="-1" strike="noStrike">
                <a:solidFill>
                  <a:srgbClr val="333333"/>
                </a:solidFill>
                <a:latin typeface="Arial"/>
              </a:rPr>
              <a:t>) </a:t>
            </a:r>
            <a:r>
              <a:rPr b="1" lang="pl-PL" sz="1800" spc="-1" strike="noStrike" baseline="30000">
                <a:solidFill>
                  <a:srgbClr val="333333"/>
                </a:solidFill>
                <a:latin typeface="Arial"/>
              </a:rPr>
              <a:t>0,5</a:t>
            </a:r>
            <a:r>
              <a:rPr b="0" lang="pl-PL" sz="1400" spc="-1" strike="noStrike" baseline="30000">
                <a:solidFill>
                  <a:srgbClr val="333333"/>
                </a:solidFill>
                <a:latin typeface="Arial"/>
              </a:rPr>
              <a:t> </a:t>
            </a:r>
            <a:r>
              <a:rPr b="1" lang="pl-PL" sz="1400" spc="-1" strike="noStrike">
                <a:solidFill>
                  <a:srgbClr val="333333"/>
                </a:solidFill>
                <a:latin typeface="Arial"/>
              </a:rPr>
              <a:t>    (suma wektorowa,  Zwaardemaker 190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1" i="1" lang="pl-PL" sz="1800" spc="-1" strike="noStrike">
                <a:solidFill>
                  <a:srgbClr val="333333"/>
                </a:solidFill>
                <a:latin typeface="Arial"/>
              </a:rPr>
              <a:t>S</a:t>
            </a:r>
            <a:r>
              <a:rPr b="1" lang="pl-PL" sz="1800" spc="-1" strike="noStrike" baseline="-25000">
                <a:solidFill>
                  <a:srgbClr val="333333"/>
                </a:solidFill>
                <a:latin typeface="Arial"/>
              </a:rPr>
              <a:t>AB</a:t>
            </a:r>
            <a:r>
              <a:rPr b="1" i="1" lang="pl-PL" sz="1800" spc="-1" strike="noStrike">
                <a:solidFill>
                  <a:srgbClr val="333333"/>
                </a:solidFill>
                <a:latin typeface="Arial"/>
              </a:rPr>
              <a:t> = S</a:t>
            </a:r>
            <a:r>
              <a:rPr b="1" lang="pl-PL" sz="1800" spc="-1" strike="noStrike" baseline="-25000">
                <a:solidFill>
                  <a:srgbClr val="333333"/>
                </a:solidFill>
                <a:latin typeface="Arial"/>
              </a:rPr>
              <a:t>A</a:t>
            </a:r>
            <a:r>
              <a:rPr b="1" i="1" lang="pl-PL" sz="1800" spc="-1" strike="noStrike">
                <a:solidFill>
                  <a:srgbClr val="333333"/>
                </a:solidFill>
                <a:latin typeface="Arial"/>
              </a:rPr>
              <a:t> + S</a:t>
            </a:r>
            <a:r>
              <a:rPr b="1" lang="pl-PL" sz="1800" spc="-1" strike="noStrike" baseline="-25000">
                <a:solidFill>
                  <a:srgbClr val="333333"/>
                </a:solidFill>
                <a:latin typeface="Arial"/>
              </a:rPr>
              <a:t>B</a:t>
            </a:r>
            <a:r>
              <a:rPr b="1" i="1" lang="pl-PL" sz="1800" spc="-1" strike="noStrike">
                <a:solidFill>
                  <a:srgbClr val="333333"/>
                </a:solidFill>
                <a:latin typeface="Arial"/>
              </a:rPr>
              <a:t> + </a:t>
            </a:r>
            <a:r>
              <a:rPr b="1" lang="pl-PL" sz="1800" spc="-1" strike="noStrike">
                <a:solidFill>
                  <a:srgbClr val="333333"/>
                </a:solidFill>
                <a:latin typeface="Arial"/>
              </a:rPr>
              <a:t>2 </a:t>
            </a:r>
            <a:r>
              <a:rPr b="1" i="1" lang="pl-PL" sz="1800" spc="-1" strike="noStrike">
                <a:solidFill>
                  <a:srgbClr val="333333"/>
                </a:solidFill>
                <a:latin typeface="Arial"/>
              </a:rPr>
              <a:t>(S</a:t>
            </a:r>
            <a:r>
              <a:rPr b="1" lang="pl-PL" sz="1800" spc="-1" strike="noStrike" baseline="-25000">
                <a:solidFill>
                  <a:srgbClr val="333333"/>
                </a:solidFill>
                <a:latin typeface="Arial"/>
              </a:rPr>
              <a:t>A</a:t>
            </a:r>
            <a:r>
              <a:rPr b="1" i="1" lang="pl-PL" sz="1800" spc="-1" strike="noStrike">
                <a:solidFill>
                  <a:srgbClr val="333333"/>
                </a:solidFill>
                <a:latin typeface="Symbol"/>
                <a:ea typeface="Symbol"/>
              </a:rPr>
              <a:t></a:t>
            </a:r>
            <a:r>
              <a:rPr b="1" i="1" lang="pl-PL" sz="1800" spc="-1" strike="noStrike">
                <a:solidFill>
                  <a:srgbClr val="333333"/>
                </a:solidFill>
                <a:latin typeface="Arial"/>
              </a:rPr>
              <a:t>S</a:t>
            </a:r>
            <a:r>
              <a:rPr b="1" lang="pl-PL" sz="1800" spc="-1" strike="noStrike" baseline="-25000">
                <a:solidFill>
                  <a:srgbClr val="333333"/>
                </a:solidFill>
                <a:latin typeface="Arial"/>
              </a:rPr>
              <a:t>B</a:t>
            </a:r>
            <a:r>
              <a:rPr b="1" i="1" lang="pl-PL" sz="1800" spc="-1" strike="noStrike">
                <a:solidFill>
                  <a:srgbClr val="333333"/>
                </a:solidFill>
                <a:latin typeface="Arial"/>
              </a:rPr>
              <a:t>) </a:t>
            </a:r>
            <a:r>
              <a:rPr b="1" lang="pl-PL" sz="1800" spc="-1" strike="noStrike" baseline="30000">
                <a:solidFill>
                  <a:srgbClr val="333333"/>
                </a:solidFill>
                <a:latin typeface="Arial"/>
              </a:rPr>
              <a:t>0,5  </a:t>
            </a:r>
            <a:r>
              <a:rPr b="1" lang="pl-PL" sz="1800" spc="-1" strike="noStrike">
                <a:solidFill>
                  <a:srgbClr val="333333"/>
                </a:solidFill>
                <a:latin typeface="Arial"/>
              </a:rPr>
              <a:t>cos</a:t>
            </a:r>
            <a:r>
              <a:rPr b="1" i="1" lang="pl-PL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i="1" lang="pl-PL" sz="1800" spc="-1" strike="noStrike">
                <a:solidFill>
                  <a:srgbClr val="333333"/>
                </a:solidFill>
                <a:latin typeface="Symbol"/>
                <a:ea typeface="Symbol"/>
              </a:rPr>
              <a:t></a:t>
            </a:r>
            <a:r>
              <a:rPr b="1" lang="pl-PL" sz="1800" spc="-1" strike="noStrike" baseline="-25000">
                <a:solidFill>
                  <a:srgbClr val="333333"/>
                </a:solidFill>
                <a:latin typeface="Arial"/>
              </a:rPr>
              <a:t>u </a:t>
            </a:r>
            <a:r>
              <a:rPr b="1" lang="pl-PL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pl-PL" sz="1400" spc="-1" strike="noStrike">
                <a:solidFill>
                  <a:srgbClr val="333333"/>
                </a:solidFill>
                <a:latin typeface="Arial"/>
              </a:rPr>
              <a:t>(model U;  Patte i Laffort 1979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33333"/>
                </a:solidFill>
                <a:latin typeface="Arial"/>
              </a:rPr>
              <a:t>gdzi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333333"/>
                </a:solidFill>
                <a:latin typeface="Symbol"/>
                <a:ea typeface="Symbol"/>
              </a:rPr>
              <a:t></a:t>
            </a:r>
            <a:r>
              <a:rPr b="1" lang="pl-PL" sz="1400" spc="-1" strike="noStrike" baseline="-25000">
                <a:solidFill>
                  <a:srgbClr val="333333"/>
                </a:solidFill>
                <a:latin typeface="Arial"/>
              </a:rPr>
              <a:t>w</a:t>
            </a:r>
            <a:r>
              <a:rPr b="1" i="1" lang="pl-PL" sz="1400" spc="-1" strike="noStrike">
                <a:solidFill>
                  <a:srgbClr val="333333"/>
                </a:solidFill>
                <a:latin typeface="Arial"/>
              </a:rPr>
              <a:t>,  </a:t>
            </a:r>
            <a:r>
              <a:rPr b="1" i="1" lang="pl-PL" sz="1800" spc="-1" strike="noStrike">
                <a:solidFill>
                  <a:srgbClr val="333333"/>
                </a:solidFill>
                <a:latin typeface="Symbol"/>
                <a:ea typeface="Symbol"/>
              </a:rPr>
              <a:t></a:t>
            </a:r>
            <a:r>
              <a:rPr b="1" lang="pl-PL" sz="1400" spc="-1" strike="noStrike" baseline="-25000">
                <a:solidFill>
                  <a:srgbClr val="333333"/>
                </a:solidFill>
                <a:latin typeface="Arial"/>
              </a:rPr>
              <a:t>u   </a:t>
            </a:r>
            <a:r>
              <a:rPr b="1" i="1" lang="pl-PL" sz="1400" spc="-1" strike="noStrike">
                <a:solidFill>
                  <a:srgbClr val="333333"/>
                </a:solidFill>
                <a:latin typeface="Arial"/>
              </a:rPr>
              <a:t>–  </a:t>
            </a:r>
            <a:r>
              <a:rPr b="1" lang="pl-PL" sz="1400" spc="-1" strike="noStrike">
                <a:solidFill>
                  <a:srgbClr val="333333"/>
                </a:solidFill>
                <a:latin typeface="Arial"/>
              </a:rPr>
              <a:t>stałe empiryczne, charakterystyczne dla danej pary A-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LITECHNIKA SZCZECIŃSKA, IIChiPOŚ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ACBD-B980-495B-AB16-16A9A15E0A0A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719280" y="260280"/>
            <a:ext cx="7956360" cy="59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ff"/>
                </a:solidFill>
                <a:latin typeface="Arial"/>
              </a:rPr>
              <a:t>Modele psychofizycz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3333"/>
                </a:solidFill>
                <a:latin typeface="Arial"/>
              </a:rPr>
              <a:t>opisują zależność intensywności zapachu mieszaniny (</a:t>
            </a:r>
            <a:r>
              <a:rPr b="1" i="1" lang="pl-PL" sz="1800" spc="-1" strike="noStrike">
                <a:solidFill>
                  <a:srgbClr val="333333"/>
                </a:solidFill>
                <a:latin typeface="Arial"/>
              </a:rPr>
              <a:t>S</a:t>
            </a:r>
            <a:r>
              <a:rPr b="1" lang="pl-PL" sz="1800" spc="-1" strike="noStrike" baseline="-25000">
                <a:solidFill>
                  <a:srgbClr val="333333"/>
                </a:solidFill>
                <a:latin typeface="Arial"/>
              </a:rPr>
              <a:t>AB</a:t>
            </a:r>
            <a:r>
              <a:rPr b="1" lang="pl-PL" sz="1800" spc="-1" strike="noStrike">
                <a:solidFill>
                  <a:srgbClr val="333333"/>
                </a:solidFill>
                <a:latin typeface="Arial"/>
              </a:rPr>
              <a:t>) </a:t>
            </a:r>
            <a:br>
              <a:rPr sz="1800"/>
            </a:br>
            <a:r>
              <a:rPr b="1" lang="pl-PL" sz="1800" spc="-1" strike="noStrike">
                <a:solidFill>
                  <a:srgbClr val="333333"/>
                </a:solidFill>
                <a:latin typeface="Arial"/>
              </a:rPr>
              <a:t>od stężeń odorantów (</a:t>
            </a:r>
            <a:r>
              <a:rPr b="1" i="1" lang="pl-PL" sz="1800" spc="-1" strike="noStrike">
                <a:solidFill>
                  <a:srgbClr val="333333"/>
                </a:solidFill>
                <a:latin typeface="Arial"/>
              </a:rPr>
              <a:t>c</a:t>
            </a:r>
            <a:r>
              <a:rPr b="1" lang="pl-PL" sz="1800" spc="-1" strike="noStrike" baseline="-25000">
                <a:solidFill>
                  <a:srgbClr val="333333"/>
                </a:solidFill>
                <a:latin typeface="Arial"/>
              </a:rPr>
              <a:t>A</a:t>
            </a:r>
            <a:r>
              <a:rPr b="1" lang="pl-PL" sz="1800" spc="-1" strike="noStrike">
                <a:solidFill>
                  <a:srgbClr val="333333"/>
                </a:solidFill>
                <a:latin typeface="Arial"/>
              </a:rPr>
              <a:t>, </a:t>
            </a:r>
            <a:r>
              <a:rPr b="1" i="1" lang="pl-PL" sz="1800" spc="-1" strike="noStrike">
                <a:solidFill>
                  <a:srgbClr val="333333"/>
                </a:solidFill>
                <a:latin typeface="Arial"/>
              </a:rPr>
              <a:t>c</a:t>
            </a:r>
            <a:r>
              <a:rPr b="1" lang="pl-PL" sz="1800" spc="-1" strike="noStrike" baseline="-25000">
                <a:solidFill>
                  <a:srgbClr val="333333"/>
                </a:solidFill>
                <a:latin typeface="Arial"/>
              </a:rPr>
              <a:t>B</a:t>
            </a:r>
            <a:r>
              <a:rPr b="1" lang="pl-PL" sz="1800" spc="-1" strike="noStrike">
                <a:solidFill>
                  <a:srgbClr val="333333"/>
                </a:solidFill>
                <a:latin typeface="Arial"/>
              </a:rPr>
              <a:t>).</a:t>
            </a:r>
            <a:r>
              <a:rPr b="1" lang="pl-PL" sz="1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 u="sng">
                <a:solidFill>
                  <a:srgbClr val="333333"/>
                </a:solidFill>
                <a:uFillTx/>
                <a:latin typeface="Arial"/>
              </a:rPr>
              <a:t>Przykład</a:t>
            </a:r>
            <a:r>
              <a:rPr b="1" lang="pl-PL" sz="1400" spc="-1" strike="noStrike">
                <a:solidFill>
                  <a:srgbClr val="333333"/>
                </a:solidFill>
                <a:latin typeface="Arial"/>
              </a:rPr>
              <a:t>                     (model UPL2; Laffort, Etcheto, Patte i Marfaing, 1989)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i="1" lang="pl-PL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i="1" lang="pl-PL" sz="2000" spc="-1" strike="noStrike">
                <a:solidFill>
                  <a:srgbClr val="333333"/>
                </a:solidFill>
                <a:latin typeface="Arial"/>
              </a:rPr>
              <a:t>S</a:t>
            </a:r>
            <a:r>
              <a:rPr b="1" lang="pl-PL" sz="2000" spc="-1" strike="noStrike" baseline="-25000">
                <a:solidFill>
                  <a:srgbClr val="333333"/>
                </a:solidFill>
                <a:latin typeface="Arial"/>
              </a:rPr>
              <a:t>AB</a:t>
            </a:r>
            <a:r>
              <a:rPr b="1" i="1" lang="pl-PL" sz="2000" spc="-1" strike="noStrike">
                <a:solidFill>
                  <a:srgbClr val="333333"/>
                </a:solidFill>
                <a:latin typeface="Arial"/>
              </a:rPr>
              <a:t>   =  </a:t>
            </a:r>
            <a:r>
              <a:rPr b="1" lang="pl-PL" sz="2000" spc="-1" strike="noStrike">
                <a:solidFill>
                  <a:srgbClr val="333333"/>
                </a:solidFill>
                <a:latin typeface="Arial"/>
              </a:rPr>
              <a:t>(</a:t>
            </a:r>
            <a:r>
              <a:rPr b="1" i="1" lang="pl-PL" sz="2000" spc="-1" strike="noStrike">
                <a:solidFill>
                  <a:srgbClr val="333333"/>
                </a:solidFill>
                <a:latin typeface="Arial"/>
              </a:rPr>
              <a:t> S</a:t>
            </a:r>
            <a:r>
              <a:rPr b="1" lang="pl-PL" sz="2000" spc="-1" strike="noStrike" baseline="-25000">
                <a:solidFill>
                  <a:srgbClr val="333333"/>
                </a:solidFill>
                <a:latin typeface="Arial"/>
              </a:rPr>
              <a:t>A</a:t>
            </a:r>
            <a:r>
              <a:rPr b="1" lang="pl-PL" sz="2000" spc="-1" strike="noStrike" baseline="30000">
                <a:solidFill>
                  <a:srgbClr val="333333"/>
                </a:solidFill>
                <a:latin typeface="Arial"/>
              </a:rPr>
              <a:t>2 </a:t>
            </a:r>
            <a:r>
              <a:rPr b="1" i="1" lang="pl-PL" sz="2000" spc="-1" strike="noStrike">
                <a:solidFill>
                  <a:srgbClr val="333333"/>
                </a:solidFill>
                <a:latin typeface="Arial"/>
              </a:rPr>
              <a:t>+ S</a:t>
            </a:r>
            <a:r>
              <a:rPr b="1" lang="pl-PL" sz="2000" spc="-1" strike="noStrike" baseline="-25000">
                <a:solidFill>
                  <a:srgbClr val="333333"/>
                </a:solidFill>
                <a:latin typeface="Arial"/>
              </a:rPr>
              <a:t>B</a:t>
            </a:r>
            <a:r>
              <a:rPr b="1" lang="pl-PL" sz="2000" spc="-1" strike="noStrike" baseline="30000">
                <a:solidFill>
                  <a:srgbClr val="333333"/>
                </a:solidFill>
                <a:latin typeface="Arial"/>
              </a:rPr>
              <a:t>2</a:t>
            </a:r>
            <a:r>
              <a:rPr b="1" i="1" lang="pl-PL" sz="2000" spc="-1" strike="noStrike">
                <a:solidFill>
                  <a:srgbClr val="333333"/>
                </a:solidFill>
                <a:latin typeface="Arial"/>
              </a:rPr>
              <a:t> + 2 S</a:t>
            </a:r>
            <a:r>
              <a:rPr b="1" lang="pl-PL" sz="2000" spc="-1" strike="noStrike" baseline="-25000">
                <a:solidFill>
                  <a:srgbClr val="333333"/>
                </a:solidFill>
                <a:latin typeface="Arial"/>
              </a:rPr>
              <a:t>A</a:t>
            </a:r>
            <a:r>
              <a:rPr b="1" i="1" lang="pl-PL" sz="2000" spc="-1" strike="noStrike">
                <a:solidFill>
                  <a:srgbClr val="333333"/>
                </a:solidFill>
                <a:latin typeface="Arial"/>
              </a:rPr>
              <a:t> S</a:t>
            </a:r>
            <a:r>
              <a:rPr b="1" lang="pl-PL" sz="2000" spc="-1" strike="noStrike" baseline="-25000">
                <a:solidFill>
                  <a:srgbClr val="333333"/>
                </a:solidFill>
                <a:latin typeface="Arial"/>
              </a:rPr>
              <a:t>B</a:t>
            </a:r>
            <a:r>
              <a:rPr b="1" i="1" lang="pl-PL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333333"/>
                </a:solidFill>
                <a:latin typeface="Arial"/>
              </a:rPr>
              <a:t>cos </a:t>
            </a:r>
            <a:r>
              <a:rPr b="1" i="1" lang="pl-PL" sz="2000" spc="-1" strike="noStrike">
                <a:solidFill>
                  <a:srgbClr val="333333"/>
                </a:solidFill>
                <a:latin typeface="Symbol"/>
                <a:ea typeface="Symbol"/>
              </a:rPr>
              <a:t></a:t>
            </a:r>
            <a:r>
              <a:rPr b="1" lang="pl-PL" sz="2000" spc="-1" strike="noStrike" baseline="-25000">
                <a:solidFill>
                  <a:srgbClr val="333333"/>
                </a:solidFill>
                <a:latin typeface="Arial"/>
              </a:rPr>
              <a:t>UPL2</a:t>
            </a:r>
            <a:r>
              <a:rPr b="1" i="1" lang="pl-PL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333333"/>
                </a:solidFill>
                <a:latin typeface="Arial"/>
              </a:rPr>
              <a:t>)</a:t>
            </a:r>
            <a:r>
              <a:rPr b="1" i="1" lang="pl-PL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pl-PL" sz="2000" spc="-1" strike="noStrike" baseline="30000">
                <a:solidFill>
                  <a:srgbClr val="333333"/>
                </a:solidFill>
                <a:latin typeface="Arial"/>
              </a:rPr>
              <a:t>0,5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 baseline="30000">
                <a:solidFill>
                  <a:srgbClr val="333333"/>
                </a:solidFill>
                <a:latin typeface="Arial"/>
              </a:rPr>
              <a:t>  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33333"/>
                </a:solidFill>
                <a:latin typeface="Arial"/>
              </a:rPr>
              <a:t>gdzi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33333"/>
                </a:solidFill>
                <a:latin typeface="Arial"/>
              </a:rPr>
              <a:t>cos</a:t>
            </a:r>
            <a:r>
              <a:rPr b="1" i="1" lang="pl-PL" sz="1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i="1" lang="pl-PL" sz="1800" spc="-1" strike="noStrike">
                <a:solidFill>
                  <a:srgbClr val="333333"/>
                </a:solidFill>
                <a:latin typeface="Symbol"/>
                <a:ea typeface="Symbol"/>
              </a:rPr>
              <a:t></a:t>
            </a:r>
            <a:r>
              <a:rPr b="1" lang="pl-PL" sz="1400" spc="-1" strike="noStrike" baseline="-25000">
                <a:solidFill>
                  <a:srgbClr val="333333"/>
                </a:solidFill>
                <a:latin typeface="Arial"/>
              </a:rPr>
              <a:t>UPL2</a:t>
            </a:r>
            <a:r>
              <a:rPr b="1" i="1" lang="pl-PL" sz="1400" spc="-1" strike="noStrike">
                <a:solidFill>
                  <a:srgbClr val="333333"/>
                </a:solidFill>
                <a:latin typeface="Arial"/>
              </a:rPr>
              <a:t>  = </a:t>
            </a:r>
            <a:r>
              <a:rPr b="1" lang="pl-PL" sz="1400" spc="-1" strike="noStrike">
                <a:solidFill>
                  <a:srgbClr val="333333"/>
                </a:solidFill>
                <a:latin typeface="Arial"/>
              </a:rPr>
              <a:t>(</a:t>
            </a:r>
            <a:r>
              <a:rPr b="1" i="1" lang="pl-PL" sz="1400" spc="-1" strike="noStrike">
                <a:solidFill>
                  <a:srgbClr val="333333"/>
                </a:solidFill>
                <a:latin typeface="Arial"/>
              </a:rPr>
              <a:t> S</a:t>
            </a:r>
            <a:r>
              <a:rPr b="1" lang="pl-PL" sz="1400" spc="-1" strike="noStrike" baseline="-25000">
                <a:solidFill>
                  <a:srgbClr val="333333"/>
                </a:solidFill>
                <a:latin typeface="Arial"/>
              </a:rPr>
              <a:t>A</a:t>
            </a:r>
            <a:r>
              <a:rPr b="1" i="1" lang="pl-PL" sz="1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pl-PL" sz="1400" spc="-1" strike="noStrike">
                <a:solidFill>
                  <a:srgbClr val="333333"/>
                </a:solidFill>
                <a:latin typeface="Arial"/>
              </a:rPr>
              <a:t>cos</a:t>
            </a:r>
            <a:r>
              <a:rPr b="1" i="1" lang="pl-PL" sz="1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i="1" lang="pl-PL" sz="1800" spc="-1" strike="noStrike">
                <a:solidFill>
                  <a:srgbClr val="333333"/>
                </a:solidFill>
                <a:latin typeface="Symbol"/>
                <a:ea typeface="Symbol"/>
              </a:rPr>
              <a:t></a:t>
            </a:r>
            <a:r>
              <a:rPr b="1" lang="pl-PL" sz="1400" spc="-1" strike="noStrike" baseline="-25000">
                <a:solidFill>
                  <a:srgbClr val="333333"/>
                </a:solidFill>
                <a:latin typeface="Arial"/>
              </a:rPr>
              <a:t>A</a:t>
            </a:r>
            <a:r>
              <a:rPr b="1" lang="pl-PL" sz="1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i="1" lang="pl-PL" sz="1400" spc="-1" strike="noStrike">
                <a:solidFill>
                  <a:srgbClr val="333333"/>
                </a:solidFill>
                <a:latin typeface="Arial"/>
              </a:rPr>
              <a:t>+ S</a:t>
            </a:r>
            <a:r>
              <a:rPr b="1" lang="pl-PL" sz="1400" spc="-1" strike="noStrike" baseline="-25000">
                <a:solidFill>
                  <a:srgbClr val="333333"/>
                </a:solidFill>
                <a:latin typeface="Arial"/>
              </a:rPr>
              <a:t>B</a:t>
            </a:r>
            <a:r>
              <a:rPr b="1" i="1" lang="pl-PL" sz="1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pl-PL" sz="1400" spc="-1" strike="noStrike">
                <a:solidFill>
                  <a:srgbClr val="333333"/>
                </a:solidFill>
                <a:latin typeface="Arial"/>
              </a:rPr>
              <a:t>cos</a:t>
            </a:r>
            <a:r>
              <a:rPr b="1" i="1" lang="pl-PL" sz="1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i="1" lang="pl-PL" sz="1800" spc="-1" strike="noStrike">
                <a:solidFill>
                  <a:srgbClr val="333333"/>
                </a:solidFill>
                <a:latin typeface="Symbol"/>
                <a:ea typeface="Symbol"/>
              </a:rPr>
              <a:t></a:t>
            </a:r>
            <a:r>
              <a:rPr b="1" i="1" lang="pl-PL" sz="1400" spc="-1" strike="noStrike" baseline="-25000">
                <a:solidFill>
                  <a:srgbClr val="333333"/>
                </a:solidFill>
                <a:latin typeface="Arial"/>
              </a:rPr>
              <a:t>B  </a:t>
            </a:r>
            <a:r>
              <a:rPr b="1" lang="pl-PL" sz="1400" spc="-1" strike="noStrike">
                <a:solidFill>
                  <a:srgbClr val="333333"/>
                </a:solidFill>
                <a:latin typeface="Arial"/>
              </a:rPr>
              <a:t>)</a:t>
            </a:r>
            <a:r>
              <a:rPr b="1" i="1" lang="pl-PL" sz="1400" spc="-1" strike="noStrike">
                <a:solidFill>
                  <a:srgbClr val="333333"/>
                </a:solidFill>
                <a:latin typeface="Arial"/>
              </a:rPr>
              <a:t> / </a:t>
            </a:r>
            <a:r>
              <a:rPr b="1" lang="pl-PL" sz="1400" spc="-1" strike="noStrike">
                <a:solidFill>
                  <a:srgbClr val="333333"/>
                </a:solidFill>
                <a:latin typeface="Arial"/>
              </a:rPr>
              <a:t>(</a:t>
            </a:r>
            <a:r>
              <a:rPr b="1" i="1" lang="pl-PL" sz="1400" spc="-1" strike="noStrike">
                <a:solidFill>
                  <a:srgbClr val="333333"/>
                </a:solidFill>
                <a:latin typeface="Arial"/>
              </a:rPr>
              <a:t> S</a:t>
            </a:r>
            <a:r>
              <a:rPr b="1" lang="pl-PL" sz="1400" spc="-1" strike="noStrike" baseline="-25000">
                <a:solidFill>
                  <a:srgbClr val="333333"/>
                </a:solidFill>
                <a:latin typeface="Arial"/>
              </a:rPr>
              <a:t>A</a:t>
            </a:r>
            <a:r>
              <a:rPr b="1" i="1" lang="pl-PL" sz="1400" spc="-1" strike="noStrike">
                <a:solidFill>
                  <a:srgbClr val="333333"/>
                </a:solidFill>
                <a:latin typeface="Arial"/>
              </a:rPr>
              <a:t> + S</a:t>
            </a:r>
            <a:r>
              <a:rPr b="1" lang="pl-PL" sz="1400" spc="-1" strike="noStrike" baseline="-25000">
                <a:solidFill>
                  <a:srgbClr val="333333"/>
                </a:solidFill>
                <a:latin typeface="Arial"/>
              </a:rPr>
              <a:t>B </a:t>
            </a:r>
            <a:r>
              <a:rPr b="1" lang="pl-PL" sz="1400" spc="-1" strike="noStrike">
                <a:solidFill>
                  <a:srgbClr val="333333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333333"/>
                </a:solidFill>
                <a:latin typeface="Arial"/>
              </a:rPr>
              <a:t>S</a:t>
            </a:r>
            <a:r>
              <a:rPr b="1" lang="pl-PL" sz="1400" spc="-1" strike="noStrike" baseline="-25000">
                <a:solidFill>
                  <a:srgbClr val="333333"/>
                </a:solidFill>
                <a:latin typeface="Arial"/>
              </a:rPr>
              <a:t>A</a:t>
            </a:r>
            <a:r>
              <a:rPr b="1" i="1" lang="pl-PL" sz="1400" spc="-1" strike="noStrike">
                <a:solidFill>
                  <a:srgbClr val="333333"/>
                </a:solidFill>
                <a:latin typeface="Arial"/>
              </a:rPr>
              <a:t> = k</a:t>
            </a:r>
            <a:r>
              <a:rPr b="1" lang="pl-PL" sz="1400" spc="-1" strike="noStrike" baseline="-25000">
                <a:solidFill>
                  <a:srgbClr val="333333"/>
                </a:solidFill>
                <a:latin typeface="Arial"/>
              </a:rPr>
              <a:t>S</a:t>
            </a:r>
            <a:r>
              <a:rPr b="1" i="1" lang="pl-PL" sz="1400" spc="-1" strike="noStrike" baseline="-25000">
                <a:solidFill>
                  <a:srgbClr val="333333"/>
                </a:solidFill>
                <a:latin typeface="Arial"/>
              </a:rPr>
              <a:t>,</a:t>
            </a:r>
            <a:r>
              <a:rPr b="1" lang="pl-PL" sz="1400" spc="-1" strike="noStrike" baseline="-25000">
                <a:solidFill>
                  <a:srgbClr val="333333"/>
                </a:solidFill>
                <a:latin typeface="Arial"/>
              </a:rPr>
              <a:t>A</a:t>
            </a:r>
            <a:r>
              <a:rPr b="1" i="1" lang="pl-PL" sz="1400" spc="-1" strike="noStrike">
                <a:solidFill>
                  <a:srgbClr val="333333"/>
                </a:solidFill>
                <a:latin typeface="Arial"/>
              </a:rPr>
              <a:t>  c</a:t>
            </a:r>
            <a:r>
              <a:rPr b="1" lang="pl-PL" sz="1400" spc="-1" strike="noStrike" baseline="-25000">
                <a:solidFill>
                  <a:srgbClr val="333333"/>
                </a:solidFill>
                <a:latin typeface="Arial"/>
              </a:rPr>
              <a:t>A</a:t>
            </a:r>
            <a:r>
              <a:rPr b="1" lang="pl-PL" sz="1400" spc="-1" strike="noStrike" baseline="30000">
                <a:solidFill>
                  <a:srgbClr val="333333"/>
                </a:solidFill>
                <a:latin typeface="Arial"/>
              </a:rPr>
              <a:t>n</a:t>
            </a:r>
            <a:r>
              <a:rPr b="1" lang="pl-PL" sz="1000" spc="-1" strike="noStrike" baseline="30000">
                <a:solidFill>
                  <a:srgbClr val="333333"/>
                </a:solidFill>
                <a:latin typeface="Arial"/>
              </a:rPr>
              <a:t>A</a:t>
            </a:r>
            <a:r>
              <a:rPr b="1" i="1" lang="pl-PL" sz="1400" spc="-1" strike="noStrike">
                <a:solidFill>
                  <a:srgbClr val="333333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333333"/>
                </a:solidFill>
                <a:latin typeface="Arial"/>
              </a:rPr>
              <a:t>S</a:t>
            </a:r>
            <a:r>
              <a:rPr b="1" lang="pl-PL" sz="1400" spc="-1" strike="noStrike" baseline="-25000">
                <a:solidFill>
                  <a:srgbClr val="333333"/>
                </a:solidFill>
                <a:latin typeface="Arial"/>
              </a:rPr>
              <a:t>B</a:t>
            </a:r>
            <a:r>
              <a:rPr b="1" i="1" lang="pl-PL" sz="1400" spc="-1" strike="noStrike">
                <a:solidFill>
                  <a:srgbClr val="333333"/>
                </a:solidFill>
                <a:latin typeface="Arial"/>
              </a:rPr>
              <a:t> = k</a:t>
            </a:r>
            <a:r>
              <a:rPr b="1" lang="pl-PL" sz="1400" spc="-1" strike="noStrike" baseline="-25000">
                <a:solidFill>
                  <a:srgbClr val="333333"/>
                </a:solidFill>
                <a:latin typeface="Arial"/>
              </a:rPr>
              <a:t>S,B</a:t>
            </a:r>
            <a:r>
              <a:rPr b="1" i="1" lang="pl-PL" sz="1400" spc="-1" strike="noStrike">
                <a:solidFill>
                  <a:srgbClr val="333333"/>
                </a:solidFill>
                <a:latin typeface="Arial"/>
              </a:rPr>
              <a:t>  c</a:t>
            </a:r>
            <a:r>
              <a:rPr b="1" lang="pl-PL" sz="1400" spc="-1" strike="noStrike" baseline="-25000">
                <a:solidFill>
                  <a:srgbClr val="333333"/>
                </a:solidFill>
                <a:latin typeface="Arial"/>
              </a:rPr>
              <a:t>B</a:t>
            </a:r>
            <a:r>
              <a:rPr b="1" lang="pl-PL" sz="1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pl-PL" sz="1400" spc="-1" strike="noStrike" baseline="30000">
                <a:solidFill>
                  <a:srgbClr val="333333"/>
                </a:solidFill>
                <a:latin typeface="Arial"/>
              </a:rPr>
              <a:t>n</a:t>
            </a:r>
            <a:r>
              <a:rPr b="1" lang="pl-PL" sz="1000" spc="-1" strike="noStrike" baseline="30000">
                <a:solidFill>
                  <a:srgbClr val="333333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33333"/>
                </a:solidFill>
                <a:latin typeface="Arial"/>
              </a:rPr>
              <a:t>cos </a:t>
            </a:r>
            <a:r>
              <a:rPr b="1" i="1" lang="pl-PL" sz="1800" spc="-1" strike="noStrike">
                <a:solidFill>
                  <a:srgbClr val="333333"/>
                </a:solidFill>
                <a:latin typeface="Symbol"/>
                <a:ea typeface="Symbol"/>
              </a:rPr>
              <a:t></a:t>
            </a:r>
            <a:r>
              <a:rPr b="1" lang="pl-PL" sz="1400" spc="-1" strike="noStrike" baseline="-25000">
                <a:solidFill>
                  <a:srgbClr val="333333"/>
                </a:solidFill>
                <a:latin typeface="Arial"/>
              </a:rPr>
              <a:t>A</a:t>
            </a:r>
            <a:r>
              <a:rPr b="1" i="1" lang="pl-PL" sz="1400" spc="-1" strike="noStrike">
                <a:solidFill>
                  <a:srgbClr val="333333"/>
                </a:solidFill>
                <a:latin typeface="Arial"/>
              </a:rPr>
              <a:t>  = [  </a:t>
            </a:r>
            <a:r>
              <a:rPr b="1" lang="pl-PL" sz="1400" spc="-1" strike="noStrike">
                <a:solidFill>
                  <a:srgbClr val="333333"/>
                </a:solidFill>
                <a:latin typeface="Arial"/>
              </a:rPr>
              <a:t>1</a:t>
            </a:r>
            <a:r>
              <a:rPr b="1" i="1" lang="pl-PL" sz="1400" spc="-1" strike="noStrike">
                <a:solidFill>
                  <a:srgbClr val="333333"/>
                </a:solidFill>
                <a:latin typeface="Arial"/>
              </a:rPr>
              <a:t> – P </a:t>
            </a:r>
            <a:r>
              <a:rPr b="1" lang="pl-PL" sz="1400" spc="-1" strike="noStrike" baseline="30000">
                <a:solidFill>
                  <a:srgbClr val="333333"/>
                </a:solidFill>
                <a:latin typeface="Arial"/>
              </a:rPr>
              <a:t>n</a:t>
            </a:r>
            <a:r>
              <a:rPr b="1" lang="pl-PL" sz="1000" spc="-1" strike="noStrike" baseline="30000">
                <a:solidFill>
                  <a:srgbClr val="333333"/>
                </a:solidFill>
                <a:latin typeface="Arial"/>
              </a:rPr>
              <a:t>A</a:t>
            </a:r>
            <a:r>
              <a:rPr b="1" i="1" lang="pl-PL" sz="1400" spc="-1" strike="noStrike">
                <a:solidFill>
                  <a:srgbClr val="333333"/>
                </a:solidFill>
                <a:latin typeface="Arial"/>
              </a:rPr>
              <a:t>  - (</a:t>
            </a:r>
            <a:r>
              <a:rPr b="1" lang="pl-PL" sz="1400" spc="-1" strike="noStrike">
                <a:solidFill>
                  <a:srgbClr val="333333"/>
                </a:solidFill>
                <a:latin typeface="Arial"/>
              </a:rPr>
              <a:t>1</a:t>
            </a:r>
            <a:r>
              <a:rPr b="1" i="1" lang="pl-PL" sz="1400" spc="-1" strike="noStrike">
                <a:solidFill>
                  <a:srgbClr val="333333"/>
                </a:solidFill>
                <a:latin typeface="Arial"/>
              </a:rPr>
              <a:t>–P) </a:t>
            </a:r>
            <a:r>
              <a:rPr b="1" lang="pl-PL" sz="1400" spc="-1" strike="noStrike" baseline="30000">
                <a:solidFill>
                  <a:srgbClr val="333333"/>
                </a:solidFill>
                <a:latin typeface="Arial"/>
              </a:rPr>
              <a:t>n</a:t>
            </a:r>
            <a:r>
              <a:rPr b="1" lang="pl-PL" sz="1000" spc="-1" strike="noStrike" baseline="30000">
                <a:solidFill>
                  <a:srgbClr val="333333"/>
                </a:solidFill>
                <a:latin typeface="Arial"/>
              </a:rPr>
              <a:t>A</a:t>
            </a:r>
            <a:r>
              <a:rPr b="1" i="1" lang="pl-PL" sz="1400" spc="-1" strike="noStrike">
                <a:solidFill>
                  <a:srgbClr val="333333"/>
                </a:solidFill>
                <a:latin typeface="Arial"/>
              </a:rPr>
              <a:t> ]  / [ </a:t>
            </a:r>
            <a:r>
              <a:rPr b="1" lang="pl-PL" sz="1400" spc="-1" strike="noStrike">
                <a:solidFill>
                  <a:srgbClr val="333333"/>
                </a:solidFill>
                <a:latin typeface="Arial"/>
              </a:rPr>
              <a:t>2 </a:t>
            </a:r>
            <a:r>
              <a:rPr b="1" i="1" lang="pl-PL" sz="1400" spc="-1" strike="noStrike">
                <a:solidFill>
                  <a:srgbClr val="333333"/>
                </a:solidFill>
                <a:latin typeface="Arial"/>
              </a:rPr>
              <a:t>P </a:t>
            </a:r>
            <a:r>
              <a:rPr b="1" lang="pl-PL" sz="1400" spc="-1" strike="noStrike" baseline="30000">
                <a:solidFill>
                  <a:srgbClr val="333333"/>
                </a:solidFill>
                <a:latin typeface="Arial"/>
              </a:rPr>
              <a:t>n</a:t>
            </a:r>
            <a:r>
              <a:rPr b="1" lang="pl-PL" sz="1000" spc="-1" strike="noStrike" baseline="30000">
                <a:solidFill>
                  <a:srgbClr val="333333"/>
                </a:solidFill>
                <a:latin typeface="Arial"/>
              </a:rPr>
              <a:t>A </a:t>
            </a:r>
            <a:r>
              <a:rPr b="1" lang="pl-PL" sz="1400" spc="-1" strike="noStrike" baseline="30000">
                <a:solidFill>
                  <a:srgbClr val="333333"/>
                </a:solidFill>
                <a:latin typeface="Arial"/>
              </a:rPr>
              <a:t>/ 2</a:t>
            </a:r>
            <a:r>
              <a:rPr b="1" lang="pl-PL" sz="1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i="1" lang="pl-PL" sz="1400" spc="-1" strike="noStrike">
                <a:solidFill>
                  <a:srgbClr val="333333"/>
                </a:solidFill>
                <a:latin typeface="Arial"/>
              </a:rPr>
              <a:t>(</a:t>
            </a:r>
            <a:r>
              <a:rPr b="1" lang="pl-PL" sz="1400" spc="-1" strike="noStrike">
                <a:solidFill>
                  <a:srgbClr val="333333"/>
                </a:solidFill>
                <a:latin typeface="Arial"/>
              </a:rPr>
              <a:t>1</a:t>
            </a:r>
            <a:r>
              <a:rPr b="1" i="1" lang="pl-PL" sz="1400" spc="-1" strike="noStrike">
                <a:solidFill>
                  <a:srgbClr val="333333"/>
                </a:solidFill>
                <a:latin typeface="Arial"/>
              </a:rPr>
              <a:t>–P)</a:t>
            </a:r>
            <a:r>
              <a:rPr b="1" i="1" lang="pl-PL" sz="1400" spc="-1" strike="noStrike" baseline="30000">
                <a:solidFill>
                  <a:srgbClr val="333333"/>
                </a:solidFill>
                <a:latin typeface="Arial"/>
              </a:rPr>
              <a:t> </a:t>
            </a:r>
            <a:r>
              <a:rPr b="1" lang="pl-PL" sz="1400" spc="-1" strike="noStrike" baseline="30000">
                <a:solidFill>
                  <a:srgbClr val="333333"/>
                </a:solidFill>
                <a:latin typeface="Arial"/>
              </a:rPr>
              <a:t>n</a:t>
            </a:r>
            <a:r>
              <a:rPr b="1" lang="pl-PL" sz="1000" spc="-1" strike="noStrike" baseline="30000">
                <a:solidFill>
                  <a:srgbClr val="333333"/>
                </a:solidFill>
                <a:latin typeface="Arial"/>
              </a:rPr>
              <a:t>A </a:t>
            </a:r>
            <a:r>
              <a:rPr b="1" lang="pl-PL" sz="1400" spc="-1" strike="noStrike" baseline="30000">
                <a:solidFill>
                  <a:srgbClr val="333333"/>
                </a:solidFill>
                <a:latin typeface="Arial"/>
              </a:rPr>
              <a:t>/ 2</a:t>
            </a:r>
            <a:r>
              <a:rPr b="1" i="1" lang="pl-PL" sz="1400" spc="-1" strike="noStrike">
                <a:solidFill>
                  <a:srgbClr val="333333"/>
                </a:solidFill>
                <a:latin typeface="Arial"/>
              </a:rPr>
              <a:t> ]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33333"/>
                </a:solidFill>
                <a:latin typeface="Arial"/>
              </a:rPr>
              <a:t>cos </a:t>
            </a:r>
            <a:r>
              <a:rPr b="1" i="1" lang="pl-PL" sz="1800" spc="-1" strike="noStrike">
                <a:solidFill>
                  <a:srgbClr val="333333"/>
                </a:solidFill>
                <a:latin typeface="Symbol"/>
                <a:ea typeface="Symbol"/>
              </a:rPr>
              <a:t></a:t>
            </a:r>
            <a:r>
              <a:rPr b="1" lang="pl-PL" sz="1400" spc="-1" strike="noStrike" baseline="-25000">
                <a:solidFill>
                  <a:srgbClr val="333333"/>
                </a:solidFill>
                <a:latin typeface="Arial"/>
              </a:rPr>
              <a:t>B</a:t>
            </a:r>
            <a:r>
              <a:rPr b="1" i="1" lang="pl-PL" sz="1400" spc="-1" strike="noStrike">
                <a:solidFill>
                  <a:srgbClr val="333333"/>
                </a:solidFill>
                <a:latin typeface="Arial"/>
              </a:rPr>
              <a:t>  = [  </a:t>
            </a:r>
            <a:r>
              <a:rPr b="1" lang="pl-PL" sz="1400" spc="-1" strike="noStrike">
                <a:solidFill>
                  <a:srgbClr val="333333"/>
                </a:solidFill>
                <a:latin typeface="Arial"/>
              </a:rPr>
              <a:t>1</a:t>
            </a:r>
            <a:r>
              <a:rPr b="1" i="1" lang="pl-PL" sz="1400" spc="-1" strike="noStrike">
                <a:solidFill>
                  <a:srgbClr val="333333"/>
                </a:solidFill>
                <a:latin typeface="Arial"/>
              </a:rPr>
              <a:t> – P </a:t>
            </a:r>
            <a:r>
              <a:rPr b="1" lang="pl-PL" sz="1400" spc="-1" strike="noStrike" baseline="30000">
                <a:solidFill>
                  <a:srgbClr val="333333"/>
                </a:solidFill>
                <a:latin typeface="Arial"/>
              </a:rPr>
              <a:t>n</a:t>
            </a:r>
            <a:r>
              <a:rPr b="1" lang="pl-PL" sz="1000" spc="-1" strike="noStrike" baseline="30000">
                <a:solidFill>
                  <a:srgbClr val="333333"/>
                </a:solidFill>
                <a:latin typeface="Arial"/>
              </a:rPr>
              <a:t>B</a:t>
            </a:r>
            <a:r>
              <a:rPr b="1" i="1" lang="pl-PL" sz="1400" spc="-1" strike="noStrike">
                <a:solidFill>
                  <a:srgbClr val="333333"/>
                </a:solidFill>
                <a:latin typeface="Arial"/>
              </a:rPr>
              <a:t>  - (</a:t>
            </a:r>
            <a:r>
              <a:rPr b="1" lang="pl-PL" sz="1400" spc="-1" strike="noStrike">
                <a:solidFill>
                  <a:srgbClr val="333333"/>
                </a:solidFill>
                <a:latin typeface="Arial"/>
              </a:rPr>
              <a:t>1</a:t>
            </a:r>
            <a:r>
              <a:rPr b="1" i="1" lang="pl-PL" sz="1400" spc="-1" strike="noStrike">
                <a:solidFill>
                  <a:srgbClr val="333333"/>
                </a:solidFill>
                <a:latin typeface="Arial"/>
              </a:rPr>
              <a:t>–P) </a:t>
            </a:r>
            <a:r>
              <a:rPr b="1" lang="pl-PL" sz="1400" spc="-1" strike="noStrike" baseline="30000">
                <a:solidFill>
                  <a:srgbClr val="333333"/>
                </a:solidFill>
                <a:latin typeface="Arial"/>
              </a:rPr>
              <a:t>n</a:t>
            </a:r>
            <a:r>
              <a:rPr b="1" lang="pl-PL" sz="1000" spc="-1" strike="noStrike" baseline="30000">
                <a:solidFill>
                  <a:srgbClr val="333333"/>
                </a:solidFill>
                <a:latin typeface="Arial"/>
              </a:rPr>
              <a:t>B</a:t>
            </a:r>
            <a:r>
              <a:rPr b="1" i="1" lang="pl-PL" sz="1400" spc="-1" strike="noStrike">
                <a:solidFill>
                  <a:srgbClr val="333333"/>
                </a:solidFill>
                <a:latin typeface="Arial"/>
              </a:rPr>
              <a:t> ]  / [ </a:t>
            </a:r>
            <a:r>
              <a:rPr b="1" lang="pl-PL" sz="1400" spc="-1" strike="noStrike">
                <a:solidFill>
                  <a:srgbClr val="333333"/>
                </a:solidFill>
                <a:latin typeface="Arial"/>
              </a:rPr>
              <a:t>2</a:t>
            </a:r>
            <a:r>
              <a:rPr b="1" i="1" lang="pl-PL" sz="1400" spc="-1" strike="noStrike">
                <a:solidFill>
                  <a:srgbClr val="333333"/>
                </a:solidFill>
                <a:latin typeface="Arial"/>
              </a:rPr>
              <a:t> P </a:t>
            </a:r>
            <a:r>
              <a:rPr b="1" lang="pl-PL" sz="1400" spc="-1" strike="noStrike" baseline="30000">
                <a:solidFill>
                  <a:srgbClr val="333333"/>
                </a:solidFill>
                <a:latin typeface="Arial"/>
              </a:rPr>
              <a:t>n</a:t>
            </a:r>
            <a:r>
              <a:rPr b="1" lang="pl-PL" sz="1000" spc="-1" strike="noStrike" baseline="30000">
                <a:solidFill>
                  <a:srgbClr val="333333"/>
                </a:solidFill>
                <a:latin typeface="Arial"/>
              </a:rPr>
              <a:t>B </a:t>
            </a:r>
            <a:r>
              <a:rPr b="1" lang="pl-PL" sz="1400" spc="-1" strike="noStrike" baseline="30000">
                <a:solidFill>
                  <a:srgbClr val="333333"/>
                </a:solidFill>
                <a:latin typeface="Arial"/>
              </a:rPr>
              <a:t>/ 2</a:t>
            </a:r>
            <a:r>
              <a:rPr b="1" i="1" lang="pl-PL" sz="1400" spc="-1" strike="noStrike">
                <a:solidFill>
                  <a:srgbClr val="333333"/>
                </a:solidFill>
                <a:latin typeface="Arial"/>
              </a:rPr>
              <a:t> (</a:t>
            </a:r>
            <a:r>
              <a:rPr b="1" lang="pl-PL" sz="1400" spc="-1" strike="noStrike">
                <a:solidFill>
                  <a:srgbClr val="333333"/>
                </a:solidFill>
                <a:latin typeface="Arial"/>
              </a:rPr>
              <a:t>1</a:t>
            </a:r>
            <a:r>
              <a:rPr b="1" i="1" lang="pl-PL" sz="1400" spc="-1" strike="noStrike">
                <a:solidFill>
                  <a:srgbClr val="333333"/>
                </a:solidFill>
                <a:latin typeface="Arial"/>
              </a:rPr>
              <a:t>–P) </a:t>
            </a:r>
            <a:r>
              <a:rPr b="1" lang="pl-PL" sz="1400" spc="-1" strike="noStrike" baseline="30000">
                <a:solidFill>
                  <a:srgbClr val="333333"/>
                </a:solidFill>
                <a:latin typeface="Arial"/>
              </a:rPr>
              <a:t>n</a:t>
            </a:r>
            <a:r>
              <a:rPr b="1" lang="pl-PL" sz="1000" spc="-1" strike="noStrike" baseline="30000">
                <a:solidFill>
                  <a:srgbClr val="333333"/>
                </a:solidFill>
                <a:latin typeface="Arial"/>
              </a:rPr>
              <a:t>B </a:t>
            </a:r>
            <a:r>
              <a:rPr b="1" lang="pl-PL" sz="1400" spc="-1" strike="noStrike" baseline="30000">
                <a:solidFill>
                  <a:srgbClr val="333333"/>
                </a:solidFill>
                <a:latin typeface="Arial"/>
              </a:rPr>
              <a:t>/ 2</a:t>
            </a:r>
            <a:r>
              <a:rPr b="1" i="1" lang="pl-PL" sz="1400" spc="-1" strike="noStrike">
                <a:solidFill>
                  <a:srgbClr val="333333"/>
                </a:solidFill>
                <a:latin typeface="Arial"/>
              </a:rPr>
              <a:t> 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333333"/>
                </a:solidFill>
                <a:latin typeface="Arial"/>
              </a:rPr>
              <a:t>P  =  S</a:t>
            </a:r>
            <a:r>
              <a:rPr b="1" lang="pl-PL" sz="1400" spc="-1" strike="noStrike" baseline="-25000">
                <a:solidFill>
                  <a:srgbClr val="333333"/>
                </a:solidFill>
                <a:latin typeface="Arial"/>
              </a:rPr>
              <a:t>B</a:t>
            </a:r>
            <a:r>
              <a:rPr b="1" lang="pl-PL" sz="1400" spc="-1" strike="noStrike" baseline="30000">
                <a:solidFill>
                  <a:srgbClr val="333333"/>
                </a:solidFill>
                <a:latin typeface="Arial"/>
              </a:rPr>
              <a:t>1 / n</a:t>
            </a:r>
            <a:r>
              <a:rPr b="1" lang="pl-PL" sz="1000" spc="-1" strike="noStrike" baseline="30000">
                <a:solidFill>
                  <a:srgbClr val="333333"/>
                </a:solidFill>
                <a:latin typeface="Arial"/>
              </a:rPr>
              <a:t>B</a:t>
            </a:r>
            <a:r>
              <a:rPr b="1" i="1" lang="pl-PL" sz="1400" spc="-1" strike="noStrike">
                <a:solidFill>
                  <a:srgbClr val="333333"/>
                </a:solidFill>
                <a:latin typeface="Arial"/>
              </a:rPr>
              <a:t> / [ S</a:t>
            </a:r>
            <a:r>
              <a:rPr b="1" lang="pl-PL" sz="1400" spc="-1" strike="noStrike" baseline="-25000">
                <a:solidFill>
                  <a:srgbClr val="333333"/>
                </a:solidFill>
                <a:latin typeface="Arial"/>
              </a:rPr>
              <a:t>A</a:t>
            </a:r>
            <a:r>
              <a:rPr b="1" lang="pl-PL" sz="1400" spc="-1" strike="noStrike" baseline="30000">
                <a:solidFill>
                  <a:srgbClr val="333333"/>
                </a:solidFill>
                <a:latin typeface="Arial"/>
              </a:rPr>
              <a:t>1 / n</a:t>
            </a:r>
            <a:r>
              <a:rPr b="1" lang="pl-PL" sz="1000" spc="-1" strike="noStrike" baseline="30000">
                <a:solidFill>
                  <a:srgbClr val="333333"/>
                </a:solidFill>
                <a:latin typeface="Arial"/>
              </a:rPr>
              <a:t>A</a:t>
            </a:r>
            <a:r>
              <a:rPr b="1" i="1" lang="pl-PL" sz="1400" spc="-1" strike="noStrike">
                <a:solidFill>
                  <a:srgbClr val="333333"/>
                </a:solidFill>
                <a:latin typeface="Arial"/>
              </a:rPr>
              <a:t> + S</a:t>
            </a:r>
            <a:r>
              <a:rPr b="1" i="1" lang="pl-PL" sz="1400" spc="-1" strike="noStrike" baseline="-25000">
                <a:solidFill>
                  <a:srgbClr val="333333"/>
                </a:solidFill>
                <a:latin typeface="Arial"/>
              </a:rPr>
              <a:t>B</a:t>
            </a:r>
            <a:r>
              <a:rPr b="1" lang="pl-PL" sz="1400" spc="-1" strike="noStrike" baseline="30000">
                <a:solidFill>
                  <a:srgbClr val="333333"/>
                </a:solidFill>
                <a:latin typeface="Arial"/>
              </a:rPr>
              <a:t>1 / n</a:t>
            </a:r>
            <a:r>
              <a:rPr b="1" lang="pl-PL" sz="1000" spc="-1" strike="noStrike" baseline="30000">
                <a:solidFill>
                  <a:srgbClr val="333333"/>
                </a:solidFill>
                <a:latin typeface="Arial"/>
              </a:rPr>
              <a:t>B</a:t>
            </a:r>
            <a:r>
              <a:rPr b="1" i="1" lang="pl-PL" sz="1400" spc="-1" strike="noStrike">
                <a:solidFill>
                  <a:srgbClr val="333333"/>
                </a:solidFill>
                <a:latin typeface="Arial"/>
              </a:rPr>
              <a:t> 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LITECHNIKA SZCZECIŃSKA, IIChiPOŚ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5E69-362B-4078-9FDF-EF9D24627316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12720" y="741240"/>
            <a:ext cx="8496360" cy="54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</a:rPr>
              <a:t>OGÓLNE  INFORMACJE  O  WĘCHU  BIOLOGICZNY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Zapach jako ważny czynnik jakości  życi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Mechanizm percepcji zapach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ntensywność zapachu a chemiczny skład ocenianej  prób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</a:rPr>
              <a:t>SYSTEM  GC-N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Koncepcja GC-N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Wyniki I etapu bada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Proponowana procedura  przygotowań GC – NN  </a:t>
            </a:r>
            <a:br>
              <a:rPr sz="1600"/>
            </a:b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 do  monitoringu  zapachu</a:t>
            </a:r>
            <a:r>
              <a:rPr b="1" lang="en-US" sz="16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4360" y="3645000"/>
            <a:ext cx="792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6093000"/>
            <a:ext cx="792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4360" y="1413000"/>
            <a:ext cx="792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781800" y="282600"/>
            <a:ext cx="21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reść   prezentac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116000" y="84240"/>
            <a:ext cx="911160" cy="896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LITECHNIKA SZCZECIŃSKA, IIChiPOŚ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E0B7-322C-4573-8620-0AEDDD77DC60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0" y="44280"/>
            <a:ext cx="9144000" cy="6261840"/>
            <a:chOff x="0" y="44280"/>
            <a:chExt cx="9144000" cy="6261840"/>
          </a:xfrm>
        </p:grpSpPr>
        <p:sp>
          <p:nvSpPr>
            <p:cNvPr id="137" name=""/>
            <p:cNvSpPr/>
            <p:nvPr/>
          </p:nvSpPr>
          <p:spPr>
            <a:xfrm>
              <a:off x="0" y="70020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00" y="738000"/>
              <a:ext cx="1807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200"/>
              </a:b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800" y="946080"/>
              <a:ext cx="1807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200"/>
              </a:b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40" name=""/>
            <p:cNvGraphicFramePr/>
            <p:nvPr/>
          </p:nvGraphicFramePr>
          <p:xfrm>
            <a:off x="4788000" y="960480"/>
            <a:ext cx="4176720" cy="26067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4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788000" y="960480"/>
                      <a:ext cx="4176720" cy="260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2" name=""/>
            <p:cNvGraphicFramePr/>
            <p:nvPr/>
          </p:nvGraphicFramePr>
          <p:xfrm>
            <a:off x="615960" y="958680"/>
            <a:ext cx="4172040" cy="26085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43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15960" y="958680"/>
                      <a:ext cx="4172040" cy="260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4" name=""/>
            <p:cNvSpPr/>
            <p:nvPr/>
          </p:nvSpPr>
          <p:spPr>
            <a:xfrm rot="16200000">
              <a:off x="-1431360" y="2585520"/>
              <a:ext cx="352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33"/>
                  </a:solidFill>
                  <a:latin typeface="Arial"/>
                </a:rPr>
                <a:t>Intensywność  zapachu,</a:t>
              </a:r>
              <a:r>
                <a:rPr b="1" i="1" lang="en-US" sz="1400" spc="-1" strike="noStrike">
                  <a:solidFill>
                    <a:srgbClr val="333333"/>
                  </a:solidFill>
                  <a:latin typeface="Arial"/>
                </a:rPr>
                <a:t>   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45" name=""/>
            <p:cNvGraphicFramePr/>
            <p:nvPr/>
          </p:nvGraphicFramePr>
          <p:xfrm>
            <a:off x="615960" y="3351240"/>
            <a:ext cx="4172040" cy="26636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46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15960" y="3351240"/>
                      <a:ext cx="4172040" cy="266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7" name=""/>
            <p:cNvGraphicFramePr/>
            <p:nvPr/>
          </p:nvGraphicFramePr>
          <p:xfrm>
            <a:off x="4789440" y="3325680"/>
            <a:ext cx="4175280" cy="26892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4789440" y="3325680"/>
                      <a:ext cx="4175280" cy="2689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9" name=""/>
            <p:cNvSpPr/>
            <p:nvPr/>
          </p:nvSpPr>
          <p:spPr>
            <a:xfrm>
              <a:off x="3203640" y="5999040"/>
              <a:ext cx="352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33"/>
                  </a:solidFill>
                  <a:latin typeface="Arial"/>
                </a:rPr>
                <a:t>Logarytm  stężenia;  log (</a:t>
              </a:r>
              <a:r>
                <a:rPr b="1" i="1" lang="en-US" sz="1400" spc="-1" strike="noStrike">
                  <a:solidFill>
                    <a:srgbClr val="333333"/>
                  </a:solidFill>
                  <a:latin typeface="Arial"/>
                </a:rPr>
                <a:t>c</a:t>
              </a:r>
              <a:r>
                <a:rPr b="1" lang="en-US" sz="1400" spc="-1" strike="noStrike">
                  <a:solidFill>
                    <a:srgbClr val="333333"/>
                  </a:solidFill>
                  <a:latin typeface="Arial"/>
                </a:rPr>
                <a:t> [ppm])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476360" y="44280"/>
              <a:ext cx="676764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PRZYKŁAD 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(</a:t>
              </a:r>
              <a:r>
                <a:rPr b="1" lang="en-US" sz="1200" spc="-1" strike="noStrike">
                  <a:solidFill>
                    <a:srgbClr val="333333"/>
                  </a:solidFill>
                  <a:latin typeface="Arial"/>
                </a:rPr>
                <a:t>B. Wyszyński, Pracownia Zapachowej Jakości Powietrza, praca doktorska, Szczecin 2001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11280" y="2133720"/>
              <a:ext cx="2156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11280" y="4378320"/>
              <a:ext cx="2156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716360" y="4437000"/>
              <a:ext cx="2160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788000" y="2060640"/>
              <a:ext cx="2156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556000" y="5762520"/>
              <a:ext cx="21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745320" y="5767560"/>
              <a:ext cx="21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LITECHNIKA SZCZECIŃSKA, IIChiPOŚ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1393-3A9B-430D-9E2A-02EE8B26E62D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11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800" y="87120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401840" y="1008000"/>
          <a:ext cx="6480000" cy="421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01840" y="1008000"/>
                    <a:ext cx="6480000" cy="421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 rot="16200000">
            <a:off x="-783720" y="2871000"/>
            <a:ext cx="35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Próg  wyczuwalności zapachu [ppm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6401160" y="2799720"/>
            <a:ext cx="35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Współczynnik  Webera - Fech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403280" y="5365800"/>
            <a:ext cx="669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Udział molowy heksanu w mieszaninie z cykloheksanem  [ppm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LITECHNIKA SZCZECIŃSKA, IIChiPOŚ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EF74-5678-429B-8F23-87A22815F6D0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79280" y="4233600"/>
            <a:ext cx="8785440" cy="186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Cykloheksanol (A) – cykloheksanon (B) – cykloheksan (C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względne udziały objętościowe: x, y, w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333333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333333"/>
                </a:solidFill>
                <a:latin typeface="Arial"/>
              </a:rPr>
              <a:t>PWW </a:t>
            </a: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= 7,72x + 10,72y + 342,01w + 30,11xy + 2008xw - 3096yw + 34x</a:t>
            </a:r>
            <a:r>
              <a:rPr b="1" lang="en-US" sz="1600" spc="-1" strike="noStrike" baseline="30000">
                <a:solidFill>
                  <a:srgbClr val="333333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y - 34xy</a:t>
            </a:r>
            <a:r>
              <a:rPr b="1" lang="en-US" sz="1600" spc="-1" strike="noStrike" baseline="30000">
                <a:solidFill>
                  <a:srgbClr val="333333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333333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333333"/>
                </a:solidFill>
                <a:latin typeface="Arial"/>
              </a:rPr>
              <a:t>WF      </a:t>
            </a: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= 3,035x + 3,46y + 3,65w + 2,27xy - 1,13xz + 1,48yz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 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-90360" y="31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2556000" y="1433520"/>
          <a:ext cx="1627200" cy="1814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56000" y="1433520"/>
                    <a:ext cx="1627200" cy="18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5221440" y="1433520"/>
          <a:ext cx="1623960" cy="1816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21440" y="1433520"/>
                    <a:ext cx="1623960" cy="18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2124000" y="1289160"/>
            <a:ext cx="4753080" cy="23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Arial"/>
              </a:rPr>
              <a:t>th</a:t>
            </a:r>
            <a:r>
              <a:rPr b="1" i="1" lang="pl-PL" sz="1400" spc="-1" strike="noStrike" baseline="-25000">
                <a:solidFill>
                  <a:srgbClr val="000000"/>
                </a:solidFill>
                <a:latin typeface="Arial"/>
              </a:rPr>
              <a:t>                                                                               </a:t>
            </a: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C                                                  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B                                                 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A                                                   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124000" y="189000"/>
            <a:ext cx="561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PRZYKŁAD 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(Pracownia Zapachowej Jakości Powietrza,  200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LITECHNIKA SZCZECIŃSKA, IIChiPOŚ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C415-695B-4757-AFFB-B0033022B223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7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00" y="73800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800" y="145548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556000" y="3141720"/>
            <a:ext cx="4103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Koncepcja  GC - NN</a:t>
            </a:r>
            <a:endParaRPr b="0" lang="en-US" sz="10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LITECHNIKA SZCZECIŃSKA, IIChiPOŚ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861E-D0F1-48DA-807B-77C407BD38FC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468360" y="333360"/>
          <a:ext cx="8139240" cy="2394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333360"/>
                    <a:ext cx="8139240" cy="23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324000" y="3087720"/>
            <a:ext cx="482436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le zróżnicowanych czujnikó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lektronicznego nosa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zastępujące nabłonek węchowy nosa biologiczne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788000" y="3087720"/>
            <a:ext cx="482436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tektor chromatografu gazowego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zastępujący pole czujnikó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lektronicznego nos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771640" y="4168800"/>
            <a:ext cx="935280" cy="64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5435280" y="4095720"/>
            <a:ext cx="57636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474920" y="495360"/>
            <a:ext cx="69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lektroniczny nos                                          System GC-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95640" y="4983120"/>
            <a:ext cx="4824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ztuczna sieć neuronow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zastępująca biologiczny analizator węchow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LITECHNIKA SZCZECIŃSKA, IIChiPOŚ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A912-C635-41F6-AFE8-BDEBDE560138}" type="slidenum">
              <a:t>34</a:t>
            </a:fld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500"/>
                            </p:stCondLst>
                            <p:childTnLst>
                              <p:par>
                                <p:cTn id="2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468360" y="333360"/>
          <a:ext cx="8139240" cy="2394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333360"/>
                    <a:ext cx="8139240" cy="23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2195640" y="351000"/>
            <a:ext cx="792000" cy="64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732720" y="351000"/>
            <a:ext cx="720720" cy="64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635280" y="42228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Próbka  badanego  gaz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LITECHNIKA SZCZECIŃSKA, IIChiPOŚ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9319-E347-4491-B125-61F0240F5FCA}" type="slidenum">
              <a:t>35</a:t>
            </a:fld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"/>
          <p:cNvGraphicFramePr/>
          <p:nvPr/>
        </p:nvGraphicFramePr>
        <p:xfrm>
          <a:off x="468360" y="333360"/>
          <a:ext cx="8139240" cy="2394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333360"/>
                    <a:ext cx="8139240" cy="23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755640" y="2854440"/>
            <a:ext cx="3816360" cy="93492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1280" y="5381640"/>
            <a:ext cx="7993080" cy="86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ECHY   ZAPACH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np.  rodzaj  (podobieństwo do wzorca),  intensywność (siła),  jakość hedonicz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050920" y="2916360"/>
            <a:ext cx="165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nformac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zakodowan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w przestrzen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716360" y="2854440"/>
            <a:ext cx="3816360" cy="93492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84720" y="2916360"/>
            <a:ext cx="1368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nformac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zakodowan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w czas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059280" y="4581360"/>
            <a:ext cx="3311280" cy="79236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9640" y="3886200"/>
            <a:ext cx="8136000" cy="63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ANALIZA   SYGNAŁÓW</a:t>
            </a: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(wytrenowana  sieć  neuronowa -  model  analizatora  węchoweg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LITECHNIKA SZCZECIŃSKA, IIChiPOŚ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C629-896A-49CE-A0FD-A96290F2E598}" type="slidenum">
              <a:t>36</a:t>
            </a:fld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7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800" y="73800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800" y="145548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835280" y="3014640"/>
            <a:ext cx="540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 Black"/>
              </a:rPr>
              <a:t>Wyniki I etapu badań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 Black"/>
              </a:rPr>
              <a:t>(2002 – 200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LITECHNIKA SZCZECIŃSKA, IIChiPOŚ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31BD-BF26-4A5F-9E23-A9DA2FBAA1C5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179280" y="4707000"/>
            <a:ext cx="2521080" cy="18907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rcRect l="0" t="2362" r="0" b="0"/>
          <a:stretch/>
        </p:blipFill>
        <p:spPr>
          <a:xfrm>
            <a:off x="179280" y="2500200"/>
            <a:ext cx="2521080" cy="21528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79280" y="254160"/>
          <a:ext cx="2556000" cy="2166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9280" y="254160"/>
                    <a:ext cx="2556000" cy="21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>
            <a:off x="3492360" y="1728720"/>
            <a:ext cx="4248360" cy="41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33"/>
                </a:solidFill>
                <a:uFillTx/>
                <a:latin typeface="Arial"/>
              </a:rPr>
              <a:t>Mieszaniny  modelow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Ponad 130 próbek powietrza zawierająceg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lotne składniki olejku cytrynowe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oraz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aceton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etanol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zopropanol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octan izoamyl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LITECHNIKA SZCZECIŃSKA, IIChiPOŚ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6B7A-8445-4F4A-ABF1-175CF3B76040}" type="slidenum">
              <a:t>38</a:t>
            </a:fld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2"/>
          <a:srcRect l="0" t="0" r="52293" b="51073"/>
          <a:stretch/>
        </p:blipFill>
        <p:spPr>
          <a:xfrm>
            <a:off x="3780000" y="3976560"/>
            <a:ext cx="3311280" cy="19447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179280" y="4713120"/>
            <a:ext cx="2521080" cy="18907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4"/>
          <a:srcRect l="0" t="2362" r="0" b="0"/>
          <a:stretch/>
        </p:blipFill>
        <p:spPr>
          <a:xfrm>
            <a:off x="179280" y="2506680"/>
            <a:ext cx="2521080" cy="21528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79280" y="260280"/>
          <a:ext cx="2556000" cy="2166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9280" y="260280"/>
                    <a:ext cx="2556000" cy="21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3132000" y="3630600"/>
            <a:ext cx="547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Arial"/>
              </a:rPr>
              <a:t>Histogram sensorycznych ocen jednej próbki S7M3P5 przez 12 osób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643280" y="1197000"/>
            <a:ext cx="28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Arial"/>
              </a:rPr>
              <a:t>Chromatogramy  prób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3419640" y="1601640"/>
          <a:ext cx="4867200" cy="1781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19640" y="1601640"/>
                    <a:ext cx="4867200" cy="17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3449520" y="1601640"/>
          <a:ext cx="4867560" cy="1792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49520" y="1601640"/>
                    <a:ext cx="4867560" cy="17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3419640" y="1601640"/>
          <a:ext cx="4876560" cy="1764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419640" y="1601640"/>
                    <a:ext cx="4876560" cy="17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LITECHNIKA SZCZECIŃSKA, IIChiPOŚ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F72B-E3A7-411C-9BE7-5D34BB3A0562}" type="slidenum">
              <a:t>39</a:t>
            </a:fld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rcRect l="12095" t="11339" r="10583" b="11339"/>
          <a:stretch/>
        </p:blipFill>
        <p:spPr>
          <a:xfrm>
            <a:off x="2122560" y="1989000"/>
            <a:ext cx="5041800" cy="41054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2122560" y="1990800"/>
            <a:ext cx="5040360" cy="4032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>
            <a:lum bright="-4000"/>
          </a:blip>
          <a:stretch/>
        </p:blipFill>
        <p:spPr>
          <a:xfrm>
            <a:off x="1978200" y="2062080"/>
            <a:ext cx="5184720" cy="4103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1978200" y="2084400"/>
            <a:ext cx="5184720" cy="40813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1978200" y="2017800"/>
            <a:ext cx="5184720" cy="41479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1187280" y="189000"/>
            <a:ext cx="655344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Zapach  jako  ważny  czynnik  jakości życia</a:t>
            </a:r>
            <a:endParaRPr b="0" lang="en-US" sz="10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8" name=""/>
          <p:cNvSpPr/>
          <p:nvPr/>
        </p:nvSpPr>
        <p:spPr>
          <a:xfrm>
            <a:off x="1116000" y="549360"/>
            <a:ext cx="777708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Zapach – jego rodzaj i siła – jest ważnym elementem jakości życia.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Z jego wpływu na  nasze samopoczucie i zdrowie nie zawsze zdajemy sobie sprawę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udne problemy percepcji zapachu dotychczas nie zostały ostatecznie wyjaśnione,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mo wysiłków specjalistów z różnych dziedzin (chemia spożywcza, chemia gospodarcza, fizjologia, psychologia, psychofizjologia i inn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LITECHNIKA SZCZECIŃSKA, IIChiPOŚ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9967-48BE-4234-956D-26EF5CE1461A}" type="slidenum">
              <a:t>4</a:t>
            </a:fld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6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4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332000" y="549360"/>
            <a:ext cx="6481800" cy="547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8000" rIns="0" tIns="72000" bIns="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Arial"/>
              </a:rPr>
              <a:t>Lp.               Powierzchnia  pików   </a:t>
            </a:r>
            <a:r>
              <a:rPr b="1" i="1" lang="en-US" sz="1200" spc="-1" strike="noStrike">
                <a:solidFill>
                  <a:srgbClr val="333333"/>
                </a:solidFill>
                <a:latin typeface="Arial"/>
              </a:rPr>
              <a:t>P</a:t>
            </a:r>
            <a:r>
              <a:rPr b="1" lang="en-US" sz="1200" spc="-1" strike="noStrike" baseline="-25000">
                <a:solidFill>
                  <a:srgbClr val="333333"/>
                </a:solidFill>
                <a:latin typeface="Arial"/>
              </a:rPr>
              <a:t>t</a:t>
            </a:r>
            <a:r>
              <a:rPr b="1" lang="en-US" sz="1200" spc="-1" strike="noStrike">
                <a:solidFill>
                  <a:srgbClr val="333333"/>
                </a:solidFill>
                <a:latin typeface="Arial"/>
              </a:rPr>
              <a:t>  [mm</a:t>
            </a:r>
            <a:r>
              <a:rPr b="1" lang="en-US" sz="1200" spc="-1" strike="noStrike" baseline="30000">
                <a:solidFill>
                  <a:srgbClr val="333333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333333"/>
                </a:solidFill>
                <a:latin typeface="Arial"/>
              </a:rPr>
              <a:t>]   o czasach retencji </a:t>
            </a:r>
            <a:r>
              <a:rPr b="1" i="1" lang="en-US" sz="1200" spc="-1" strike="noStrike">
                <a:solidFill>
                  <a:srgbClr val="333333"/>
                </a:solidFill>
                <a:latin typeface="Arial"/>
              </a:rPr>
              <a:t>t</a:t>
            </a:r>
            <a:r>
              <a:rPr b="1" lang="en-US" sz="1200" spc="-1" strike="noStrike">
                <a:solidFill>
                  <a:srgbClr val="333333"/>
                </a:solidFill>
                <a:latin typeface="Arial"/>
              </a:rPr>
              <a:t> [min]          </a:t>
            </a: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0000ff"/>
                </a:solidFill>
                <a:latin typeface="Arial"/>
              </a:rPr>
              <a:t>1, m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333333"/>
                </a:solidFill>
                <a:latin typeface="Arial"/>
              </a:rPr>
              <a:t>             </a:t>
            </a:r>
            <a:r>
              <a:rPr b="1" lang="en-US" sz="1200" spc="-1" strike="noStrike">
                <a:solidFill>
                  <a:srgbClr val="333333"/>
                </a:solidFill>
                <a:latin typeface="Arial"/>
              </a:rPr>
              <a:t>3,8</a:t>
            </a:r>
            <a:r>
              <a:rPr b="1" lang="en-US" sz="1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333333"/>
                </a:solidFill>
                <a:latin typeface="Arial"/>
              </a:rPr>
              <a:t>5,3</a:t>
            </a:r>
            <a:r>
              <a:rPr b="1" lang="en-US" sz="1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333333"/>
                </a:solidFill>
                <a:latin typeface="Arial"/>
              </a:rPr>
              <a:t>8,4</a:t>
            </a:r>
            <a:r>
              <a:rPr b="1" lang="en-US" sz="1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333333"/>
                </a:solidFill>
                <a:latin typeface="Arial"/>
              </a:rPr>
              <a:t>11,8</a:t>
            </a:r>
            <a:r>
              <a:rPr b="1" lang="en-US" sz="1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333333"/>
                </a:solidFill>
                <a:latin typeface="Arial"/>
              </a:rPr>
              <a:t>15,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1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4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7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7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24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72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i="1" lang="en-US" sz="1000" spc="-1" strike="noStrike">
                <a:solidFill>
                  <a:srgbClr val="0000ff"/>
                </a:solidFill>
                <a:latin typeface="Arial"/>
              </a:rPr>
              <a:t>2,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354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790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218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189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778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i="1" lang="en-US" sz="1000" spc="-1" strike="noStrike">
                <a:solidFill>
                  <a:srgbClr val="0000ff"/>
                </a:solidFill>
                <a:latin typeface="Arial"/>
              </a:rPr>
              <a:t>3,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3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17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10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33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84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345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i="1" lang="en-US" sz="1000" spc="-1" strike="noStrike">
                <a:solidFill>
                  <a:srgbClr val="0000ff"/>
                </a:solidFill>
                <a:latin typeface="Arial"/>
              </a:rPr>
              <a:t>3,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4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89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395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398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252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1035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i="1" lang="en-US" sz="1000" spc="-1" strike="noStrike">
                <a:solidFill>
                  <a:srgbClr val="0000ff"/>
                </a:solidFill>
                <a:latin typeface="Arial"/>
              </a:rPr>
              <a:t>2,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5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354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395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144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781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864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i="1" lang="en-US" sz="1000" spc="-1" strike="noStrike">
                <a:solidFill>
                  <a:srgbClr val="0000ff"/>
                </a:solidFill>
                <a:latin typeface="Arial"/>
              </a:rPr>
              <a:t>5,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6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4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20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26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32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133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i="1" lang="en-US" sz="1000" spc="-1" strike="noStrike">
                <a:solidFill>
                  <a:srgbClr val="0000ff"/>
                </a:solidFill>
                <a:latin typeface="Arial"/>
              </a:rPr>
              <a:t>3,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7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44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593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217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685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767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i="1" lang="en-US" sz="1000" spc="-1" strike="noStrike">
                <a:solidFill>
                  <a:srgbClr val="0000ff"/>
                </a:solidFill>
                <a:latin typeface="Arial"/>
              </a:rPr>
              <a:t>4,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8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40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55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24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99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i="1" lang="en-US" sz="1000" spc="-1" strike="noStrike">
                <a:solidFill>
                  <a:srgbClr val="0000ff"/>
                </a:solidFill>
                <a:latin typeface="Arial"/>
              </a:rPr>
              <a:t>2,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9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50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0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165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84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179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i="1" lang="en-US" sz="1000" spc="-1" strike="noStrike">
                <a:solidFill>
                  <a:srgbClr val="0000ff"/>
                </a:solidFill>
                <a:latin typeface="Arial"/>
              </a:rPr>
              <a:t>4,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10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8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112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48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150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238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i="1" lang="en-US" sz="1000" spc="-1" strike="noStrike">
                <a:solidFill>
                  <a:srgbClr val="0000ff"/>
                </a:solidFill>
                <a:latin typeface="Arial"/>
              </a:rPr>
              <a:t>3,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11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44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0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218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688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776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i="1" lang="en-US" sz="1000" spc="-1" strike="noStrike">
                <a:solidFill>
                  <a:srgbClr val="0000ff"/>
                </a:solidFill>
                <a:latin typeface="Arial"/>
              </a:rPr>
              <a:t>3,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12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8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0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133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104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155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i="1" lang="en-US" sz="1000" spc="-1" strike="noStrike">
                <a:solidFill>
                  <a:srgbClr val="0000ff"/>
                </a:solidFill>
                <a:latin typeface="Arial"/>
              </a:rPr>
              <a:t>3,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13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8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149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196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46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189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i="1" lang="en-US" sz="1000" spc="-1" strike="noStrike">
                <a:solidFill>
                  <a:srgbClr val="0000ff"/>
                </a:solidFill>
                <a:latin typeface="Arial"/>
              </a:rPr>
              <a:t>3,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14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0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19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78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84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238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i="1" lang="en-US" sz="1000" spc="-1" strike="noStrike">
                <a:solidFill>
                  <a:srgbClr val="0000ff"/>
                </a:solidFill>
                <a:latin typeface="Arial"/>
              </a:rPr>
              <a:t>3,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15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1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18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20,9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82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i="1" lang="en-US" sz="1000" spc="-1" strike="noStrike">
                <a:solidFill>
                  <a:srgbClr val="0000ff"/>
                </a:solidFill>
                <a:latin typeface="Arial"/>
              </a:rPr>
              <a:t>2,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16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8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0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44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138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189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i="1" lang="en-US" sz="1000" spc="-1" strike="noStrike">
                <a:solidFill>
                  <a:srgbClr val="0000ff"/>
                </a:solidFill>
                <a:latin typeface="Arial"/>
              </a:rPr>
              <a:t>4,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17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13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25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14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44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79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i="1" lang="en-US" sz="1000" spc="-1" strike="noStrike">
                <a:solidFill>
                  <a:srgbClr val="0000ff"/>
                </a:solidFill>
                <a:latin typeface="Arial"/>
              </a:rPr>
              <a:t>2,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18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83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131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75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72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189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i="1" lang="en-US" sz="1000" spc="-1" strike="noStrike">
                <a:solidFill>
                  <a:srgbClr val="0000ff"/>
                </a:solidFill>
                <a:latin typeface="Arial"/>
              </a:rPr>
              <a:t>4,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19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6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9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10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21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77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i="1" lang="en-US" sz="1000" spc="-1" strike="noStrike">
                <a:solidFill>
                  <a:srgbClr val="0000ff"/>
                </a:solidFill>
                <a:latin typeface="Arial"/>
              </a:rPr>
              <a:t>4,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20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0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30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12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26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107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i="1" lang="en-US" sz="1000" spc="-1" strike="noStrike">
                <a:solidFill>
                  <a:srgbClr val="0000ff"/>
                </a:solidFill>
                <a:latin typeface="Arial"/>
              </a:rPr>
              <a:t>2,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21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67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149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44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46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190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i="1" lang="en-US" sz="1000" spc="-1" strike="noStrike">
                <a:solidFill>
                  <a:srgbClr val="0000ff"/>
                </a:solidFill>
                <a:latin typeface="Arial"/>
              </a:rPr>
              <a:t>3,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22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354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395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144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781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864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i="1" lang="en-US" sz="1000" spc="-1" strike="noStrike">
                <a:solidFill>
                  <a:srgbClr val="0000ff"/>
                </a:solidFill>
                <a:latin typeface="Arial"/>
              </a:rPr>
              <a:t>3,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23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44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593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217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685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767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i="1" lang="en-US" sz="1000" spc="-1" strike="noStrike">
                <a:solidFill>
                  <a:srgbClr val="0000ff"/>
                </a:solidFill>
                <a:latin typeface="Arial"/>
              </a:rPr>
              <a:t>4,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24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4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10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8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19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77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i="1" lang="en-US" sz="1000" spc="-1" strike="noStrike">
                <a:solidFill>
                  <a:srgbClr val="0000ff"/>
                </a:solidFill>
                <a:latin typeface="Arial"/>
              </a:rPr>
              <a:t>1,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25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67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75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31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159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219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i="1" lang="en-US" sz="1000" spc="-1" strike="noStrike">
                <a:solidFill>
                  <a:srgbClr val="0000ff"/>
                </a:solidFill>
                <a:latin typeface="Arial"/>
              </a:rPr>
              <a:t>5,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26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0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37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30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76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206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i="1" lang="en-US" sz="1000" spc="-1" strike="noStrike">
                <a:solidFill>
                  <a:srgbClr val="0000ff"/>
                </a:solidFill>
                <a:latin typeface="Arial"/>
              </a:rPr>
              <a:t>4,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27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4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7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7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24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72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i="1" lang="en-US" sz="1000" spc="-1" strike="noStrike">
                <a:solidFill>
                  <a:srgbClr val="0000ff"/>
                </a:solidFill>
                <a:latin typeface="Arial"/>
              </a:rPr>
              <a:t>2,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28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30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38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133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462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i="1" lang="en-US" sz="1000" spc="-1" strike="noStrike">
                <a:solidFill>
                  <a:srgbClr val="0000ff"/>
                </a:solidFill>
                <a:latin typeface="Arial"/>
              </a:rPr>
              <a:t>2,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3333"/>
                </a:solidFill>
                <a:latin typeface="Arial"/>
              </a:rPr>
              <a:t>…                       …           </a:t>
            </a:r>
            <a:r>
              <a:rPr b="0" i="1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i="1" lang="en-US" sz="1000" spc="-1" strike="noStrike">
                <a:solidFill>
                  <a:srgbClr val="333333"/>
                </a:solidFill>
                <a:latin typeface="Arial"/>
              </a:rPr>
              <a:t>…                       …                      …                      …                       </a:t>
            </a:r>
            <a:r>
              <a:rPr b="0" i="1" lang="en-US" sz="1000" spc="-1" strike="noStrike">
                <a:solidFill>
                  <a:srgbClr val="0000ff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3333"/>
                </a:solidFill>
                <a:latin typeface="Arial"/>
              </a:rPr>
              <a:t>…                       …           </a:t>
            </a:r>
            <a:r>
              <a:rPr b="0" i="1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i="1" lang="en-US" sz="1000" spc="-1" strike="noStrike">
                <a:solidFill>
                  <a:srgbClr val="333333"/>
                </a:solidFill>
                <a:latin typeface="Arial"/>
              </a:rPr>
              <a:t>…                       …                      …                      …                       </a:t>
            </a:r>
            <a:r>
              <a:rPr b="0" i="1" lang="en-US" sz="1000" spc="-1" strike="noStrike">
                <a:solidFill>
                  <a:srgbClr val="0000ff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</a:rPr>
              <a:t>1578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33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95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144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781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864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i="1" lang="en-US" sz="1000" spc="-1" strike="noStrike">
                <a:solidFill>
                  <a:srgbClr val="0000ff"/>
                </a:solidFill>
                <a:latin typeface="Arial"/>
              </a:rPr>
              <a:t>3,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LITECHNIKA SZCZECIŃSKA, IIChiPOŚ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17CE-FDC7-4E7E-944A-731FBBC63BA6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3" name=""/>
          <p:cNvGraphicFramePr/>
          <p:nvPr/>
        </p:nvGraphicFramePr>
        <p:xfrm>
          <a:off x="706320" y="3538440"/>
          <a:ext cx="4442040" cy="265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6320" y="3538440"/>
                    <a:ext cx="4442040" cy="265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5934240" y="3467160"/>
          <a:ext cx="2454120" cy="2448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934240" y="3467160"/>
                    <a:ext cx="2454120" cy="24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"/>
          <p:cNvSpPr/>
          <p:nvPr/>
        </p:nvSpPr>
        <p:spPr>
          <a:xfrm>
            <a:off x="2346480" y="-6728040"/>
            <a:ext cx="18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344680" y="-6291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344680" y="-6291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346480" y="-61092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344680" y="-519264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344680" y="680400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344680" y="1239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84360" y="803160"/>
          <a:ext cx="7704000" cy="2232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84360" y="803160"/>
                    <a:ext cx="7704000" cy="22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5724360" y="3251160"/>
            <a:ext cx="863640" cy="857160"/>
          </a:xfrm>
          <a:prstGeom prst="rect">
            <a:avLst/>
          </a:prstGeom>
          <a:solidFill>
            <a:srgbClr val="fef9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Arial"/>
              </a:rPr>
              <a:t>Rozkł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Arial"/>
              </a:rPr>
              <a:t>różn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Arial"/>
              </a:rPr>
              <a:t>(S</a:t>
            </a:r>
            <a:r>
              <a:rPr b="1" lang="en-US" sz="1200" spc="-1" strike="noStrike" baseline="-25000">
                <a:solidFill>
                  <a:srgbClr val="333333"/>
                </a:solidFill>
                <a:latin typeface="Arial"/>
              </a:rPr>
              <a:t>1 </a:t>
            </a:r>
            <a:r>
              <a:rPr b="1" lang="en-US" sz="1200" spc="-1" strike="noStrike">
                <a:solidFill>
                  <a:srgbClr val="333333"/>
                </a:solidFill>
                <a:latin typeface="Arial"/>
              </a:rPr>
              <a:t>- S</a:t>
            </a:r>
            <a:r>
              <a:rPr b="1" lang="en-US" sz="1200" spc="-1" strike="noStrike" baseline="-25000">
                <a:solidFill>
                  <a:srgbClr val="333333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044720" y="874800"/>
            <a:ext cx="3382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zykład zastosowania 1446 wzorców uczących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 132 wzorców testowych (median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979640" y="227160"/>
            <a:ext cx="590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Wyniki ocen sensorycznych  i  wskazania sieci neuronowe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84360" y="3206880"/>
            <a:ext cx="52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Różnice między wynikami pomiarów i wskazaniami  sie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rot="16200000">
            <a:off x="-2368440" y="3062160"/>
            <a:ext cx="575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                   </a:t>
            </a: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(</a:t>
            </a:r>
            <a:r>
              <a:rPr b="1" i="1" lang="en-US" sz="1400" spc="-1" strike="noStrike">
                <a:solidFill>
                  <a:srgbClr val="333333"/>
                </a:solidFill>
                <a:latin typeface="Arial"/>
              </a:rPr>
              <a:t>S</a:t>
            </a: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1  - </a:t>
            </a:r>
            <a:r>
              <a:rPr b="1" i="1" lang="en-US" sz="1400" spc="-1" strike="noStrike">
                <a:solidFill>
                  <a:srgbClr val="333333"/>
                </a:solidFill>
                <a:latin typeface="Arial"/>
              </a:rPr>
              <a:t> S</a:t>
            </a: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2)                                Intensywność zapachu,  </a:t>
            </a:r>
            <a:r>
              <a:rPr b="1" i="1" lang="en-US" sz="1400" spc="-1" strike="noStrike">
                <a:solidFill>
                  <a:srgbClr val="333333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042920" y="4546440"/>
            <a:ext cx="39607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042920" y="4906800"/>
            <a:ext cx="39607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042920" y="4330800"/>
            <a:ext cx="39607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042920" y="5122800"/>
            <a:ext cx="39607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659640" y="6130800"/>
            <a:ext cx="108108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948360" y="6059520"/>
            <a:ext cx="503280" cy="0"/>
          </a:xfrm>
          <a:prstGeom prst="line">
            <a:avLst/>
          </a:prstGeom>
          <a:ln w="12600">
            <a:solidFill>
              <a:srgbClr val="0000ff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LITECHNIKA SZCZECIŃSKA, IIChiPOŚ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F98D-BCB5-46FF-A4FE-82AE23801B82}" type="slidenum">
              <a:t>41</a:t>
            </a:fld>
          </a:p>
        </p:txBody>
      </p:sp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7" name=""/>
          <p:cNvGraphicFramePr/>
          <p:nvPr/>
        </p:nvGraphicFramePr>
        <p:xfrm>
          <a:off x="1243080" y="1176480"/>
          <a:ext cx="6622920" cy="3587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43080" y="1176480"/>
                    <a:ext cx="6622920" cy="35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"/>
          <p:cNvSpPr/>
          <p:nvPr/>
        </p:nvSpPr>
        <p:spPr>
          <a:xfrm>
            <a:off x="2346480" y="-7015320"/>
            <a:ext cx="18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344680" y="-6578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44680" y="-6578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346480" y="-63964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344680" y="-547992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344680" y="12107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411200" y="615960"/>
            <a:ext cx="6543720" cy="5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Zależność udziału poprawnych odpowiedzi od liczby wzorców uczący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362560" y="2171880"/>
            <a:ext cx="1873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|</a:t>
            </a: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– </a:t>
            </a: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|  &lt; 0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362560" y="1523880"/>
            <a:ext cx="1873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|S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– </a:t>
            </a: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|  &lt; 1,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203640" y="4890960"/>
            <a:ext cx="33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Liczba  wzorców  uczący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rot="16200000">
            <a:off x="-819720" y="2810160"/>
            <a:ext cx="36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Udział poprawnych odpowiedzi sieci, %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LITECHNIKA SZCZECIŃSKA, IIChiPOŚ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AE88-4A8A-45B3-95CE-CC4215F110A8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187280" y="3147840"/>
            <a:ext cx="731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 Black"/>
              </a:rPr>
              <a:t>Proponowana procedura  przygotowań GC – NN  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Arial Black"/>
              </a:rPr>
              <a:t>  do  monitoringu  zapachu gazów przemysłow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LITECHNIKA SZCZECIŃSKA, IIChiPOŚ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7B2B-6ADD-499F-ADCE-81121BFBB9CA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2268360" y="396720"/>
            <a:ext cx="1727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908000" y="396720"/>
            <a:ext cx="2808360" cy="86364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84360" y="539640"/>
            <a:ext cx="165744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obrani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około 100 reprezentatywny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ób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908000" y="1620720"/>
            <a:ext cx="13687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Chromatograf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gazow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421080" y="1620720"/>
            <a:ext cx="129528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Anali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sensorycz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651640" y="1763640"/>
            <a:ext cx="115236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Anali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statystycz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268360" y="334800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ZBIÓR  TRENINGOW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rot="5373000">
            <a:off x="2083320" y="2234160"/>
            <a:ext cx="576360" cy="641520"/>
          </a:xfrm>
          <a:custGeom>
            <a:avLst/>
            <a:gdLst>
              <a:gd name="textAreaLeft" fmla="*/ 0 w 576360"/>
              <a:gd name="textAreaRight" fmla="*/ 576720 w 576360"/>
              <a:gd name="textAreaTop" fmla="*/ 0 h 641520"/>
              <a:gd name="textAreaBottom" fmla="*/ 641880 h 641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341440" y="1265400"/>
            <a:ext cx="1943280" cy="349200"/>
          </a:xfrm>
          <a:prstGeom prst="rect">
            <a:avLst/>
          </a:prstGeom>
          <a:noFill/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Arial"/>
              </a:rPr>
              <a:t>PRÓBKI  DO  ANALIZ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-73080" y="179280"/>
            <a:ext cx="9325080" cy="276480"/>
          </a:xfrm>
          <a:prstGeom prst="rect">
            <a:avLst/>
          </a:prstGeom>
          <a:gradFill rotWithShape="0">
            <a:gsLst>
              <a:gs pos="0">
                <a:srgbClr val="fbefc9"/>
              </a:gs>
              <a:gs pos="100000">
                <a:srgbClr val="808080"/>
              </a:gs>
            </a:gsLst>
            <a:lin ang="13500000"/>
          </a:gradFill>
          <a:ln w="381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718160" y="685800"/>
            <a:ext cx="2014560" cy="110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333333"/>
                </a:solidFill>
                <a:uFillTx/>
                <a:latin typeface="Arial"/>
              </a:rPr>
              <a:t>Baza  danych  olfaktometryczny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Arial"/>
              </a:rPr>
              <a:t>(po </a:t>
            </a:r>
            <a:r>
              <a:rPr b="1" lang="en-US" sz="1200" spc="-1" strike="noStrike">
                <a:solidFill>
                  <a:srgbClr val="333333"/>
                </a:solidFill>
                <a:latin typeface="Symbol"/>
                <a:ea typeface="Symbol"/>
              </a:rPr>
              <a:t></a:t>
            </a:r>
            <a:r>
              <a:rPr b="1" lang="en-US" sz="1200" spc="-1" strike="noStrike">
                <a:solidFill>
                  <a:srgbClr val="333333"/>
                </a:solidFill>
                <a:latin typeface="Arial"/>
              </a:rPr>
              <a:t> 10 indywidualnych ocen jakości zapachu każdej z próbe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356000" y="126036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1979640" y="1260360"/>
            <a:ext cx="288720" cy="360360"/>
          </a:xfrm>
          <a:prstGeom prst="right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08000" y="2176560"/>
            <a:ext cx="1871640" cy="604800"/>
          </a:xfrm>
          <a:prstGeom prst="rect">
            <a:avLst/>
          </a:prstGeom>
          <a:solidFill>
            <a:srgbClr val="fcf2d0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Arial"/>
              </a:rPr>
              <a:t>Selekcja zmienny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55640" y="1836720"/>
            <a:ext cx="576360" cy="28728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08000" y="684360"/>
            <a:ext cx="1800000" cy="110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333333"/>
                </a:solidFill>
                <a:uFillTx/>
                <a:latin typeface="Arial"/>
              </a:rPr>
              <a:t>Baza  danych  chromatograficzny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Arial"/>
              </a:rPr>
              <a:t>(zestawienie danych zarejestrowanych w różnych warunka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10800000">
            <a:off x="5075280" y="2700360"/>
            <a:ext cx="720720" cy="1295280"/>
          </a:xfrm>
          <a:custGeom>
            <a:avLst/>
            <a:gdLst>
              <a:gd name="textAreaLeft" fmla="*/ 0 w 720720"/>
              <a:gd name="textAreaRight" fmla="*/ 721080 w 72072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0800000">
            <a:off x="5076720" y="2700360"/>
            <a:ext cx="287280" cy="504720"/>
          </a:xfrm>
          <a:custGeom>
            <a:avLst/>
            <a:gdLst>
              <a:gd name="textAreaLeft" fmla="*/ 0 w 287280"/>
              <a:gd name="textAreaRight" fmla="*/ 287640 w 28728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716360" y="324000"/>
            <a:ext cx="16560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1836720"/>
            <a:ext cx="576000" cy="28728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788000" y="2162160"/>
            <a:ext cx="2016000" cy="385560"/>
          </a:xfrm>
          <a:prstGeom prst="rect">
            <a:avLst/>
          </a:prstGeom>
          <a:solidFill>
            <a:srgbClr val="c9e7e9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Arial"/>
              </a:rPr>
              <a:t>Mediany, SD, podzia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Arial"/>
              </a:rPr>
              <a:t>i wygładzanie zbioró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2050920" y="2629080"/>
            <a:ext cx="51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 rot="16267200">
            <a:off x="508320" y="3964680"/>
            <a:ext cx="1936800" cy="1150920"/>
          </a:xfrm>
          <a:custGeom>
            <a:avLst/>
            <a:gdLst>
              <a:gd name="textAreaLeft" fmla="*/ 360 w 1936800"/>
              <a:gd name="textAreaRight" fmla="*/ 1937520 w 1936800"/>
              <a:gd name="textAreaTop" fmla="*/ 0 h 1150920"/>
              <a:gd name="textAreaBottom" fmla="*/ 1151280 h 11509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rcRect l="0" t="15457" r="0" b="8597"/>
          <a:stretch/>
        </p:blipFill>
        <p:spPr>
          <a:xfrm>
            <a:off x="1569960" y="4500720"/>
            <a:ext cx="2857680" cy="159228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068720" y="5148360"/>
            <a:ext cx="647640" cy="360360"/>
          </a:xfrm>
          <a:prstGeom prst="rightArrow">
            <a:avLst>
              <a:gd name="adj1" fmla="val 50000"/>
              <a:gd name="adj2" fmla="val 4493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221440" y="4781520"/>
            <a:ext cx="1150920" cy="100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Obliczenie udziału poprawnych odpowiedzi sieci, 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451640" y="5005440"/>
            <a:ext cx="1297080" cy="1081080"/>
          </a:xfrm>
          <a:prstGeom prst="ellipse">
            <a:avLst/>
          </a:prstGeom>
          <a:gradFill rotWithShape="0">
            <a:gsLst>
              <a:gs pos="0">
                <a:srgbClr val="d0c9bc"/>
              </a:gs>
              <a:gs pos="100000">
                <a:srgbClr val="fbefc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164360" y="3492360"/>
            <a:ext cx="1871640" cy="122400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164360" y="1981080"/>
            <a:ext cx="1871640" cy="122400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8101080" y="471636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1" name=""/>
          <p:cNvCxnSpPr>
            <a:stCxn id="288" idx="0"/>
            <a:endCxn id="289" idx="2"/>
          </p:cNvCxnSpPr>
          <p:nvPr/>
        </p:nvCxnSpPr>
        <p:spPr>
          <a:xfrm flipV="1">
            <a:off x="8100720" y="3204720"/>
            <a:ext cx="1080" cy="2880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7308720" y="3900600"/>
            <a:ext cx="151308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J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wystarczając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236000" y="4716360"/>
            <a:ext cx="936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T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164360" y="3205080"/>
            <a:ext cx="936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364000"/>
            <a:ext cx="136836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Zastosowanie GC-N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380360" y="2413080"/>
            <a:ext cx="15127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Baza GC został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wyczerpan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372360" y="2629080"/>
            <a:ext cx="936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164360" y="1620720"/>
            <a:ext cx="936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T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1692360" y="2844720"/>
          <a:ext cx="3287520" cy="16560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</a:tblGrid>
              <a:tr h="171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e7e9"/>
                    </a:solidFill>
                  </a:tcPr>
                </a:tc>
              </a:tr>
              <a:tr h="188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e7e9"/>
                    </a:solidFill>
                  </a:tcPr>
                </a:tc>
              </a:tr>
              <a:tr h="184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e7e9"/>
                    </a:solidFill>
                  </a:tcPr>
                </a:tc>
              </a:tr>
              <a:tr h="22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e7e9"/>
                    </a:solidFill>
                  </a:tcPr>
                </a:tc>
              </a:tr>
              <a:tr h="21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e7e9"/>
                    </a:solidFill>
                  </a:tcPr>
                </a:tc>
              </a:tr>
              <a:tr h="22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e7e9"/>
                    </a:solidFill>
                  </a:tcPr>
                </a:tc>
              </a:tr>
              <a:tr h="235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e7e9"/>
                    </a:solidFill>
                  </a:tcPr>
                </a:tc>
              </a:tr>
              <a:tr h="216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2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e7e9"/>
                    </a:solidFill>
                  </a:tcPr>
                </a:tc>
              </a:tr>
            </a:tbl>
          </a:graphicData>
        </a:graphic>
      </p:graphicFrame>
      <p:sp>
        <p:nvSpPr>
          <p:cNvPr id="300" name=""/>
          <p:cNvSpPr/>
          <p:nvPr/>
        </p:nvSpPr>
        <p:spPr>
          <a:xfrm>
            <a:off x="1692360" y="3274920"/>
            <a:ext cx="3311280" cy="122580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700360" y="2916360"/>
            <a:ext cx="194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Zbiór testow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rot="16200000">
            <a:off x="878040" y="3540600"/>
            <a:ext cx="1800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33"/>
                </a:solidFill>
                <a:latin typeface="Arial"/>
              </a:rPr>
              <a:t>Zmienna objaśniająca 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rot="16200000">
            <a:off x="1094040" y="3540600"/>
            <a:ext cx="1800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33"/>
                </a:solidFill>
                <a:latin typeface="Arial"/>
              </a:rPr>
              <a:t>Zmienna objaśniająca 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rot="16200000">
            <a:off x="1238400" y="3540600"/>
            <a:ext cx="1800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33"/>
                </a:solidFill>
                <a:latin typeface="Arial"/>
              </a:rPr>
              <a:t>Zmienna objaśniająca 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692360" y="2844720"/>
            <a:ext cx="3311280" cy="36216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364968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Zbiór uczą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rot="16200000">
            <a:off x="3967920" y="3534480"/>
            <a:ext cx="16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Arial"/>
              </a:rPr>
              <a:t>Zmienna objaśni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3421080"/>
            <a:ext cx="1512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3348000"/>
            <a:ext cx="15127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WYBÓR   SIEC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I  SZKOLENI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0" name=""/>
          <p:cNvCxnSpPr>
            <a:stCxn id="286" idx="0"/>
            <a:endCxn id="288" idx="1"/>
          </p:cNvCxnSpPr>
          <p:nvPr/>
        </p:nvCxnSpPr>
        <p:spPr>
          <a:xfrm flipH="1" flipV="1" rot="5400000">
            <a:off x="6142320" y="3759480"/>
            <a:ext cx="676800" cy="1367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1" name=""/>
          <p:cNvCxnSpPr>
            <a:stCxn id="289" idx="0"/>
          </p:cNvCxnSpPr>
          <p:nvPr/>
        </p:nvCxnSpPr>
        <p:spPr>
          <a:xfrm flipV="1" rot="16200000">
            <a:off x="5363640" y="-756720"/>
            <a:ext cx="1369080" cy="4106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2234520" y="179280"/>
            <a:ext cx="204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GAZ  PRZEMYSŁOW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 rot="16267200">
            <a:off x="64440" y="3598920"/>
            <a:ext cx="2808360" cy="1150920"/>
          </a:xfrm>
          <a:custGeom>
            <a:avLst/>
            <a:gdLst>
              <a:gd name="textAreaLeft" fmla="*/ -360 w 2808360"/>
              <a:gd name="textAreaRight" fmla="*/ 2808360 w 2808360"/>
              <a:gd name="textAreaTop" fmla="*/ 0 h 1150920"/>
              <a:gd name="textAreaBottom" fmla="*/ 1151280 h 11509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LITECHNIKA SZCZECIŃSKA, IIChiPOŚ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DE98-8B55-4000-9CCF-9C9D35D934C4}" type="slidenum">
              <a:t>44</a:t>
            </a:fld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9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LITECHNIKA SZCZECIŃSKA, IIChiPOŚ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328C-ADC1-48E2-BB80-39432A384C7E}" type="slidenum">
              <a:t>45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rcRect l="9782" t="0" r="8893" b="6612"/>
          <a:stretch/>
        </p:blipFill>
        <p:spPr>
          <a:xfrm>
            <a:off x="4869000" y="2313000"/>
            <a:ext cx="3232080" cy="3203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rcRect l="0" t="0" r="0" b="2415"/>
          <a:stretch/>
        </p:blipFill>
        <p:spPr>
          <a:xfrm>
            <a:off x="1260360" y="2314440"/>
            <a:ext cx="3248280" cy="31719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1187280" y="189000"/>
            <a:ext cx="655344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Zapach  jako  ważny  czynnik  jakości życia</a:t>
            </a:r>
            <a:endParaRPr b="0" lang="en-US" sz="10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2" name=""/>
          <p:cNvSpPr/>
          <p:nvPr/>
        </p:nvSpPr>
        <p:spPr>
          <a:xfrm>
            <a:off x="1116000" y="549360"/>
            <a:ext cx="777708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Zapach – jego rodzaj i siła – jest ważnym elementem jakości życia.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Z jego wpływu na  nasze samopoczucie i zdrowie nie zawsze zdajemy sobie sprawę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udne problemy percepcji zapachu dotychczas nie zostały ostatecznie wyjaśnione,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mo wysiłków specjalistów z różnych dziedzin (chemia spożywcza, chemia gospodarcza, fizjologia, psychologia, psychofizjologia i inn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LITECHNIKA SZCZECIŃSKA, IIChiPOŚ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B806-09E8-4A68-A5FD-DE94635514B9}" type="slidenum">
              <a:t>5</a:t>
            </a:fld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187280" y="189000"/>
            <a:ext cx="655344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Zapach  jako  ważny  czynnik  jakości życia</a:t>
            </a:r>
            <a:endParaRPr b="0" lang="en-US" sz="10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4" name=""/>
          <p:cNvSpPr/>
          <p:nvPr/>
        </p:nvSpPr>
        <p:spPr>
          <a:xfrm>
            <a:off x="1116000" y="549360"/>
            <a:ext cx="777708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Zapach – jego rodzaj i siła – jest ważnym elementem jakości życia.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Z jego wpływu na  nasze samopoczucie i zdrowie nie zawsze zdajemy sobie sprawę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udne problemy percepcji zapachu dotychczas nie zostały ostatecznie wyjaśnione,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mo wysiłków specjalistów z różnych dziedzin (chemia spożywcza, chemia gospodarcza, fizjologia, psychologia, psychofizjologia i inn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187280" y="2060640"/>
            <a:ext cx="7129800" cy="4137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LITECHNIKA SZCZECIŃSKA, IIChiPOŚ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CFA1-2E6C-4677-8D12-8A6822A37C2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225440" y="2863800"/>
            <a:ext cx="8315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udowa analizatora węchowego  (podstaw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Linda Buck i Richard Ax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Nagroda Nobla 2004 w dziedzinie medycy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332000" y="549360"/>
            <a:ext cx="6553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Mechanizm percepcji zapachu</a:t>
            </a:r>
            <a:endParaRPr b="0" lang="en-US" sz="10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LITECHNIKA SZCZECIŃSKA, IIChiPOŚ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5622-C82A-4DDE-B374-A71318E285A1}" type="slidenum">
              <a:t>7</a:t>
            </a:fld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1225440" y="938160"/>
          <a:ext cx="6228000" cy="5946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25440" y="938160"/>
                    <a:ext cx="6228000" cy="594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3789360" y="2522520"/>
            <a:ext cx="782640" cy="647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284720" y="476280"/>
          <a:ext cx="4086000" cy="3753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284720" y="476280"/>
                    <a:ext cx="4086000" cy="37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4302000" y="476280"/>
            <a:ext cx="4032360" cy="3744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94360" y="2389320"/>
            <a:ext cx="287640" cy="1657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75000" y="44280"/>
            <a:ext cx="395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Budowa analizatora węchowego  (podstaw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LITECHNIKA SZCZECIŃSKA, IIChiPOŚ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6359-8D0D-48D8-8574-DAD19CABB243}" type="slidenum">
              <a:t>8</a:t>
            </a:fld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3887640" y="1268280"/>
          <a:ext cx="3132360" cy="45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7640" y="1268280"/>
                    <a:ext cx="313236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836720" y="355680"/>
            <a:ext cx="554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zemieszczanie się  fali depolaryzacji wzdłuż  komór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87640" y="5575320"/>
            <a:ext cx="84312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84720" y="2421000"/>
            <a:ext cx="576360" cy="71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6408360" y="1699920"/>
            <a:ext cx="299880" cy="2998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392720" y="4869000"/>
            <a:ext cx="0" cy="503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4392720" y="2995200"/>
            <a:ext cx="0" cy="522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472000" y="83664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naps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75080" y="44280"/>
            <a:ext cx="395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Budowa analizatora węchowego  (podstaw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LITECHNIKA SZCZECIŃSKA, IIChiPOŚ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29F0-E4C5-4EA1-B44C-896FA75C910A}" type="slidenum">
              <a:t>9</a:t>
            </a:fld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000"/>
                            </p:stCondLst>
                            <p:childTnLst>
                              <p:par>
                                <p:cTn id="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8T14:17:18Z</dcterms:created>
  <dc:creator>Pprofesor</dc:creator>
  <dc:description/>
  <dc:language>en-US</dc:language>
  <cp:lastModifiedBy>ibm</cp:lastModifiedBy>
  <dcterms:modified xsi:type="dcterms:W3CDTF">2008-09-11T18:00:57Z</dcterms:modified>
  <cp:revision>283</cp:revision>
  <dc:subject/>
  <dc:title>Slajd 1</dc:title>
</cp:coreProperties>
</file>