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6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png" ContentType="image/png"/>
  <Override PartName="/ppt/media/image13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A24-81EE-458E-A8AF-16464C47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9F8-3F52-48D4-9641-B7AB3CC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780-B882-456A-A435-FB8E45C0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65D-7D94-4959-9235-A6CE07C4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904-4A91-420C-8F7A-C515CE75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3C1-FE01-4C6C-BAC6-867EA0A6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EA7-DE18-47C8-A641-7BC2B7F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B62-1E8A-4E78-8976-4DB5ABC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15F-3FA6-49AA-A591-17AF74BF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07A-772B-44EF-A737-3B88D26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33C-5C96-4CB9-AD89-2F5A3BC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FE9-DC4D-4A05-8D80-18818B93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CFB8-62C6-42FE-8D6D-2DECA85F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dour.unsw.edu.au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4636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y zapachowej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ości powietrz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zeglą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flipH="1">
            <a:off x="6345000" y="4603680"/>
            <a:ext cx="2043000" cy="156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466200" y="260280"/>
            <a:ext cx="1584360" cy="316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64636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y zapachowej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ości powietrz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zeglą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44720" y="2384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0705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odour.unsw.edu.au/lin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3141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he University of New South Wales, Sydney,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40000" y="333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1339920"/>
            <a:ext cx="6335640" cy="475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18890400">
            <a:off x="819000" y="3370320"/>
            <a:ext cx="504720" cy="936360"/>
          </a:xfrm>
          <a:prstGeom prst="downArrow">
            <a:avLst>
              <a:gd name="adj1" fmla="val 50000"/>
              <a:gd name="adj2" fmla="val 46380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692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u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335640" cy="4751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0000" y="333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338000">
            <a:off x="2122200" y="2636640"/>
            <a:ext cx="504720" cy="936360"/>
          </a:xfrm>
          <a:prstGeom prst="downArrow">
            <a:avLst>
              <a:gd name="adj1" fmla="val 50000"/>
              <a:gd name="adj2" fmla="val 46380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692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u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40000" y="33336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692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u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68360" y="2421000"/>
          <a:ext cx="511200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421000"/>
                    <a:ext cx="511200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274920" y="45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niżej – kopie ekran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2276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Standardy zapachowej jakości powiet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Beata Krajewska, Joanna Kośm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hrona Powietrza i Problemy Odpadów </a:t>
            </a:r>
            <a:br>
              <a:rPr sz="18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p 181-191, 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(skrót  artykuł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995400"/>
            <a:ext cx="837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ubstancje zapachowe emitowane do atmosfery stanowią uciążliwość dla mieszkańców bezpośredniego sąsiedztwa emitorów. Wyniki tradycyjnych analiz jakościowych i ilościowych nie są wystarczającym źródłem informacji o zapachu badanych próbek powietrza. Z tego powodu dotrzymanie klasycznie wyrażanych standardów jakości powietrza – poziomów stężenia pojedynczych zanieczyszczeń (µg/m3) i dopuszczalnych częstości ich przekraczania – nie gwarantuje braku uciążliwości zapac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elu krajach europejskich i pozaeuropejskich, określono zapachowe standardy imisyjne jako najwyższy dopuszczalny percentyl stężenia zapachowego (cod [ouE/m3]) w powietrzu, standardy dotyczące emisji zapachowych (qod [ou/h]) lub diagramy minimalnych odległości źródeł emisji od budynków mieszkalnych. Równocześnie wprowadzono standardowe procedury oznaczania stężenia zapachowego metodami olfaktometrycznymi (w Europie – norma EN 1372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niniejszym artykule porównano standardy zapachowe obowiązujące w niektórych krajach Zjednoczonej Europy oraz w Japonii, Stanach Zjednoczonych Ameryki i w Australii. W Polsce analogiczne przepisy są przygotowyw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444320"/>
            <a:ext cx="86155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hrona zapachowej jakości powietrza w Eur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Unii Europejskiej nie wprowadzono dotychczas jednolitych przepisów – dyrektyw dotyczących ochrony zapachowej jakości powietrza. Standardy obowiązujące w poszczególnych krajach były wprowadzane stopniowo i modyfikowane na podstawie wieloletnich obserwacji skutków wprowadzania w ży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stawowe informacje na ich temat zestawiono w tabeli 1 oraz omówiono poniżej – na przykładzie kilku krajów (w tym wiodących w tej dziedzinie – Niemiec i Holand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333360"/>
            <a:ext cx="8353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ytowane piśmiennictw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migawara K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r Regulation and Odor Measurement in Jap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Odor Measurement Review, Office of Odor, Noise and Vibration Environmental Management Bereau, Wydawnictwo Ministerstwa Środowiska Japonii, 48-53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wek U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lasyfikacja źródeł uciążliwości zapachowej powietrza na podstawie analizy skarg ludnoś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V. Międzynarodowe Sympozjum: Integrated Air Qualit Control for Industrial and Commercial Sectors, Międzyzdroje’97, Wydawnictwo EKOCHEM, Szczecin 1997, 291-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śmider J., Mazur-Chrzanowska B., Wyszyński B.: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Odory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, Wyd. Nauk. PWN, Warszawa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wasaki Y.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actical Problems of Odor Measurements and Odor Contro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ast Asia Workshop on Odor Measurement and Control Review, Office of Odor, Noise and Vibration Environmental Management Breau, Wydawnictwo Ministerstwa Środowiska Japonii, 21-28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 Harreveld A. P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r Regulation and the History of Odor Measurement in Euro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Odor Measurement Review, Office of Odor, Noise and Vibration Environmental Management Breau, Wydawnictwo Ministerstwa Środowiska Japonii, 54-61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13725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ir Quality – Determination of Odour Concentration by Dynamic Olfactome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prPN-E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akość powietrza – Oznaczanie stężenia zapachowego metodą olfaktometrii dynamicznej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Ginley C. M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ements of Sucssessfull Odor/Odour 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WEF Odor/VOC 2000 Specialty Conference, Cincinnati, Ohio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I, Odours. Standard of knowledge in assessment of odour load and odour annoyance, Schriftenreiche des VDI Nr 12, Düsseldorf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tyczne VDI 3940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termination of Odourants in Ambient Air by Field Inspe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Düsseldorf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M E679-91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termination of Odour and Taste Threshold by a Forced Choice Ascending Concentration Series Method of Lim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idelines for Odour Sampling and Measurement by Dynamic Olfactome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Air and Waste Management Association, Pittsburgh (AWMA) EE-6, 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 Harreveld A. P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verview of Developments in Odour Measu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, 17-19 listopada 2004, 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 Broeck G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wards European Standardisation of Environmental Odour Policy Instrument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 2004, 91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 Broeck G., van Elst T., Nieuwejaers B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ent Odour Regulation Developments in Flanders: Ambient Odour  Quality Standards Based on Dose-Response Relation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ater Science and Technology, 44, 9, 103-110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n Elst T., van Broeck G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ur Policy in Flanders: Development of Standards for Cumulation of Nuis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 2004, 53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inova Y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mission Measurement in the Chech Legisl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CEM 2004, Milan, Włoch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8800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264636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y zapachowej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kości powietrz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zeglą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963" b="8219"/>
          <a:stretch/>
        </p:blipFill>
        <p:spPr>
          <a:xfrm>
            <a:off x="0" y="-27000"/>
            <a:ext cx="9180360" cy="149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00360" y="515772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81160"/>
            <a:ext cx="835344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yhláška Ministerstva životního prostředí, kterou se stanoví seznam znečišťujících látek, obecné emisní limity, způsob předávání zpráv a informací, zjišťování množství vypouštěných znečišťujících látek, tmavosti kouře, přípustné míry obtěžování zápachem a intenzity pachů, podmínky autorizace osob, požadavky na vedení provozní evidence zdrojů znečišťování ovzduší a podmínky jejich uplatňován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 vyhlášky č. 356/2002;  14.08.2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akel A. M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mulative Odour Policy and Spatial Z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 2004, 45-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Minister’s letter of June 1995 concerning odo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; list Ministra Środowiska Holandii do głównego dyrektora do spraw środowiska z dnia 30 czerwca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ucht indicatief meerjaren progamma lucht 1985-198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ry VROM, The Hague, Netherlands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R., Koch E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ur Regulation in Germany – an Improved System Including Odour Intensity, Hedonic Tone and Odour Annoy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 2004, 35-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deral Protection Act for Ambient Air. Act on the Prevention of Harmful Effects on the Environment Caused by Air Pollution, Noise, Vibration and Similar Phenomena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ederalne Ministerstwo Środowiska, Ochrony Przyrody i Bezpieczeństwa Nuklearnego BImSchG, 1974/1990/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chnical Instruction on Air Quality Contro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 Allgemeine Verwaltungsvorschrift zum Bundes-Imissionsschutzgesetz – Technische Anleitung zur Reinhaltung der Luft (TA-Luft), Federalne Ministerstwo Środowiska, Ochrony Przyrody i Bezpieczeństwa Nuklearnego,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ur Impact and Odour emission control. Measures for Intensive Agri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EPA Environmental Research, R&amp;D Report Series Nr 14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ffensive Odour Control 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Law No. 91 of 1971, uzupełnione przez Law No. 71, 1 czerwca 199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rizontal Guidance for Odou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art 2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ssessment and Control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chnical Guidance Note IPPC H4 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awa T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ur Regulation in Jap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ast Asia Workshop on Odor Measurement and Control Review, Office of Odor, Noise and Vibration Environmental Management Bereau, Wydawnictwo Ministerstwa Środowiska Japonii, 36-41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jita H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vironmental Odour Management in Jap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Environmental Odour Management, International Conference, Kolonia 2004, 71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Ginley C. M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ements of Sucssessfull Odor/Odour 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WEF Odor/VOC 2000 Specialty Conference, Cincinnati, Ohio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in T. D.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asurement and Regulation of Odors in the US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[w:] Materiały Odor Measurement Review, Office of Odor, Noise and Vibration Environmental Management Breau, Wydawnictwo Ministerstwa Środowiska Japonii, 62-67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J. Drag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gulations in the Netherlands, and some practical experi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 materiałach Semin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OURS’93: Odours - Control, Measurement, Regulations, Świnoujście 1993, 63-74, Wyd. EKOCHEM, Szczeci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281160"/>
            <a:ext cx="8353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erstellung und Beurteilung von Geruchsimmision (Geruchsimmisions Richtlinie)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nisterium fur Umwelt, Raumordung und Landwirtschaft des Landes Nordheim- Westfalen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Prinz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dou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gulations in Germ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 materiałach Semin. ODOURS’93: Odours - Control, Measurement, Regulations, Świnoujście 1993, 42-53, Wyd. EKOCHEM, Szczeci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 Knauer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perience with the odour control policy in Germ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 materiałach Semin. ODOURS’93: Odours - Control, Measurement, Regulations, Świnoujście 1993, 54-62, Wyd. EKOCHEM, Szczeci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ze, J., Schwinkowski, K., 1998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Thüringer vorläufige Verwaltungsvorschrift zur Feststellung und Beurteilung von Geruchsemissionen und Geruchsimmisionen. In: Gerüche in 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mwelt, VDI-Bericht 1373, Düsseldorf, pp. 401–4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Schauberger, M. Piringer, E. Petz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mnidirectional separation distance due to odour emission of livestock buildings calculated by the Austrian odour dispersion model (AODM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2000 ASAE Meeting Presentation, Paper No. 4029, Wisconsin, July 9-12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552760" y="762120"/>
          <a:ext cx="36702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762120"/>
                    <a:ext cx="3670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55760"/>
            <a:ext cx="66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gląd 1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BR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01800"/>
            <a:ext cx="669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gląd 2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Environmental Emissions &amp; Odour Laborato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492280"/>
            <a:ext cx="3672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03640" y="115920"/>
            <a:ext cx="2808360" cy="110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8520" y="3860640"/>
            <a:ext cx="28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dour Policies/Reg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941720"/>
            <a:ext cx="860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gląd 3                         Streszczenie artykułu: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jewska B., Kośmider J.: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Standardy zapachowej jakości powietrza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hrona Powietrza i Problemy Odpad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p 181-191, 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24720" y="525600"/>
          <a:ext cx="118764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24720" y="525600"/>
                    <a:ext cx="11876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093080" y="2637000"/>
          <a:ext cx="205092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2637000"/>
                    <a:ext cx="2050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8000" y="2276640"/>
            <a:ext cx="88930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4508640"/>
            <a:ext cx="889308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765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odournet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02112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u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40000" y="189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907920"/>
            <a:ext cx="792360" cy="1225800"/>
          </a:xfrm>
          <a:prstGeom prst="downArrow">
            <a:avLst>
              <a:gd name="adj1" fmla="val 50000"/>
              <a:gd name="adj2" fmla="val 38676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47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odournet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189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972000" y="2276640"/>
            <a:ext cx="792360" cy="936720"/>
          </a:xfrm>
          <a:prstGeom prst="downArrow">
            <a:avLst>
              <a:gd name="adj1" fmla="val 50000"/>
              <a:gd name="adj2" fmla="val 29555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7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odournet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189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gląd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03640" y="2349360"/>
          <a:ext cx="3097080" cy="17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349360"/>
                    <a:ext cx="3097080" cy="17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564000" y="476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odournet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0200" y="51498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oniżej – fragmenty tekstu z ww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24:44Z</dcterms:created>
  <dc:creator>ibm</dc:creator>
  <dc:description/>
  <dc:language>en-US</dc:language>
  <cp:lastModifiedBy>ibm</cp:lastModifiedBy>
  <dcterms:modified xsi:type="dcterms:W3CDTF">2008-09-07T15:29:27Z</dcterms:modified>
  <cp:revision>40</cp:revision>
  <dc:subject/>
  <dc:title>Slajd 1</dc:title>
</cp:coreProperties>
</file>