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541-C9DC-43A5-9D20-546FE369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5E7-C934-41DD-9D42-DE9F5D1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7FF-98D9-4032-9AD9-23503FB2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29D-4CDC-4BB3-9A72-DEEF29BA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9FA-04B9-4182-B017-2E88F841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BB0-9A50-432B-9B1B-4FC9156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8E-02AA-47F4-BA50-BF0C983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1F2-DBA0-4517-B6C8-B6BC228E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403-01C0-4EBD-9D5D-91337B1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E9A-D28D-4679-8F20-0A60382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84B-CF39-4C80-AC2C-07D6B16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838-96EE-48DF-A4B3-EB6CD58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468-0C39-44BA-8EC1-1EB7616C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y olfaktometri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STAWOWE  POJĘCIA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„PRÓG WYCZUWALNOŚCI”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„JEDNOSTKA ZAPACHOWA”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„ZESPÓŁ”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„POMIAR”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„METODY RÓŻNICOW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176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492280"/>
            <a:ext cx="87854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9120" y="4102200"/>
            <a:ext cx="6297840" cy="87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14680" y="4102200"/>
            <a:ext cx="6273720" cy="88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73280" y="4135320"/>
            <a:ext cx="6289560" cy="876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56000" y="4127400"/>
            <a:ext cx="6297480" cy="868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90960" y="4411800"/>
            <a:ext cx="122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589120" y="2897280"/>
            <a:ext cx="6297840" cy="87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45120" y="2517840"/>
            <a:ext cx="2305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NI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ed rozcieńczeni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=  3 ou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/ m</a:t>
            </a:r>
            <a:r>
              <a:rPr b="1" lang="pl-PL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639720"/>
            <a:ext cx="568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sada oznaczania stężenia zapachowego nieznanych zanieczyszczeń,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pl-PL" sz="2000" spc="-1" strike="noStrike" baseline="-25000">
                <a:solidFill>
                  <a:srgbClr val="000000"/>
                </a:solidFill>
                <a:latin typeface="Arial"/>
              </a:rPr>
              <a:t>od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[ou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1508040"/>
            <a:ext cx="67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eżeli pomiar jest wykonywany zgodnie z PN-EN 13725, </a:t>
            </a: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wynikiem  jest c</a:t>
            </a:r>
            <a:r>
              <a:rPr b="1" i="1" lang="pl-PL" sz="16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[ou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900000" y="2997360"/>
            <a:ext cx="1492200" cy="207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76440" y="2997360"/>
            <a:ext cx="1734840" cy="208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604800" y="2997360"/>
            <a:ext cx="1735200" cy="232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11280" y="2997360"/>
            <a:ext cx="1793880" cy="230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1116000" y="4076640"/>
            <a:ext cx="968400" cy="870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377208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  TA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7600" y="2997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176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492280"/>
            <a:ext cx="87854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89120" y="4102200"/>
            <a:ext cx="6297840" cy="87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14680" y="4102200"/>
            <a:ext cx="6273720" cy="88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73280" y="4135320"/>
            <a:ext cx="6289560" cy="876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556000" y="4127400"/>
            <a:ext cx="6297480" cy="86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20720" y="2925720"/>
            <a:ext cx="1979640" cy="1871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0960" y="4411800"/>
            <a:ext cx="122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76360" y="3213000"/>
            <a:ext cx="1979640" cy="1871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3772080"/>
            <a:ext cx="15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  TA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2589120" y="2897280"/>
            <a:ext cx="6297840" cy="876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59280" y="2228760"/>
            <a:ext cx="3168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ANALIZA GC :   c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=  3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566640"/>
            <a:ext cx="676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sada oznaczania indywidualnego progu węchowej wyczuwalności  związku A,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1508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ndividual Threshold Estima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140440"/>
            <a:ext cx="417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YNIK: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 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1 p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957240" y="4081320"/>
            <a:ext cx="950760" cy="882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404640"/>
            <a:ext cx="8280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ADANIA  WARTOŚCI  INDYWIDUAL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ą prowadzone w celu selekcj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ndydatów do zespołów pomiar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suje się próbki o znanym stężeniu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reślonego, czystego związku chemiczn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ADANIA  ZESPOŁ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wadzi się zwykle w celu określenia łączneg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stężenia zapachowego” licznych zanieczyszczeń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zeczywistych próbek zanieczyszczonego powietr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ą wykonywane przez zespół – czyli grupę ludzi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łniających kryteria selek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8920" y="113364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NANY BODZIEC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CENIANA SPRAWNOŚĆ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„ELEMENTÓW PRZYRZĄDU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OMIAROWEG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70680" y="3801960"/>
            <a:ext cx="296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ZNANA SPRAWNOŚĆ „PRZYRZĄDU POMIAROWEGO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OSZUKIW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IELKOŚĆ  BODŹ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5843520"/>
            <a:ext cx="802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ezależnie od celu badań stosuje się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  same ogólne zasady postępowani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taki sam sprzęt pomiarow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LFAKTOMETRIA  DYNAMICZNA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lfaktometry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zebieg  pomiaró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4176720" cy="3354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218160"/>
            <a:ext cx="914400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lfaktometr dynamiczny jest urządzeniem rozcieńczający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mień badanej próbki strumieniem czystego powietrz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ządzenie powinno spełniać następujące wymagan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216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żliwość rozcieńczania w zakresie od &lt; 2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216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żliwość ustawienia współczynnika kroku między rozcieńczeniami od 1,4 do 2,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216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mień wypływający z króćca pomiarowego: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 d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/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216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ędkość powietrza wypływającego z króćca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0,2 m/s  i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0,5 m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1969" r="0" b="0"/>
          <a:stretch/>
        </p:blipFill>
        <p:spPr>
          <a:xfrm>
            <a:off x="4498920" y="2924280"/>
            <a:ext cx="4537080" cy="3336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738360"/>
            <a:ext cx="8208720" cy="47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owanie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óbki powietrza o znanym stężeniu n-butanolu</a:t>
            </a:r>
            <a:br>
              <a:rPr sz="18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analiza lub odmierzanie ilości cieczy i powietrza) </a:t>
            </a:r>
            <a:br>
              <a:rPr sz="16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ub pobranie próbki rzeczywist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owanie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„serii rozcieńczeń”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róbki czystym powietrz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jbardziej rozcieńczona próbka serii powinna być bezwonna dla wszystkich oceniających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 wszystkie wartośc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powinny stanowić szereg geometryczny, 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np.  Z = 2, 4, 8, 16, 32 …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(konsekwencja prawa Webera-Fechner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ezentacja próbek serii rozcieńczeń oceniającem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ekwencyjnie w górę </a:t>
            </a:r>
            <a:br>
              <a:rPr sz="18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(coraz większe stężenie odoranta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ekwencyjnie w dół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(coraz mniejsze stężenie odoran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66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kolejności losow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66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66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jczęściej stosuje się 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metody wymuszonego wyboru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249880"/>
            <a:ext cx="8281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sowanie pierwszej z tych metod pozwala zmniejszyć błędy spowodowane adaptacją węchu do danego zapachu (zbyt krótkimi przerwami między kolejnymi prezentacjami). Przyczyną błędów może być jednak autosugestia (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„błąd oczekiwania”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soba badana wie, że stężenie odoranta jest coraz wyższe i zna zapach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a który oczekuje). Błąd ten można zmniejszyć często przerywając serię prezentacji kolejnych próbek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coraz większym stężeniu prezentacjami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„ślepej próby”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czyste powietrze). Ślepa próba jest prezentowan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 kolejności losowej. Osoba oceniana powinna wiedzieć, że pewna część próbek (zgodnie z PN-EN 1372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 najmniej 20%) to czyste powietr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2560" y="85680"/>
            <a:ext cx="604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Oznaczenia  </a:t>
            </a:r>
            <a:r>
              <a:rPr b="1" i="1" lang="pl-PL" sz="2400" spc="-1" strike="noStrike">
                <a:solidFill>
                  <a:srgbClr val="0033cc"/>
                </a:solidFill>
                <a:latin typeface="Arial"/>
              </a:rPr>
              <a:t>ITE</a:t>
            </a:r>
            <a:r>
              <a:rPr b="1" lang="pl-PL" sz="2400" spc="-1" strike="noStrike" baseline="-25000">
                <a:solidFill>
                  <a:srgbClr val="0033cc"/>
                </a:solidFill>
                <a:latin typeface="Arial"/>
              </a:rPr>
              <a:t>n-butanol </a:t>
            </a: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 i  c</a:t>
            </a:r>
            <a:r>
              <a:rPr b="1" lang="pl-PL" sz="2400" spc="-1" strike="noStrike" baseline="-25000">
                <a:solidFill>
                  <a:srgbClr val="0033cc"/>
                </a:solidFill>
                <a:latin typeface="Arial"/>
              </a:rPr>
              <a:t>od </a:t>
            </a: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[ou/m</a:t>
            </a:r>
            <a:r>
              <a:rPr b="1" lang="pl-PL" sz="2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337824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toda TAK-NI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5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tody różnic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1720" y="3591360"/>
            <a:ext cx="8091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NIE-NIE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MS Mincho"/>
              </a:rPr>
              <a:t>TAK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(niebieska czcionka – „ślepa próba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1080" y="11592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toda TAK-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628640"/>
            <a:ext cx="83883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perator prezentuje poszczególne próbki serii osobie badanej prosząc o odpowiedź TAK (czuję) lub NIE (nie czuję). Niektóre procedury pomiarów dopuszczają przyjmowanie odpowiedzi NIE WIEM  lub zalecają gromadzenie trzech rodzajów odpowiedzi: NIE, TAK (zgaduję) i TAK (jestem pewny).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ając próbki „sekwencyjnie w górę” oczekujemy – w najprostszym przypadku - odpowiedz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toda TAK-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940320"/>
            <a:ext cx="849636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cc"/>
                </a:solidFill>
                <a:latin typeface="Arial"/>
                <a:ea typeface="MS Mincho"/>
              </a:rPr>
              <a:t>Prezentacja jednej osobie jednej serii rozcieńczeń próbki z n-butanolem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 pozwala oszacować indywidualny próg wyczuwalności zapachu n-butanolu,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ITE</a:t>
            </a:r>
            <a:r>
              <a:rPr b="1" i="1" lang="pl-PL" sz="16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n-butanol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Jest to średnia geometryczna między stężeniami odoranta (c),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odpowiadającymi ostatniej odpowiedzi NIE i pierwszej T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63840" y="4653000"/>
                <a:ext cx="41450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TE</m:t>
                        </m:r>
                      </m:e>
                      <m:sub/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tatnieNI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erwszeTAK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68360" y="2953440"/>
            <a:ext cx="80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NIE-NIE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NIE-TAK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3789360"/>
            <a:ext cx="633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463840" y="4667400"/>
                <a:ext cx="41450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tatnieNI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erwszeTAK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68360" y="2953440"/>
            <a:ext cx="80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NIE-NIE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NIE-TAK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-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  <a:ea typeface="MS Mincho"/>
              </a:rPr>
              <a:t>N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MS Mincho"/>
              </a:rPr>
              <a:t>-TAK-T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789360"/>
            <a:ext cx="633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0 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940320"/>
            <a:ext cx="849636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MS Mincho"/>
              </a:rPr>
              <a:t>Prezentacja jednej osobie jednej serii rozcieńczeń próbki o nieznanym składz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pozwala obliczyć „indywidualne oszacowanie stężenia zapachowego”,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Jest to średnia geometryczna między wartościami stopnia rozcieńczenia Z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odpowiadającymi ostatniej odpowiedzi NIE i pierwszej T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83120"/>
            <a:ext cx="89946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óg wyczuwalności zapachu pojedynczego zanieczyszc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ub mieszaniny zanieczyszcze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lasycznie definiuje się jako takie stężenie (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[μg/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]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 którym zapach wyczuwa około 50% populacji ogólnej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ziomy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dla poszczególnych związków są bardzo zróżnicowa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 poziomy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eszanin – nieznane i nieprzewidywal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Podstawą olfaktometrii jest umowne przypisanie </a:t>
            </a:r>
            <a:br>
              <a:rPr sz="2000"/>
            </a:b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każdej z tych różnych wart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tej samej, jednostkowej wartości „stężenia zapachoweg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324000" y="4149720"/>
            <a:ext cx="8820360" cy="2158920"/>
            <a:chOff x="-324000" y="4149720"/>
            <a:chExt cx="8820360" cy="2158920"/>
          </a:xfrm>
        </p:grpSpPr>
        <p:sp>
          <p:nvSpPr>
            <p:cNvPr id="44" name=""/>
            <p:cNvSpPr/>
            <p:nvPr/>
          </p:nvSpPr>
          <p:spPr>
            <a:xfrm>
              <a:off x="684360" y="4149720"/>
              <a:ext cx="7684920" cy="2158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324000" y="4476600"/>
              <a:ext cx="8820360" cy="17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Jednostka zapachowa, 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odour unit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,                    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Stężenie zapachowe, 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odour concentration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,     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0000ff"/>
                  </a:solidFill>
                  <a:latin typeface="Arial"/>
                </a:rPr>
                <a:t>od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 [ou/m</a:t>
              </a:r>
              <a:r>
                <a:rPr b="1" lang="pl-PL" sz="2000" spc="-1" strike="noStrike" baseline="30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Próg wyczuwalności, 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detection threshold</a:t>
              </a:r>
              <a:r>
                <a:rPr b="1" i="1" lang="pl-P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0000ff"/>
                  </a:solidFill>
                  <a:latin typeface="Arial"/>
                </a:rPr>
                <a:t>th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 [</a:t>
              </a:r>
              <a:r>
                <a:rPr b="1" lang="el-GR" sz="20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g/m</a:t>
              </a:r>
              <a:r>
                <a:rPr b="1" lang="pl-PL" sz="2000" spc="-1" strike="noStrike" baseline="30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i="1" lang="pl-PL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pl-PL" sz="2000" spc="-1" strike="noStrike" baseline="-25000">
                  <a:solidFill>
                    <a:srgbClr val="0000ff"/>
                  </a:solidFill>
                  <a:latin typeface="Arial"/>
                </a:rPr>
                <a:t>od,th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 = 1 ou/m</a:t>
              </a:r>
              <a:r>
                <a:rPr b="1" lang="pl-PL" sz="2000" spc="-1" strike="noStrike" baseline="30000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miar metodą  TAK-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5373" t="1467" r="3224" b="8070"/>
          <a:stretch/>
        </p:blipFill>
        <p:spPr>
          <a:xfrm>
            <a:off x="73080" y="2349360"/>
            <a:ext cx="4643280" cy="336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59280" y="1125360"/>
            <a:ext cx="41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m „TO7”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anie progu wyczuwalności  węchow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użyciem olfaktometru TO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788000" y="2333520"/>
            <a:ext cx="42210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0973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4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pomi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2040" r="0" b="0"/>
          <a:stretch/>
        </p:blipFill>
        <p:spPr>
          <a:xfrm>
            <a:off x="395280" y="814320"/>
            <a:ext cx="8353440" cy="3406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26028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godnie z PN-EN 13725 pomiar składa się z kolejnych cykli, a cykl – z ser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408560"/>
            <a:ext cx="82296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rozcieńcze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prezentacja wszystkich rozcieńczeń jednemu członkowi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ykle jest to 5 lub 6 (co najmniej 3) prezentacji o malejącej wartości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prezentacj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jednego rozcieńczenia wszystkim członkom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yk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całej serii rozcieńczeń wszystkim członkom zespoł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mia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kłada się z co najmniej trzech cykli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wszy z cykli może być traktowany jako treningowy. Jego wyniki mogą systematycznie nie być uwzględniane podczas obliczeń (zgodnie z regulaminem laboratoriu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349360"/>
            <a:ext cx="3889440" cy="20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 poprawnie wykonanej serii malejących rozcieńczeń co najmniej dwa 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jawiają się po co najmniej jednym 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NI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nikiem serii jest wartość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zyli średnia geometryczna między ostatnim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NI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pierwszym z co najmniej dwóch kolejnyc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A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pomi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0" b="8508"/>
          <a:stretch/>
        </p:blipFill>
        <p:spPr>
          <a:xfrm>
            <a:off x="378000" y="819000"/>
            <a:ext cx="8367480" cy="3414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0" r="0" b="6077"/>
          <a:stretch/>
        </p:blipFill>
        <p:spPr>
          <a:xfrm>
            <a:off x="395280" y="814320"/>
            <a:ext cx="8353440" cy="3500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2349360"/>
            <a:ext cx="3889440" cy="20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 poprawnie wykonanej serii malejących rozcieńczeń co najmniej dwa 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jawiają się po co najmniej jednym 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NI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nikiem serii jest wartość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zyli średnia geometryczna między ostatnim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NI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pierwszym z co najmniej dwóch kolejnyc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TA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408560"/>
            <a:ext cx="82296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rozcieńcze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prezentacja wszystkich rozcieńczeń jednemu członkowi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ykle jest to 5 lub 6 (co najmniej 3) prezentacji o malejącej wartości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prezentacj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jednego rozcieńczenia wszystkim członkom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yk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całej serii rozcieńczeń wszystkim członkom zespoł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mia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kłada się z co najmniej trzech cykli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wszy z cykli może być traktowany jako treningowy. Jego wyniki mogą systematycznie nie być uwzględniane podczas obliczeń (zgodnie z regulaminem laboratoriu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6028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godnie z PN-EN 13725 pomiar składa się z kolejnych cykli, a cykl – z ser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pomi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384120" y="817560"/>
            <a:ext cx="8364600" cy="3483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93800" y="2874960"/>
            <a:ext cx="2652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sując metodę TAK/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każdej serii rozcieńcze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leży włączy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najmniej jedną próbkę ślep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ZER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  pozycja w serii – losow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4408560"/>
            <a:ext cx="82296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rozcieńcze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prezentacja wszystkich rozcieńczeń jednemu członkowi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ykle jest to 5 lub 6 (co najmniej 3) prezentacji o malejącej wartości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eria prezentacj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jednego rozcieńczenia wszystkim członkom zespoł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yk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 prezentacja całej serii rozcieńczeń wszystkim członkom zespołu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mia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kłada się z co najmniej trzech cykli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wszy z cykli może być traktowany jako treningowy. Jego wyniki mogą systematycznie nie być uwzględniane podczas obliczeń (zgodnie z regulaminem laboratoriu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26028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godnie z PN-EN 13725 pomiar składa się z kolejnych cykli, a cykl – z ser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pomi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384120" y="817560"/>
            <a:ext cx="8364600" cy="3483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4433760"/>
            <a:ext cx="91440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 przeprowadzeniu pomiaru operator powinien dysponowa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najmniej dwunastoma wartościami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 najmniej 3 cykle * co najmniej 4 członków zespołu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3800" y="2874960"/>
            <a:ext cx="2652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sując metodę TAK/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każdej serii rozcieńcze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leży włączy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najmniej jedną próbkę ślep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ZER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  pozycja w serii – losow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6028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godnie z PN-EN 13725 pomiar składa się z kolejnych cykli, a cykl – z ser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3429000"/>
            <a:ext cx="835164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cena sprawności węc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żeli rozcieńczaną próbką jest powietrze zanieczyszczone n-butanolem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tórego stężenie (c) jest znane, indywidualny próg wyczuwalności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cza się jako iloraz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y ocenić, czy oceniana osoba może być członkiem zespołu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leży zgromadzić co najmniej 10 wartości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 sprawdzić zgodność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kryteriam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średnia geometryczna  w zakresie 20-80 pp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ylogarytm z odchylenia standardowego zbioru logarytmów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2,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90680"/>
            <a:ext cx="8424720" cy="27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Obliczanie stężenia zapachowego (c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od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zebranych wartości Z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oblicza się średnią geometryczną i sprawdza,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y ilorazy 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1" lang="pl-PL" sz="1600" spc="-1" strike="noStrike" baseline="-25000">
                <a:solidFill>
                  <a:srgbClr val="0000ff"/>
                </a:solidFill>
                <a:latin typeface="Arial"/>
              </a:rPr>
              <a:t>ITE 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/ Z</a:t>
            </a:r>
            <a:r>
              <a:rPr b="1" lang="pl-PL" sz="1600" spc="-1" strike="noStrike" baseline="-25000">
                <a:solidFill>
                  <a:srgbClr val="0000ff"/>
                </a:solidFill>
                <a:latin typeface="Arial"/>
              </a:rPr>
              <a:t>ITE,ś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eszczą się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zakresie 0,2-5,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żeli tak, wartość średnią uznaje się za wynik pomia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żeli nie, wyłączane są wszystkie wyniki tego członka zespołu, którego wyniki były najbardziej odstające, po czym powtarza się sprawdzanie zgodności pozostałych wyników z kryterium weryfikacj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miar jest ważny, jeżeli kryteria spełniają co najmniej 4 osob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943200"/>
            <a:ext cx="8353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Podczas badań wrażliwości węchu i pomiarów stężenia zapachowego stosowa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są najczęściej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testy „parzyste”, „trójkątowe” i „dwa z pięciu”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MS Minch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Osobie wykonującej „test parzysty” lub „test trójkątowy” są prezentowane dwi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lub trzy próbki (odpowiedni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W laboratoriach odorymetrii środowiskowej zwykle porównuje się próbkę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lub dwie próbki czystego powietrza  z próbką powietrza zanieczyszczoneg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Próbka zanieczyszczona, to powietrze zawierające znaną iloś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określonego związku chem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(badania sprawności węchu lub oznaczenia progu wyczuwalnoś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adanego gazu rzeczywistego, zawierającego nieznane zanieczysz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(oznaczenia stężenia zapachowego zanieczyszczeń przemysłowych itp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Uczestnicy badań są proszeni o powąchanie obu lub wszystkich trzech próbek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i wskazanie, która z nich jest zanieczyszczon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620800"/>
            <a:ext cx="144792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20800"/>
            <a:ext cx="144792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ody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tody różnic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1206720"/>
            <a:ext cx="8353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Podczas badań wrażliwości węchu i pomiarów stężenia zapachowego stosowa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są najczęściej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testy „parzyste”, „trójkątowe” i „dwa z pięciu”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MS Minch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Osobie wykonującej „test parzysty” lub „test trójkątowy” są prezentowane dwi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lub trzy próbki (odpowiednio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W laboratoriach odorymetrii środowiskowej zwykle porównuje się próbkę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lub dwie próbki czystego powietrza  z próbką powietrza zanieczyszczoneg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Próbka zanieczyszczona, to powietrze zawierające znaną iloś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określonego związku chem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(badania sprawności węchu lub oznaczenia progu wyczuwalnoś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adanego gazu rzeczywistego, zawierającego nieznane zanieczyszcz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(oznaczenia stężenia zapachowego zanieczyszczeń przemysłowych itp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Uczestnicy badań są proszeni o powąchanie obu lub wszystkich trzech próbek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MS Mincho"/>
              </a:rPr>
              <a:t>i wskazanie, która z nich jest zanieczyszczon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19640" y="4111560"/>
                <a:ext cx="14400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p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erw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95280" y="597600"/>
            <a:ext cx="828036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Jeżeli stosowana jest „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metoda wymuszonego wyboru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” – próbkę zanieczyszczoną trzeba wskazać również wtedy, gdy zapach próbek uważamy za identyczn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Prawdopodobieństwo poprawnego wskazania próbki zanieczyszczonej jest równe 1/2 lub 1/3, zależnie tego, czy wykonujemy test parzysty, czy trójkątow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MS Mincho"/>
              </a:rPr>
              <a:t>Uwaga:     wnioskowanie na podstawie rachunku prawdopodobieństwa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MS Mincho"/>
              </a:rPr>
              <a:t>                  wymaga wielokrotnych powtórzeń testu!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Indywidualny próg węchowej wyczuwalności jest wyznaczany z wykorzystaniem skorygowanego udziału poprawnych wskazań (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f </a:t>
            </a:r>
            <a:r>
              <a:rPr b="1" i="1" lang="pl-PL" sz="1600" spc="-1" strike="noStrike" baseline="-30000">
                <a:solidFill>
                  <a:srgbClr val="000000"/>
                </a:solidFill>
                <a:latin typeface="Arial"/>
                <a:ea typeface="MS Mincho"/>
              </a:rPr>
              <a:t>pop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MS Mincho"/>
              </a:rPr>
              <a:t>), obliczanego dla obu testów jako, odpowiedn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14000" y="44604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lub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9600" y="5567400"/>
            <a:ext cx="718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Próg wyczuwalno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ś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ci to st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ęż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enie, któremu odpowiada warto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ść   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  <a:ea typeface="MS Mincho"/>
              </a:rPr>
              <a:t> 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  <a:ea typeface="MS Mincho"/>
              </a:rPr>
              <a:t>f </a:t>
            </a:r>
            <a:r>
              <a:rPr b="1" i="1" lang="pl-PL" sz="1600" spc="-1" strike="noStrike" baseline="-30000">
                <a:solidFill>
                  <a:srgbClr val="0000ff"/>
                </a:solidFill>
                <a:latin typeface="Times New Roman"/>
                <a:ea typeface="MS Mincho"/>
              </a:rPr>
              <a:t>popr 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  <a:ea typeface="MS Mincho"/>
              </a:rPr>
              <a:t>= 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340000" y="4110120"/>
                <a:ext cx="15843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p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erw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2620800"/>
            <a:ext cx="144792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620800"/>
            <a:ext cx="144792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6360" y="478080"/>
            <a:ext cx="899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normie EN13725:2003 definicję jednostki, odwołującą się do populacji ogólnej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stąpiono definicją opartą na cechach węch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niej zróżnicowanej populacji standardowej (członkowie „zespołu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08000" y="1561320"/>
            <a:ext cx="91440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Prawdopodobieństwo wyczucia zapac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przez członków zespołu jest równe 0,5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gdy stężenie zapachowe jest rów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dnej europejskiej jednostce zapachowej (ou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) w metrze sześciennym: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od,th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= 1 o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/m</a:t>
            </a:r>
            <a:r>
              <a:rPr b="1" lang="pl-PL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artości europejskiej jednostki zapachow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ada masa n-butanolu rów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1ou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 = 123 μg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EROM,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European Reference Odour Mass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22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JĘCIE  „ZESPÓŁ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zespó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918360"/>
            <a:ext cx="8532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czas selekcji kandydatów wykonuje się co najmniej dziesięć oznaczeń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indywidualnego progu wyczuwalności zapachu n-butanolu,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n-butan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ndividual Threshold Estima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miary są wykonywane w czasie co najmniej trzech sesji pomiarow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co najmniej jednym dniem przerwy między sesja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8200" y="3513240"/>
            <a:ext cx="8281800" cy="26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liczana jest średnia geometryczna z uzyskanych wartości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n-butanol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[μg/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az odchylenie standardowe z logarytmów tych wartości (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IT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łonkiem zespołu może być osoba, dla której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średnia geometryczna z </a:t>
            </a:r>
            <a:r>
              <a:rPr b="1" i="1" lang="pl-PL" sz="2000" spc="-1" strike="noStrike">
                <a:solidFill>
                  <a:srgbClr val="0000ff"/>
                </a:solidFill>
                <a:latin typeface="Arial"/>
              </a:rPr>
              <a:t>ITE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n-butanol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mieści si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w zakresie od 62μg/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do 246μg/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(20-80pp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antylogarytm z </a:t>
            </a:r>
            <a:r>
              <a:rPr b="1" i="1" lang="pl-PL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i="1" lang="pl-PL" sz="2000" spc="-1" strike="noStrike" baseline="-25000">
                <a:solidFill>
                  <a:srgbClr val="0000ff"/>
                </a:solidFill>
                <a:latin typeface="Arial"/>
              </a:rPr>
              <a:t>ITE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  jest mniejszy niż 2,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464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zespołu mogą być przyjęte osoby spełniające określ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ryteria, dotyczące sprawności węch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1764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jęcie  „zespó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9800" y="476280"/>
            <a:ext cx="5002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T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g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7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9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9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7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0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9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40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,1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REDN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9,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DCH.STD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32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360" y="3805200"/>
            <a:ext cx="8947440" cy="3014640"/>
            <a:chOff x="63360" y="3805200"/>
            <a:chExt cx="8947440" cy="3014640"/>
          </a:xfrm>
        </p:grpSpPr>
        <p:graphicFrame>
          <p:nvGraphicFramePr>
            <p:cNvPr id="56" name=""/>
            <p:cNvGraphicFramePr/>
            <p:nvPr/>
          </p:nvGraphicFramePr>
          <p:xfrm>
            <a:off x="63360" y="3822840"/>
            <a:ext cx="4427640" cy="29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60" y="3822840"/>
                      <a:ext cx="4427640" cy="29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4475160" y="3805200"/>
            <a:ext cx="4535640" cy="298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75160" y="3805200"/>
                      <a:ext cx="4535640" cy="298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466560" y="520560"/>
            <a:ext cx="8228160" cy="622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80000" y="4791240"/>
            <a:ext cx="331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śr ge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= 10 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</a:rPr>
              <a:t>2,5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= 316,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79640" y="4428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gresja:    Dlaczego obliczamy średnią geometryczn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1724040"/>
            <a:ext cx="35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śr aryt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= (20+30) / 2 =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6297" t="0" r="0" b="3799"/>
          <a:stretch/>
        </p:blipFill>
        <p:spPr>
          <a:xfrm>
            <a:off x="971640" y="1147680"/>
            <a:ext cx="84132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2560" y="3452760"/>
            <a:ext cx="1013040" cy="164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26000" y="200484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2480" y="157968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98920" y="164952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698920" y="20829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40040" y="47149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02000" y="437364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626920" y="44258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98920" y="4805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410920" y="18651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10920" y="46227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27400" y="27702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21280" y="54500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1734" t="2237" r="0" b="2237"/>
          <a:stretch/>
        </p:blipFill>
        <p:spPr>
          <a:xfrm>
            <a:off x="5867280" y="3519360"/>
            <a:ext cx="2737080" cy="2063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372360" y="5641920"/>
            <a:ext cx="27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←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cz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szereg  stęże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651640" y="4221000"/>
            <a:ext cx="3476520" cy="48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JĘCIE  „STĘŻENIE ZAPACHOWE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-176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856800"/>
            <a:ext cx="88153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Stężenie zapachowe (c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od 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[ou</a:t>
            </a:r>
            <a:r>
              <a:rPr b="1" lang="pl-PL" sz="20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/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]) </a:t>
            </a:r>
            <a:br>
              <a:rPr sz="2000"/>
            </a:b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jest tyle razy większe od jednośc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ile razy trzeba rozcieńczyć badaną próbkę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Arial"/>
              </a:rPr>
              <a:t>aby osiągnąć próg wyczuwalności zapachu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od,th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=  1 o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/m</a:t>
            </a:r>
            <a:r>
              <a:rPr b="1" lang="pl-PL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od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[o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/m</a:t>
            </a:r>
            <a:r>
              <a:rPr b="1" lang="pl-PL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]  =  </a:t>
            </a:r>
            <a:r>
              <a:rPr b="1" i="1" lang="pl-PL" sz="24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50%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– stopień rozcieńczenia próbki czystym powietrz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 którym prawdopodobieństwo wyczucia zapachu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z członków zespołu jest równe 0,5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160"/>
            <a:ext cx="849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ja stężenia zapachowego określonego związku chem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 dowolnej mieszaniny zanieczyszczeń powietr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st konsekwencją wyboru jednostki pomiarowej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2:24:48Z</dcterms:created>
  <dc:creator>Joanna Kośmider</dc:creator>
  <dc:description/>
  <dc:language>en-US</dc:language>
  <cp:lastModifiedBy>ibm</cp:lastModifiedBy>
  <dcterms:modified xsi:type="dcterms:W3CDTF">2008-09-06T18:43:59Z</dcterms:modified>
  <cp:revision>653</cp:revision>
  <dc:subject/>
  <dc:title>Bez tytułu slajdu</dc:title>
</cp:coreProperties>
</file>