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gif" ContentType="image/gif"/>
  <Override PartName="/ppt/media/image12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image5.wmf" ContentType="image/x-wmf"/>
  <Override PartName="/ppt/media/image6.jpeg" ContentType="image/jpeg"/>
  <Override PartName="/ppt/media/image13.png" ContentType="image/png"/>
  <Override PartName="/ppt/media/image9.jpeg" ContentType="image/jpeg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0A4D-8AA7-4DD2-842E-55B51FF33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AC12-80E1-416E-A27E-8C3CD592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35E0-EB8B-4E72-B624-740EAB09F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46E1-6C50-4D1B-9E86-2DD43CBCE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9CA6-4E79-4F19-8B16-7080937D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1CBD-A295-4078-BFCF-9359C924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F55F-3C71-4ABB-8011-E32DCB07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B186-D15F-496A-871F-DAE79E97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5608-C8CD-472F-9D2B-83A1E01C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B67C-7BC7-41A6-BA30-9081E7F6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4AD5-280A-41E6-8E78-2065837B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0339-3F6D-4714-83CE-69C292D4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21D9-010D-406E-90EB-6E05BCB39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forcetechnology.com/NR/rdonlyres/E5724250-E906-44A3-91BF-BC6BB97A18D8/1352/061019_miljonews_2_web.pdf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olfatec.de/eng/ring/ring.html" TargetMode="External"/><Relationship Id="rId2" Type="http://schemas.openxmlformats.org/officeDocument/2006/relationships/hyperlink" Target="http://www.olfatec.de/eng/ring/ring.html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olfatec.de/" TargetMode="External"/><Relationship Id="rId3" Type="http://schemas.openxmlformats.org/officeDocument/2006/relationships/hyperlink" Target="http://www.olfatec.de/" TargetMode="External"/><Relationship Id="rId4" Type="http://schemas.openxmlformats.org/officeDocument/2006/relationships/hyperlink" Target="http://www.olfatec.de/" TargetMode="External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gif"/><Relationship Id="rId4" Type="http://schemas.openxmlformats.org/officeDocument/2006/relationships/hyperlink" Target="http://articles.gourt.com/ca/Olfacte" TargetMode="External"/><Relationship Id="rId5" Type="http://schemas.openxmlformats.org/officeDocument/2006/relationships/hyperlink" Target="http://articles.gourt.com/de/Olfaktorische%20Wahrnehmung" TargetMode="External"/><Relationship Id="rId6" Type="http://schemas.openxmlformats.org/officeDocument/2006/relationships/hyperlink" Target="http://articles.gourt.com/de/Olfaktorische%20Wahrnehmung" TargetMode="External"/><Relationship Id="rId7" Type="http://schemas.openxmlformats.org/officeDocument/2006/relationships/hyperlink" Target="http://articles.gourt.com/de/Olfaktorische%20Wahrnehmung" TargetMode="External"/><Relationship Id="rId8" Type="http://schemas.openxmlformats.org/officeDocument/2006/relationships/hyperlink" Target="http://articles.gourt.com/en/Olfaction" TargetMode="Externa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articles.gourt.com/ca/Olfacte" TargetMode="External"/><Relationship Id="rId2" Type="http://schemas.openxmlformats.org/officeDocument/2006/relationships/hyperlink" Target="http://articles.gourt.com/de/Olfaktorische%20Wahrnehmung" TargetMode="External"/><Relationship Id="rId3" Type="http://schemas.openxmlformats.org/officeDocument/2006/relationships/hyperlink" Target="http://articles.gourt.com/de/Olfaktorische%20Wahrnehmung" TargetMode="External"/><Relationship Id="rId4" Type="http://schemas.openxmlformats.org/officeDocument/2006/relationships/hyperlink" Target="http://articles.gourt.com/de/Olfaktorische%20Wahrnehmung" TargetMode="External"/><Relationship Id="rId5" Type="http://schemas.openxmlformats.org/officeDocument/2006/relationships/hyperlink" Target="http://articles.gourt.com/en/Olfaction" TargetMode="External"/><Relationship Id="rId6" Type="http://schemas.openxmlformats.org/officeDocument/2006/relationships/hyperlink" Target="http://articles.gourt.com/fr/Odorat" TargetMode="External"/><Relationship Id="rId7" Type="http://schemas.openxmlformats.org/officeDocument/2006/relationships/hyperlink" Target="http://articles.gourt.com/he/&#1495;&#1493;&#1513;%20&#1492;&#1512;&#1497;&#1495;" TargetMode="External"/><Relationship Id="rId8" Type="http://schemas.openxmlformats.org/officeDocument/2006/relationships/hyperlink" Target="http://articles.gourt.com/nl/Reukzin" TargetMode="External"/><Relationship Id="rId9" Type="http://schemas.openxmlformats.org/officeDocument/2006/relationships/hyperlink" Target="http://articles.gourt.com/pl/W&#281;ch" TargetMode="External"/><Relationship Id="rId10" Type="http://schemas.openxmlformats.org/officeDocument/2006/relationships/hyperlink" Target="http://articles.gourt.com/pt/Olfato" TargetMode="External"/><Relationship Id="rId11" Type="http://schemas.openxmlformats.org/officeDocument/2006/relationships/hyperlink" Target="http://articles.gourt.com/ja/&#21957;&#35226;" TargetMode="External"/><Relationship Id="rId12" Type="http://schemas.openxmlformats.org/officeDocument/2006/relationships/image" Target="../media/image4.jpeg"/><Relationship Id="rId13" Type="http://schemas.openxmlformats.org/officeDocument/2006/relationships/image" Target="../media/image1.jpe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hyperlink" Target="http://interface.fh-potsdam.de/fb4/fb4/projects/vlop01/02_instruments/beckmann_Olfactoeter/image01.html" TargetMode="Externa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89400" y="127800"/>
            <a:ext cx="59108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litechnika Szczecińsk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tytut Inżynierii Chemicznej i Procesów Ochrony Środowis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ACOWNIA ZAPACHOWEJ  JAKOŚCI  POWIETR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. Piastów 42, 71-065 Szczec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anna Kośm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miary stężenia zapachoweg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odą olfaktometrii dynamiczn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PN-EN 13725:20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zczecin 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187280" y="1919160"/>
            <a:ext cx="7848720" cy="48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grudzień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986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NOR, Norme Française NF X 43-101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etermination of the dilution fact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t the perception threshol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styczeń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1987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VDI Richt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e 3881, Blatt 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Olfaktometrie. Geruchsschwellenbestimmung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marze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995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NI, Dutch Preliminary Standard NVN2820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ensory odour measurements using an olfactomete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he measurement of odour threshold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rok 1992: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wołanie przez Europejski Komitet Normalizacyj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(CEN, 264 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Air Quality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) Grupy Roboczej WG2 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Odour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6560" y="620640"/>
            <a:ext cx="871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doskonalone procedury oznaczeń  olfaktometrycznych znormalizowano znacznie później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38240" y="1773360"/>
            <a:ext cx="1481040" cy="3743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-4680"/>
            <a:ext cx="914400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storia PN-EN 13725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686800" cy="66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3409920"/>
            <a:ext cx="8569080" cy="131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upie WG2 powierzono opracowanie norm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tóra byłaby wspólną dla krajów Unii Europejskiej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dstawą działań umożliwiających zmniejszenie uciążliwości zapachowej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8360" y="5646600"/>
            <a:ext cx="74516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van Harreveld A.P.: 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European standardisations of olfactometry</a:t>
            </a:r>
            <a:r>
              <a:rPr b="1" i="1" lang="en-GB" sz="10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materiałach Seminarium: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ODOURS – Control, Measurement, Regulations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Świnoujście 1993, Wyd. Ekochem Szczecin 1993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4818240"/>
            <a:ext cx="7993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racami WG2 kierował Ton van Harreveld (Holandia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tóry w r. 1993  był współorganizatorem i uczestnikie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sko-holendersko-niemieckiego seminarium w  Świnoujści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704960" y="476280"/>
            <a:ext cx="6899400" cy="2521800"/>
            <a:chOff x="1704960" y="476280"/>
            <a:chExt cx="6899400" cy="2521800"/>
          </a:xfrm>
        </p:grpSpPr>
        <p:sp>
          <p:nvSpPr>
            <p:cNvPr id="73" name=""/>
            <p:cNvSpPr/>
            <p:nvPr/>
          </p:nvSpPr>
          <p:spPr>
            <a:xfrm>
              <a:off x="1835280" y="1985400"/>
              <a:ext cx="676908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333399"/>
                  </a:solidFill>
                  <a:latin typeface="Arial Black"/>
                </a:rPr>
                <a:t>CEN/TC 264</a:t>
              </a:r>
              <a:r>
                <a:rPr b="1" lang="pl-PL" sz="1600" spc="-1" strike="noStrike">
                  <a:solidFill>
                    <a:srgbClr val="333399"/>
                  </a:solidFill>
                  <a:latin typeface="Arial Black"/>
                </a:rPr>
                <a:t>	</a:t>
              </a:r>
              <a:r>
                <a:rPr b="1" lang="pl-PL" sz="1600" spc="-1" strike="noStrike">
                  <a:solidFill>
                    <a:srgbClr val="808080"/>
                  </a:solidFill>
                  <a:latin typeface="Arial Black"/>
                </a:rPr>
                <a:t>AIR  QUAL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99"/>
                  </a:solidFill>
                  <a:latin typeface="Arial Black"/>
                </a:rPr>
                <a:t>CEN/TC 264 / WG 2</a:t>
              </a:r>
              <a:r>
                <a:rPr b="1" lang="pl-PL" sz="1400" spc="-1" strike="noStrike">
                  <a:solidFill>
                    <a:srgbClr val="464523"/>
                  </a:solidFill>
                  <a:latin typeface="Arial"/>
                </a:rPr>
                <a:t> </a:t>
              </a:r>
              <a:r>
                <a:rPr b="1" lang="pl-PL" sz="1400" spc="-1" strike="noStrike">
                  <a:solidFill>
                    <a:srgbClr val="464523"/>
                  </a:solidFill>
                  <a:latin typeface="Arial"/>
                </a:rPr>
                <a:t>	</a:t>
              </a:r>
              <a:r>
                <a:rPr b="1" lang="pl-PL" sz="1400" spc="-1" strike="noStrike">
                  <a:solidFill>
                    <a:srgbClr val="464523"/>
                  </a:solidFill>
                  <a:latin typeface="Arial"/>
                </a:rPr>
                <a:t>Odou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333399"/>
                  </a:solidFill>
                  <a:latin typeface="Arial Black"/>
                </a:rPr>
                <a:t>CEN/TC 264 / WG 27</a:t>
              </a:r>
              <a:r>
                <a:rPr b="1" lang="pl-PL" sz="1200" spc="-1" strike="noStrike">
                  <a:solidFill>
                    <a:srgbClr val="333399"/>
                  </a:solidFill>
                  <a:latin typeface="Arial Black"/>
                </a:rPr>
                <a:t>	</a:t>
              </a:r>
              <a:r>
                <a:rPr b="1" lang="pl-PL" sz="1400" spc="-1" strike="noStrike">
                  <a:solidFill>
                    <a:srgbClr val="464523"/>
                  </a:solidFill>
                  <a:latin typeface="Arial"/>
                </a:rPr>
                <a:t>Measurement of odour impact by field inspec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1"/>
            <a:srcRect l="0" t="8076" r="0" b="6057"/>
            <a:stretch/>
          </p:blipFill>
          <p:spPr>
            <a:xfrm>
              <a:off x="1704960" y="476280"/>
              <a:ext cx="6481800" cy="1511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"/>
          <p:cNvSpPr/>
          <p:nvPr/>
        </p:nvSpPr>
        <p:spPr>
          <a:xfrm>
            <a:off x="0" y="-4680"/>
            <a:ext cx="914400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storia PN-EN 13725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40000" y="2349360"/>
            <a:ext cx="743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orcetechnology.com/NR/rdonlyres/E5724250-E906-44A3-91BF-BC6BB97A18D8/1352/061019_miljonews_2_web.pdf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47640" y="1844640"/>
            <a:ext cx="62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ykuł o CEN/TC264/WG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301680"/>
            <a:ext cx="9144000" cy="35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rok 1996:                    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rozpoczęcie międzynarodowych badań porównawczych,                                      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 których brało udział kilkanaście specjalistycznych laboratorió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(ICO, 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Interlaboratory Comparison for Olfactometry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 kilkuletnich fachowych konsultacj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7860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 u="sng">
                <a:solidFill>
                  <a:srgbClr val="000000"/>
                </a:solidFill>
                <a:uFillTx/>
                <a:latin typeface="Arial"/>
              </a:rPr>
              <a:t>PUBLIKACJ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786040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van Harreveld, A.P., Heeres, P.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Quality control and optimisation of dynamic olfactometry</a:t>
            </a:r>
            <a:r>
              <a:rPr b="1" i="1" lang="pl-PL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using n-butanol as a standard reference odorant, </a:t>
            </a:r>
            <a:r>
              <a:rPr b="1" i="1" lang="pl-PL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TAUB Reinhaltung der Luft, February 1995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;                                                      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786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roficency Tests, Interlaboratory Comparison and Round Robin Tests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LFAtec GmbH, Havighorster Weg 12 – 24211 Honigsee, Germany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lfatec.de/eng/ring/ring.html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78604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i wiele innych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wiecień 2003: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opublikowanie trzech oficjalnych wersji EN 13725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00000" y="3589200"/>
            <a:ext cx="784872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Air quality – Determination of odour concentration                                 by dynamic olfaktometry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Qualité de l’air – Détermination de la concentration d’une odeur          par olfactométrie dynamiq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Luftbeschaffenheit – Bestimmung der Geruchsstoffkonzentration         mit  dynamischer Olfaktometr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5189040"/>
            <a:ext cx="9144000" cy="150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e02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0202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fe0202"/>
                </a:solidFill>
                <a:latin typeface="Arial"/>
              </a:rPr>
              <a:t>marzec 2005:</a:t>
            </a:r>
            <a:r>
              <a:rPr b="1" lang="en-US" sz="1400" spc="-1" strike="noStrike">
                <a:solidFill>
                  <a:srgbClr val="fe0202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e0202"/>
                </a:solidFill>
                <a:latin typeface="Arial"/>
              </a:rPr>
              <a:t>                   ustanowienie  przez PKN polskiej normy PN-EN 13725:2005 (U)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kość powietrza – Oznaczanie stężenia zapachowego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etodą olfaktometrii dynamicznej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(uznanie wersji ang. za P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e02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0202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fe0202"/>
                </a:solidFill>
                <a:latin typeface="Arial"/>
              </a:rPr>
              <a:t>lipiec 2007:                                publikacja  polskiej wersji językowej  PN-EN 13725:2007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tłumaczenie ma ten sam status co oficjalne wersje EN13725:2003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-4680"/>
            <a:ext cx="914400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storia PN-EN 13725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N-EN  13725: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2060640"/>
            <a:ext cx="77724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cyzuje najważniejsze pojęcia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tóre są omawiane odrębnie :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„PRÓG WYCZUWALNOŚCI”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„JEDNOSTKA ZAPACHOWA”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„STĘŻENIE ZAPACHOW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„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ZESPÓŁ”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„POMIAR”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„CYKL”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„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ERIA ROZCIEŃCZEŃ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„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ERIA PREZENTACJI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„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ETODA TAK/NIE”  i  „METODY RÓŻNICOW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„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LFAKTOMETR DYNAMICZN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476360" y="2276640"/>
            <a:ext cx="64008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 ograniczmy się do definicji pojęć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próg wyczuwalności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jednostka zapachow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stężenie zapachow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11280" y="315720"/>
            <a:ext cx="8022960" cy="615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ff"/>
                </a:solidFill>
                <a:latin typeface="Arial"/>
              </a:rPr>
              <a:t>Próg wyczuwalności zapachu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jedynczego zanieczyszczenia lub mieszaniny zanieczyszcze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efiniuje się jako stężenie (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[μg/m</a:t>
            </a:r>
            <a:r>
              <a:rPr b="1" lang="pl-P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]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 którym zapach wyczuwa około 50% populacji ogólnej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ub 50%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„zespołu” spełniającego kryteria selekcj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ziomy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dla poszczególnych związków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i ich mieszanin są bardzo zróżnicowa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dstawą olfaktometrii jest umowne przypisanie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każdej z tych różnych wartoś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tej samej wartości „stężenia zapachowego” (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</a:rPr>
              <a:t>od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ogowi wyczuwalności (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detection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threshold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) przypisano wartość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spcAft>
                <a:spcPts val="224"/>
              </a:spcAft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3333ff"/>
                </a:solidFill>
                <a:latin typeface="Arial"/>
              </a:rPr>
              <a:t>c </a:t>
            </a:r>
            <a:r>
              <a:rPr b="1" lang="pl-PL" sz="1800" spc="-1" strike="noStrike" baseline="-25000">
                <a:solidFill>
                  <a:srgbClr val="3333ff"/>
                </a:solidFill>
                <a:latin typeface="Arial"/>
              </a:rPr>
              <a:t>od,th</a:t>
            </a:r>
            <a:r>
              <a:rPr b="1" lang="pl-PL" sz="1800" spc="-1" strike="noStrike">
                <a:solidFill>
                  <a:srgbClr val="3333ff"/>
                </a:solidFill>
                <a:latin typeface="Arial"/>
              </a:rPr>
              <a:t> = 1ou/m</a:t>
            </a:r>
            <a:r>
              <a:rPr b="1" lang="pl-PL" sz="1800" spc="-1" strike="noStrike" baseline="30000">
                <a:solidFill>
                  <a:srgbClr val="3333ff"/>
                </a:solidFill>
                <a:latin typeface="Arial"/>
              </a:rPr>
              <a:t>3  </a:t>
            </a:r>
            <a:r>
              <a:rPr b="1" lang="pl-PL" sz="1800" spc="-1" strike="noStrike">
                <a:solidFill>
                  <a:srgbClr val="3333ff"/>
                </a:solidFill>
                <a:latin typeface="Arial"/>
              </a:rPr>
              <a:t>lub 1ou</a:t>
            </a:r>
            <a:r>
              <a:rPr b="1" lang="pl-PL" sz="1800" spc="-1" strike="noStrike" baseline="-25000">
                <a:solidFill>
                  <a:srgbClr val="3333ff"/>
                </a:solidFill>
                <a:latin typeface="Arial"/>
              </a:rPr>
              <a:t>E</a:t>
            </a:r>
            <a:r>
              <a:rPr b="1" lang="pl-PL" sz="1800" spc="-1" strike="noStrike">
                <a:solidFill>
                  <a:srgbClr val="3333ff"/>
                </a:solidFill>
                <a:latin typeface="Arial"/>
              </a:rPr>
              <a:t>/m</a:t>
            </a:r>
            <a:r>
              <a:rPr b="1" lang="pl-PL" sz="1800" spc="-1" strike="noStrike" baseline="30000">
                <a:solidFill>
                  <a:srgbClr val="3333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gdzie:</a:t>
            </a:r>
            <a:r>
              <a:rPr b="1" lang="pl-PL" sz="1800" spc="-1" strike="noStrike">
                <a:solidFill>
                  <a:srgbClr val="3333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ff"/>
                </a:solidFill>
                <a:latin typeface="Arial"/>
              </a:rPr>
              <a:t>ou, ou</a:t>
            </a:r>
            <a:r>
              <a:rPr b="1" lang="pl-PL" sz="1400" spc="-1" strike="noStrike" baseline="-25000">
                <a:solidFill>
                  <a:srgbClr val="3333ff"/>
                </a:solidFill>
                <a:latin typeface="Arial"/>
              </a:rPr>
              <a:t>E</a:t>
            </a:r>
            <a:r>
              <a:rPr b="1" lang="pl-PL" sz="1800" spc="-1" strike="noStrike">
                <a:solidFill>
                  <a:srgbClr val="3333ff"/>
                </a:solidFill>
                <a:latin typeface="Arial"/>
              </a:rPr>
              <a:t> - </a:t>
            </a:r>
            <a:r>
              <a:rPr b="1" i="1" lang="pl-PL" sz="1800" spc="-1" strike="noStrike">
                <a:solidFill>
                  <a:srgbClr val="3333ff"/>
                </a:solidFill>
                <a:latin typeface="Arial"/>
              </a:rPr>
              <a:t>odour unit</a:t>
            </a:r>
            <a:r>
              <a:rPr b="1" lang="pl-PL" sz="1800" spc="-1" strike="noStrike">
                <a:solidFill>
                  <a:srgbClr val="3333ff"/>
                </a:solidFill>
                <a:latin typeface="Arial"/>
              </a:rPr>
              <a:t>,  jednostka zapacho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ff"/>
                </a:solidFill>
                <a:latin typeface="Arial"/>
              </a:rPr>
              <a:t>(indeks E oznacza spełnienie w czasie pomiaru wymogów normy europejskiej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4360" y="201240"/>
            <a:ext cx="7704000" cy="61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efinicja stężenia zapachowe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jest konsekwencją wyboru jednostki pomiarowej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ff"/>
                </a:solidFill>
                <a:latin typeface="Arial"/>
              </a:rPr>
              <a:t>Stężenie zapachowe (c</a:t>
            </a:r>
            <a:r>
              <a:rPr b="1" lang="pl-PL" sz="1800" spc="-1" strike="noStrike" baseline="-25000">
                <a:solidFill>
                  <a:srgbClr val="3333ff"/>
                </a:solidFill>
                <a:latin typeface="Arial"/>
              </a:rPr>
              <a:t>od </a:t>
            </a:r>
            <a:r>
              <a:rPr b="1" lang="pl-PL" sz="1800" spc="-1" strike="noStrike">
                <a:solidFill>
                  <a:srgbClr val="3333ff"/>
                </a:solidFill>
                <a:latin typeface="Arial"/>
              </a:rPr>
              <a:t>[ou</a:t>
            </a:r>
            <a:r>
              <a:rPr b="1" lang="pl-PL" sz="1800" spc="-1" strike="noStrike" baseline="-25000">
                <a:solidFill>
                  <a:srgbClr val="3333ff"/>
                </a:solidFill>
                <a:latin typeface="Arial"/>
              </a:rPr>
              <a:t>E</a:t>
            </a:r>
            <a:r>
              <a:rPr b="1" lang="pl-PL" sz="1800" spc="-1" strike="noStrike">
                <a:solidFill>
                  <a:srgbClr val="3333ff"/>
                </a:solidFill>
                <a:latin typeface="Arial"/>
              </a:rPr>
              <a:t>/m</a:t>
            </a:r>
            <a:r>
              <a:rPr b="1" lang="pl-PL" sz="1800" spc="-1" strike="noStrike" baseline="30000">
                <a:solidFill>
                  <a:srgbClr val="3333ff"/>
                </a:solidFill>
                <a:latin typeface="Arial"/>
              </a:rPr>
              <a:t>3</a:t>
            </a:r>
            <a:r>
              <a:rPr b="1" lang="pl-PL" sz="1800" spc="-1" strike="noStrike">
                <a:solidFill>
                  <a:srgbClr val="3333ff"/>
                </a:solidFill>
                <a:latin typeface="Arial"/>
              </a:rPr>
              <a:t>]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kreślonego związku chemiczne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ub dowolnej mieszaniny zanieczyszczeń powietrz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jest tyle razy większe od jednośc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ile razy trzeba rozcieńczyć badaną próbkę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aby osiągnąć zespołowy próg wyczuwalności zapachu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75"/>
              </a:spcAft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</a:rPr>
              <a:t>od,th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=  1 ou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1" lang="pl-P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</a:rPr>
              <a:t>od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[ou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1" lang="pl-P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]  =  Z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gdz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</a:rPr>
              <a:t>50%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– stopień rozcieńczenia próbki czystym powietrze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 którym prawdopodobieństwo wyczucia zapach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ez członków zespołu jest równe 0,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rcRect l="0" t="2040" r="0" b="0"/>
          <a:stretch/>
        </p:blipFill>
        <p:spPr>
          <a:xfrm>
            <a:off x="179280" y="1751040"/>
            <a:ext cx="8748720" cy="3568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95280" y="9637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miar stężenia zapachowego składa się z kolejnych cykli, a cykl – z ser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276720" y="4292640"/>
                <a:ext cx="24476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  <m:r>
                          <m:t xml:space="preserve">⋅</m:t>
                        </m:r>
                        <m:r>
                          <m:t xml:space="preserve">r</m:t>
                        </m:r>
                      </m:e>
                    </m:d>
                    <m:r>
                      <m:t xml:space="preserve">≤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324000" y="2276640"/>
            <a:ext cx="8496000" cy="177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 PN-EN13725 określono kryterium dla precyzji (powtarzalności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≤ 0,477    lub  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≤ 3,0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95 % przypadków wyniki dwóch pomiarów nie różnią się bardziej niż trzykrotnie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az dla dokładności (zależnej od obciążenia i precyzji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333360"/>
            <a:ext cx="8496000" cy="19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Sprawność laboratorium zależy o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jakości sprzętu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sensorycznej sprawności członków zespołów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prawności procedu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Jest określana z użyciem butanolu-1 (odorant odniesieni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możliwia to wykorzystanie wartości odniesienia (oczekiwanego, poprawnego wyniku pomiaru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od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[o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[μg/m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] / 123 μg/m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24000" y="5445000"/>
            <a:ext cx="8424720" cy="1284480"/>
            <a:chOff x="324000" y="5445000"/>
            <a:chExt cx="8424720" cy="1284480"/>
          </a:xfrm>
        </p:grpSpPr>
        <p:sp>
          <p:nvSpPr>
            <p:cNvPr id="94" name=""/>
            <p:cNvSpPr/>
            <p:nvPr/>
          </p:nvSpPr>
          <p:spPr>
            <a:xfrm>
              <a:off x="324000" y="5445000"/>
              <a:ext cx="8424720" cy="128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gdzie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pl-PL" sz="1400" spc="-1" strike="noStrike" baseline="-25000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i="1" lang="pl-PL" sz="1400" spc="-1" strike="noStrike">
                  <a:solidFill>
                    <a:srgbClr val="000000"/>
                  </a:solidFill>
                  <a:latin typeface="Arial"/>
                </a:rPr>
                <a:t>  –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 poprawność, wyrażona jako oszacowanie wewnątrzlaboratoryjnego obciążeni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(błąd systematyczny);          </a:t>
              </a:r>
              <a:r>
                <a:rPr b="1" i="1" lang="pl-PL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pl-PL" sz="1400" spc="-1" strike="noStrike" baseline="-25000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i="1" lang="pl-PL" sz="1400" spc="-1" strike="noStrike">
                  <a:solidFill>
                    <a:srgbClr val="000000"/>
                  </a:solidFill>
                  <a:latin typeface="Arial"/>
                </a:rPr>
                <a:t> = y</a:t>
              </a:r>
              <a:r>
                <a:rPr b="1" i="1" lang="pl-PL" sz="1400" spc="-1" strike="noStrike" baseline="-25000">
                  <a:solidFill>
                    <a:srgbClr val="000000"/>
                  </a:solidFill>
                  <a:latin typeface="Arial"/>
                </a:rPr>
                <a:t>śr</a:t>
              </a:r>
              <a:r>
                <a:rPr b="1" i="1" lang="pl-PL" sz="1400" spc="-1" strike="noStrike">
                  <a:solidFill>
                    <a:srgbClr val="000000"/>
                  </a:solidFill>
                  <a:latin typeface="Arial"/>
                </a:rPr>
                <a:t> – μ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1400" spc="-1" strike="noStrike">
                  <a:solidFill>
                    <a:srgbClr val="000000"/>
                  </a:solidFill>
                  <a:latin typeface="Arial"/>
                </a:rPr>
                <a:t>n –  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liczba wyników pomiarów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pl-PL" sz="1400" spc="-1" strike="noStrike">
                  <a:solidFill>
                    <a:srgbClr val="000000"/>
                  </a:solidFill>
                  <a:latin typeface="Arial"/>
                </a:rPr>
                <a:t>–   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granica powtarzalności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2937960" y="6294240"/>
              <a:ext cx="1031040" cy="374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4000" y="2205000"/>
            <a:ext cx="817236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prowadze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storia PN-EN 13725: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N-EN 13725:2007  -  pojęcia jednostka zapachowa i stężenie zapachow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dania sprawności laboratorium odorymetrycznego (podstawa akredytacj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55640" y="1844640"/>
            <a:ext cx="7704000" cy="30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Aby ocenić dokładność pomiarów stężenia zapachoweg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w próbkach środowiskowych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dla których brakuje wartości odniesienia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należy wykonać międzylaboratoryjne analizy porównawcz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Za najlepsze oszacowanie wartości odniesienia (μ) uznaje się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średnią geometryczną ze stężeń zapachowych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wyznaczonych we wszystkich laboratoria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71280" y="333360"/>
            <a:ext cx="8893440" cy="6314400"/>
            <a:chOff x="71280" y="333360"/>
            <a:chExt cx="8893440" cy="6314400"/>
          </a:xfrm>
        </p:grpSpPr>
        <p:sp>
          <p:nvSpPr>
            <p:cNvPr id="98" name=""/>
            <p:cNvSpPr/>
            <p:nvPr/>
          </p:nvSpPr>
          <p:spPr>
            <a:xfrm>
              <a:off x="71280" y="333360"/>
              <a:ext cx="8893440" cy="63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Badania umożliwiające uzyskanie przez uczestników świadectw zgodności z EN13725:2003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organizował w roku 2007 OLFAtec GmbH. ( </a:t>
              </a:r>
              <a:r>
                <a:rPr b="0" lang="pl-PL" sz="1400" spc="-1" strike="noStrike" u="sng">
                  <a:solidFill>
                    <a:srgbClr val="009999"/>
                  </a:solidFill>
                  <a:uFillTx/>
                  <a:latin typeface="Arial"/>
                  <a:hlinkClick r:id="rId2"/>
                </a:rPr>
                <a:t>http://</a:t>
              </a:r>
              <a:r>
                <a:rPr b="0" lang="pl-PL" sz="1400" spc="-1" strike="noStrike" u="sng">
                  <a:solidFill>
                    <a:srgbClr val="009999"/>
                  </a:solidFill>
                  <a:uFillTx/>
                  <a:latin typeface="Arial"/>
                  <a:hlinkClick r:id="rId3"/>
                </a:rPr>
                <a:t>www.olfatec.de</a:t>
              </a:r>
              <a:r>
                <a:rPr b="0" lang="pl-PL" sz="1400" spc="-1" strike="noStrike" u="sng">
                  <a:solidFill>
                    <a:srgbClr val="009999"/>
                  </a:solidFill>
                  <a:uFillTx/>
                  <a:latin typeface="Arial"/>
                  <a:hlinkClick r:id="rId4"/>
                </a:rPr>
                <a:t>/</a:t>
              </a: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(system QA/QC, akredytacja laboratoriów zgodnie z ISO/IEC17025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                                </a:t>
              </a:r>
              <a:r>
                <a:rPr b="1" lang="pl-PL" sz="1800" spc="-1" strike="noStrike">
                  <a:solidFill>
                    <a:srgbClr val="006666"/>
                  </a:solidFill>
                  <a:latin typeface="Arial"/>
                </a:rPr>
                <a:t>Ringversuch Olfaktometrie 200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W czerwcu 2007 wykonano międzylaboratoryjne analizy dwunastu próbek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zawierających butanol-1 (o różnych stężeniach), tetrahydrotiofen (THT) i mieszaninę odorantów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W pomiarach uczestniczyło 73 laboratoria z 16 krajów, nie tylko europejskich (USA, Australia, Chiny).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(30 z nich wykonywało testy w pełnym zakresie, RV PLUS)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Wśród tych  krajów znalazła się Litwa, ale zabrakło Polski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W badaniach nie brał udziału zespół Pracowni Zapachowej Jakości Powietrza PS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zajmujący się olfaktometrią od wielu la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racownia dysponuje wyłącznie środkami na działalność naukowo-dydaktyczną, które nie umożliwiają zakupu nowoczesnego sprzęt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i wdrożenie wszystkich procedur niezbędnych dla uzyskania akredytacji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Obrazek &quot;http://www.olfatec.de/images/olfa_icon_ringvers_III.gif&quot; nie może zostać wyświetlony, ponieważ zawiera błędy."/>
            <p:cNvPicPr/>
            <p:nvPr/>
          </p:nvPicPr>
          <p:blipFill>
            <a:blip r:embed="rId5"/>
            <a:stretch/>
          </p:blipFill>
          <p:spPr>
            <a:xfrm>
              <a:off x="1645920" y="1197000"/>
              <a:ext cx="196056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6"/>
            <a:stretch/>
          </p:blipFill>
          <p:spPr>
            <a:xfrm>
              <a:off x="4238280" y="2205000"/>
              <a:ext cx="2210760" cy="6462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403280" y="2637000"/>
            <a:ext cx="6553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8080"/>
                  </a:solidFill>
                  <a:miter/>
                </a:ln>
                <a:solidFill>
                  <a:srgbClr val="ffffff"/>
                </a:solidFill>
                <a:latin typeface="Albertus Extra Bold"/>
              </a:rPr>
              <a:t>Bardzo  dziękuję  za  uwagę</a:t>
            </a:r>
            <a:endParaRPr b="1" lang="en-US" sz="1800" spc="1" strike="noStrike">
              <a:ln w="25560">
                <a:solidFill>
                  <a:srgbClr val="008080"/>
                </a:solidFill>
                <a:miter/>
              </a:ln>
              <a:solidFill>
                <a:srgbClr val="ffffff"/>
              </a:solidFill>
              <a:latin typeface="Albertus Extra Bold"/>
              <a:ea typeface="Albertus Extra Bold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24000" y="4292640"/>
            <a:ext cx="4897440" cy="1731960"/>
            <a:chOff x="2124000" y="4292640"/>
            <a:chExt cx="4897440" cy="1731960"/>
          </a:xfrm>
        </p:grpSpPr>
        <p:pic>
          <p:nvPicPr>
            <p:cNvPr id="103" name="" descr=""/>
            <p:cNvPicPr/>
            <p:nvPr/>
          </p:nvPicPr>
          <p:blipFill>
            <a:blip r:embed="rId2"/>
            <a:srcRect l="0" t="22751" r="0" b="0"/>
            <a:stretch/>
          </p:blipFill>
          <p:spPr>
            <a:xfrm>
              <a:off x="2124000" y="4724280"/>
              <a:ext cx="4897440" cy="13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925800" y="4292640"/>
              <a:ext cx="12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</a:rPr>
                <a:t>Kontakt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133440" y="3213000"/>
            <a:ext cx="29509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9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prowadze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920" y="836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Zanieczyszczenia powietrza bywają przyczyną dużego dyskomfortu, mimo że standardy ustalone dla poszczególnych związków zwykle są dotrzymywa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rzyczyną licznych skarg jest niepożądany zapach, a dotychczas nie ustalono krajowych standardów dotyczących odorantów, analizowanych łącznie jako grupa zanieczyszczeń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Mimo wielokrotnych zapowiedzi nie zostało wydane rozporządzenie, o którym mowa            w art. 222 ust. 5-7 Prawa ochrony środowiska (wcześniej art. 86 ust. 3-5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Zwłoka w realizacji zapisów POŚ jest często tłumaczona brakiem ilościowy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 obiektywnych metod pomiarów stężenia odorantów w emitowanych gazach i emisji zapachowej, podczas gdy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33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ff"/>
                </a:solidFill>
                <a:latin typeface="Arial"/>
              </a:rPr>
              <a:t>dotycząca takich pomiarów norma europejska EN13725 istnieje od roku 2003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33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ff"/>
                </a:solidFill>
                <a:latin typeface="Arial"/>
              </a:rPr>
              <a:t>metoda jest obiektywna, a jej wyniki – ilościowe, powtarzalne i odtwarzalne (zgodność z systemem QA/QC), mimo że rolę czujnika pomiarowego odgrywa grupa ludzi oceniających zapac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ff"/>
                </a:solidFill>
                <a:latin typeface="Arial"/>
              </a:rPr>
              <a:t>Szybkie wdrożenie PN-EN 13725 pozwoli zrealizować zadania wynikające z „dyrektywy odorowej” IPPC H4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 –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Horizontal Odour Guidance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. Part 1: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'Regulation and Permitting'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 and Part 2: “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Assessment and Control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” (the final guidance documents publ. in April 2008)</a:t>
            </a:r>
            <a:r>
              <a:rPr b="1" lang="pl-PL" sz="14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-27000"/>
            <a:ext cx="9144000" cy="3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prowadz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40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20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8000" y="32702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storia PN-EN 13725: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1308" t="1912" r="6541" b="1912"/>
          <a:stretch/>
        </p:blipFill>
        <p:spPr>
          <a:xfrm>
            <a:off x="611280" y="1557360"/>
            <a:ext cx="7848360" cy="5081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17440" y="549360"/>
            <a:ext cx="867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Badania zmierzające do normalizacji olfaktometrycznych procedur pomiarowych były prowadzone przez ponad 120 lat. Ich prekursorem jest holenderski fizjolog, Hendrick Zwaardemaker (1857-1930), który w roku 1886 opisał konstrukcję urządzenia zwanego dziś olfaktometrem Zwaardemake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-4680"/>
            <a:ext cx="914400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storia PN-EN 13725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932360" y="1844640"/>
            <a:ext cx="3533760" cy="4464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600" y="6338880"/>
            <a:ext cx="909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Olfact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pl-PL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Olfaktorische</a:t>
            </a:r>
            <a:r>
              <a:rPr b="0" lang="pl-PL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</a:t>
            </a:r>
            <a:r>
              <a:rPr b="0" lang="pl-PL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ahrnehmung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pl-PL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Olfaction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| Odorat |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חוש הריח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| Reukzin | Węch | Olfato |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嗅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7440" y="549360"/>
            <a:ext cx="867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Badania zmierzające do normalizacji olfaktometrycznych procedur pomiarowych były prowadzone przez ponad 120 lat. Ich prekursorem jest holenderski fizjolog, Hendrick Zwaardemaker (1857-1930), który w roku 1886 opisał konstrukcję urządzenia zwanego dziś olfaktometrem Zwaardemake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960" y="6323040"/>
            <a:ext cx="909216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lfact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pl-PL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lfaktorische</a:t>
            </a:r>
            <a:r>
              <a:rPr b="0" lang="pl-PL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pl-PL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ahrnehmung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pl-PL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Olfaction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pl-PL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Odorat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he-IL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חוש הריח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pl-PL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Reukzin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pl-PL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ęch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pl-PL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Olfato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pl-PL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嗅覚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2"/>
          <a:srcRect l="0" t="1329" r="0" b="1329"/>
          <a:stretch/>
        </p:blipFill>
        <p:spPr>
          <a:xfrm>
            <a:off x="0" y="1589040"/>
            <a:ext cx="9144000" cy="4905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-4680"/>
            <a:ext cx="9144000" cy="3682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storia PN-EN 13725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6227640" y="6093000"/>
          <a:ext cx="123840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7640" y="6093000"/>
                    <a:ext cx="12384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" descr=""/>
          <p:cNvPicPr/>
          <p:nvPr/>
        </p:nvPicPr>
        <p:blipFill>
          <a:blip r:embed="rId3"/>
          <a:srcRect l="1012" t="1275" r="1012" b="1275"/>
          <a:stretch/>
        </p:blipFill>
        <p:spPr>
          <a:xfrm>
            <a:off x="1403280" y="1341360"/>
            <a:ext cx="6624720" cy="5227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17440" y="549360"/>
            <a:ext cx="867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Badania zmierzające do normalizacji olfaktometrycznych procedur pomiarowych były prowadzone przez ponad 120 lat. Ich prekursorem jest holenderski fizjolog, Hendrick Zwaardemaker (1857-1930), który w roku 1886 opisał konstrukcję urządzenia zwanego dziś olfaktometrem Zwaardemake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49680" y="6610320"/>
            <a:ext cx="742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nterface.fh-potsdam.de/fb4/fb4/projects/vlop01/02_instruments/beckmann_Olfactoeter/image01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-4680"/>
            <a:ext cx="914400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storia PN-EN 13725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867" t="557" r="867" b="557"/>
          <a:stretch/>
        </p:blipFill>
        <p:spPr>
          <a:xfrm>
            <a:off x="2521080" y="426960"/>
            <a:ext cx="4079880" cy="6394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-4680"/>
            <a:ext cx="914400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storia PN-EN 13725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8T08:42:50Z</dcterms:created>
  <dc:creator>JOANNA KOŚMIDER</dc:creator>
  <dc:description/>
  <dc:language>en-US</dc:language>
  <cp:lastModifiedBy>ibm</cp:lastModifiedBy>
  <dcterms:modified xsi:type="dcterms:W3CDTF">2008-09-06T18:43:19Z</dcterms:modified>
  <cp:revision>243</cp:revision>
  <dc:subject/>
  <dc:title>Slajd 1</dc:title>
</cp:coreProperties>
</file>