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4.png" ContentType="image/png"/>
  <Override PartName="/ppt/media/image3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FD9C-3AA9-49B1-A74E-0FBDE66B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1D6B-5FB9-40B2-9E3E-EE3D785C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654-5514-4D7C-9221-BC0C8A8E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7FAE-54F2-441E-B14F-259C9660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3A4C-7F19-4141-BE8C-1F3A1AE9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EA44-A90B-4847-9855-76B9D1E7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61BB-3031-49A5-B1A1-844FA26B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8A7C-2518-40A8-B1EA-53CF76BD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11EA-7151-437A-AB7C-06619210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4B60-BE46-4BDC-9A02-54874E04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58C9-D8B4-49F4-872C-A3FFA8C3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1CAC-4C79-442D-82C8-64622A8D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E54A-CF05-4203-87AC-A49575F9A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png"/><Relationship Id="rId1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2514600"/>
            <a:ext cx="6324480" cy="16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ementy  psychofizyki  węchu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320" y="1235160"/>
            <a:ext cx="91440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UROPSYCHOLOGIA [gr.]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ziedzina wiedzy z pogranicza psychologii i nauk o układzie nerwowym, zajmująca się poznawani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wiązków między czynnością mózg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 funkcjonowaniem psychicznym i zachowaniem się człowie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yjaśnia mózgowe mechanizmy złożonych form zachowania (np. mowy) i role, jaką w ich regulacji odgrywają poszczególne struktury mózgu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j wyniki są wykorzystywane w praktyce klinicznej, w diagnozowaniu i rehabilitacji osób ze schorzeniami neurologicznym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.R. ŁU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dstawy neuropsychologii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rszawa 197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64000" y="71280"/>
            <a:ext cx="36007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ementy  psychofizyki  węchu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fade thruBlk="true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1752480"/>
            <a:ext cx="876312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SYCHOFIZJOLOGIA  (psychologia fizjologiczna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jmuje się badani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ależności  przebiegu  procesów  psychiczny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d  ich  podstaw  anatomiczno-fizjologicznych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zedmiotem badań jest na przykład fizjologiczne podłoże procesów spostrzegania, pamięci, uwagi, uczenia się, emocji, stresu, zmęczenia, snu it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64000" y="71280"/>
            <a:ext cx="36007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ementy  psychofizyki  węchu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fade thruBlk="true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5029200"/>
            <a:ext cx="8534520" cy="14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NAUKA  O  POZNAWANIU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(cognitive science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wstała na pograniczu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psychologii, informatyki i lingwistyki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, w połowie lat 1970. Zajmuje się badaniem zarówno naturalnej, jak i sztucznej inteligencji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45720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 latach 1960. zaznaczyła się w psychologii nowa tendencja - założenie, że człowiek może być traktowany jak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kład zdolny do samosterow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stała możliwość modelowania czynności za pomocą programów komputerowych. Wyłoniły się nowe kierunki w psychologii i nowe nauk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2362320"/>
            <a:ext cx="86868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SYCHOLOGIA POZNAWCZ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den z głównych nurtów teoretycznej psychologii współczesnej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ładący nacisk na rolę procesów poznawczych (spostrzegani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ślenia, pamięci) i wytworzonych na ich podstaw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wnętrznych struktu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 poznawczej reprezentacji świata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 regulacji zachowania się człowiek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64000" y="71280"/>
            <a:ext cx="36007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ementy  psychofizyki  węchu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fade thruBlk="true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320" y="736560"/>
            <a:ext cx="9144000" cy="14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PSYCHOFIZYKA [gr.],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ziedzina badań z pogranicza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psychologii, fizyki i fizjologii,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zapoczątkowana w 2 połowie XIX w. przez E.H. Webera i G.Th. Fechnera, 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jeden z pierwszych etapów rozwoju psychologii jako nauki empirycznej.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549520"/>
            <a:ext cx="9144000" cy="20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sychofizyka zajmowała się badaniem zależności między fiz. cechami bodźców działających na organy zmysłowe a cechami odpowiadających im wraże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adania te doprowadziły do sformułowania tzw.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praw psychofizycznych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, z których najbardziej znane -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prawo Webera–Fechnera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- ujmuje w mat. formułę zależność między siłą bodźca a intensywnością wrażen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952880"/>
            <a:ext cx="9144000" cy="10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blematyka, którą zajmowała się psychofizyk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nowi przedmiot zainteresowania i intensywnych badań również współcześ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64000" y="71280"/>
            <a:ext cx="36007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ementy  psychofizyki  węchu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fade thruBlk="true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8600" y="914400"/>
            <a:ext cx="853452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WEBER ERNST HEINRICH  (1795–1878),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iem. fizjolog i psycholog; od 1818 prof. fizjologii uniw. w Lipsku;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inicjator badań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psychofizycznych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formułował podstawowe prawo psychofizyczne, określające zależność między bodźcami i wrażeniami zmysłowymi, rozwinięte i ujęte w mat. postać przez G.T. Fechne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FECHNER GUSTAV THEODOR (1801–1887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iem. fizyk, filozof i psycholog; od 1834 prof. uniw. w Lipsk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jeden z gł. inicjatorów badań empirycznych w psychologii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twórca psychofizyki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— datę ukazania się jego prac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Elemente der Psychophysik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(186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zyjęło się uważać za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początek psychologii eksperymentalnej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; prowadził badania nad stosunkiem zjawisk fiz. (bodźców) do zjawisk psych. (wrażeń), analizując ich związki w kategoriach ilościowych; rozwinął i ujął w mat. formułę prawo Webe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64000" y="71280"/>
            <a:ext cx="36007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ementy  psychofizyki  węchu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914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awo  Webera-Fech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175248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mian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nsywnośc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p. zapac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1523880"/>
            <a:ext cx="480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zględna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miana  sił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const   *     bodź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p. st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doran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38080" y="3689280"/>
                <a:ext cx="7696440" cy="278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∗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∗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*log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 txBox="1"/>
          <p:nvPr/>
        </p:nvSpPr>
        <p:spPr>
          <a:xfrm>
            <a:off x="5364000" y="71280"/>
            <a:ext cx="36007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ementy  psychofizyki  węchu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800600" y="547560"/>
            <a:ext cx="3809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- 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 =  k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log  (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/S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1143000"/>
            <a:ext cx="419112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WW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=  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=  0             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= 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= k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log  (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S/S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PWW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388620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= k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log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LJZ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1371600"/>
            <a:ext cx="4114800" cy="1729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óg węchowej wyczuwalności: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P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tężenie, przy którym zapach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yczuwa połowa populacj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124080"/>
            <a:ext cx="4267440" cy="234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Jednostka zapachowa”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1 jz = S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Arial"/>
              </a:rPr>
              <a:t>PWW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* 1 m</a:t>
            </a:r>
            <a:r>
              <a:rPr b="1" lang="pl-PL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 „liczba jednostek zapachowyc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LJZ [jz/m</a:t>
            </a:r>
            <a:r>
              <a:rPr b="1" lang="pl-PL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] = S/S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Arial"/>
              </a:rPr>
              <a:t>PWW</a:t>
            </a:r>
            <a:r>
              <a:rPr b="1" lang="pl-PL" sz="2000" spc="-1" strike="noStrike" baseline="-25000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3505320"/>
            <a:ext cx="53352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5257800"/>
            <a:ext cx="4343400" cy="12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cieńczenie   próbki: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  =  V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 V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5064120"/>
            <a:ext cx="441972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  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log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JZ / 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  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lo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JZ - 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lo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6186600"/>
            <a:ext cx="3352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=  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 -  k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log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3062160"/>
            <a:ext cx="419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   = k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g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- k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log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Arial"/>
              </a:rPr>
              <a:t>PW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1447920"/>
            <a:ext cx="53352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5181480"/>
            <a:ext cx="53352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64000" y="71280"/>
            <a:ext cx="36007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ementy  psychofizyki  węchu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fade thruBlk="true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838080"/>
            <a:ext cx="381024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3809880"/>
            <a:ext cx="380988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838080"/>
            <a:ext cx="380988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919080"/>
            <a:ext cx="609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3809880"/>
            <a:ext cx="380988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990720"/>
            <a:ext cx="609480" cy="51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2743200"/>
            <a:ext cx="35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PWW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2743200"/>
            <a:ext cx="350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PWW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586728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                           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J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5867280"/>
            <a:ext cx="388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                               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715000" y="1066320"/>
            <a:ext cx="3124080" cy="1676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57200" y="3962520"/>
            <a:ext cx="3809880" cy="1752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028840" y="4495320"/>
            <a:ext cx="335268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990720"/>
            <a:ext cx="2895840" cy="1752480"/>
          </a:xfrm>
          <a:custGeom>
            <a:avLst/>
            <a:gdLst/>
            <a:ahLst/>
            <a:rect l="l" t="t" r="r" b="b"/>
            <a:pathLst>
              <a:path w="2064" h="1008">
                <a:moveTo>
                  <a:pt x="0" y="1008"/>
                </a:moveTo>
                <a:cubicBezTo>
                  <a:pt x="148" y="816"/>
                  <a:pt x="296" y="624"/>
                  <a:pt x="528" y="480"/>
                </a:cubicBezTo>
                <a:cubicBezTo>
                  <a:pt x="760" y="336"/>
                  <a:pt x="1136" y="224"/>
                  <a:pt x="1392" y="144"/>
                </a:cubicBezTo>
                <a:cubicBezTo>
                  <a:pt x="1648" y="64"/>
                  <a:pt x="1952" y="24"/>
                  <a:pt x="206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64000" y="71280"/>
            <a:ext cx="36007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ementy  psychofizyki  węchu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fade thruBlk="true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3520" y="9907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awo  Steven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1828800"/>
            <a:ext cx="2362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Arial"/>
              </a:rPr>
              <a:t>I  =  k</a:t>
            </a:r>
            <a:r>
              <a:rPr b="1" i="1" lang="pl-PL" sz="2800" spc="-1" strike="noStrike" baseline="-25000">
                <a:solidFill>
                  <a:srgbClr val="ff0000"/>
                </a:solidFill>
                <a:latin typeface="Arial"/>
              </a:rPr>
              <a:t>s   </a:t>
            </a:r>
            <a:r>
              <a:rPr b="1" i="1" lang="pl-PL" sz="2800" spc="-1" strike="noStrike">
                <a:solidFill>
                  <a:srgbClr val="ff0000"/>
                </a:solidFill>
                <a:latin typeface="Arial"/>
              </a:rPr>
              <a:t>S </a:t>
            </a:r>
            <a:r>
              <a:rPr b="1" i="1" lang="pl-PL" sz="28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2651040"/>
            <a:ext cx="28954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  =&gt;  0   gdy  S  =&gt;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rak definicji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W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4267080"/>
            <a:ext cx="3809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Arial"/>
              </a:rPr>
              <a:t>I  =  k</a:t>
            </a:r>
            <a:r>
              <a:rPr b="1" i="1" lang="pl-PL" sz="2800" spc="-1" strike="noStrike" baseline="-25000">
                <a:solidFill>
                  <a:srgbClr val="ff0000"/>
                </a:solidFill>
                <a:latin typeface="Arial"/>
              </a:rPr>
              <a:t>s   </a:t>
            </a:r>
            <a:r>
              <a:rPr b="1" i="1" lang="pl-PL" sz="2800" spc="-1" strike="noStrike">
                <a:solidFill>
                  <a:srgbClr val="ff0000"/>
                </a:solidFill>
                <a:latin typeface="Arial"/>
              </a:rPr>
              <a:t>(S - S</a:t>
            </a:r>
            <a:r>
              <a:rPr b="1" i="1" lang="pl-PL" sz="2800" spc="-1" strike="noStrike" baseline="-25000">
                <a:solidFill>
                  <a:srgbClr val="ff0000"/>
                </a:solidFill>
                <a:latin typeface="Arial"/>
              </a:rPr>
              <a:t>PWW</a:t>
            </a:r>
            <a:r>
              <a:rPr b="1" i="1" lang="pl-PL" sz="2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i="1" lang="pl-PL" sz="28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64000" y="71280"/>
            <a:ext cx="36007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ementy  psychofizyki  węchu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228600" y="1490760"/>
          <a:ext cx="8359920" cy="52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90760"/>
                    <a:ext cx="8359920" cy="52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914400" y="59364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ównania prawa Webera-Fechnera  i  Stevensa                      w  obszarze średnich intensywności zapach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364000" y="71280"/>
            <a:ext cx="36007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ementy  psychofizyki  węchu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205740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izator  wykorzystuj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ły  zbió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bodźców  docierających  z  otocz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 „wzorcowe”  zestawy  bodźcó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cześniej  zarejestrowane  w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mięc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64000" y="71280"/>
            <a:ext cx="36007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ementy  psychofizyki  węchu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609480"/>
            <a:ext cx="838188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talenie,  które  z  praw  psychofizycznych  jest  lepiej  spełniane  w  zakresie  bardzo  małych i bardzo dużych intensywności zapachu  jest  wciąż  problemem  do  rozwiąz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dania  są  trudne  ze  względu  na konieczność  oznaczania    progów  wyczuwalności  zapachu  i  intensywności zapachu  metodami  sensorycznymi  (opinie ludzi o różnej  wrażliwości węchu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4251240"/>
            <a:ext cx="83818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pień napotykanych trudności  ilustruje  przykł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zbiór danych z literatury, dotyczących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W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iarkowodor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90440" y="685800"/>
          <a:ext cx="8648640" cy="546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685800"/>
                    <a:ext cx="8648640" cy="54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 txBox="1"/>
          <p:nvPr/>
        </p:nvSpPr>
        <p:spPr>
          <a:xfrm>
            <a:off x="5364000" y="71280"/>
            <a:ext cx="36007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ementy  psychofizyki  węchu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fade thruBlk="true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609480"/>
            <a:ext cx="89154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talenie,  które  z  praw  psychofizycznych  jest  lepiej  spełniane  w  zakresie  bardzo  małych i bardzo dużych intensywności zapachu  jest  wciąż  problemem  do  rozwiąz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dania  są  trudne  ze  względu  na konieczność  oznaczania progów  wyczuwalności  zapachu  i  intensywności zapachu  metodami  sensorycznymi  (opinie ludzi o różnej  wrażliwości węchu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2743200"/>
            <a:ext cx="8915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pień napotykanych trudności  ilustruje  przykłady dotyczące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W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iarkowodoru (dane z literatury) oraz intensywności zapachu acetonu (wyniki własn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04920" y="3886200"/>
          <a:ext cx="411480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86200"/>
                    <a:ext cx="411480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 txBox="1"/>
          <p:nvPr/>
        </p:nvSpPr>
        <p:spPr>
          <a:xfrm>
            <a:off x="5364000" y="71280"/>
            <a:ext cx="36007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ementy  psychofizyki  węchu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800600" y="3859200"/>
          <a:ext cx="4038480" cy="26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59200"/>
                    <a:ext cx="403848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786200" y="3886200"/>
          <a:ext cx="4052880" cy="259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6200" y="3886200"/>
                    <a:ext cx="40528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4648320" y="3886200"/>
            <a:ext cx="4419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= 9,001 / [1 + exp (- 4,101 H + 3,184)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zie: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= 1 / [1 + exp (-1,718 log </a:t>
            </a:r>
            <a:r>
              <a:rPr b="0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,378)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800600" y="3886200"/>
          <a:ext cx="4038480" cy="265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3886200"/>
                    <a:ext cx="403848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4724280" y="5746680"/>
            <a:ext cx="411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  <a:ea typeface="Arial"/>
              </a:rPr>
              <a:t>Kośmider J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  <a:ea typeface="Arial"/>
              </a:rPr>
              <a:t> Sosialuk M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1" i="1" lang="pl-PL" sz="1400" spc="-1" strike="noStrike">
                <a:solidFill>
                  <a:srgbClr val="ffffff"/>
                </a:solidFill>
                <a:latin typeface="Arial"/>
                <a:ea typeface="Arial"/>
              </a:rPr>
              <a:t> Zależność  intensywności  zapachu  od  stężenia  odorantów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  <a:ea typeface="Arial"/>
              </a:rPr>
              <a:t>  Arch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  <a:ea typeface="Arial"/>
              </a:rPr>
              <a:t>Ochr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  <a:ea typeface="Arial"/>
              </a:rPr>
              <a:t>Środ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pl-PL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30 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  <a:ea typeface="Arial"/>
              </a:rPr>
              <a:t>2), 3-16, 2004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52280" y="885960"/>
            <a:ext cx="8839440" cy="7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eszcze  mniej  przewidywalny  jest zapach  mieszanin  odorantów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 których występują tzw. interakcje węchow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3444840"/>
            <a:ext cx="8839080" cy="7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skowan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zastępowanie zapachu uciążliwego przez inn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zyjemniejszy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320" y="4511520"/>
            <a:ext cx="8839080" cy="16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utraliz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kompensacja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- takie oddziaływanie dodatkowego składnika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eszaniny odorantów, które prowadzi do zaniku je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pachu lub do wyraźnego zmniejszenia jeg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nsywności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320" y="219384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nergiz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zajemne potęgowanie oddziaływania dwóch lub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ększej ilości bodźcó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364000" y="71280"/>
            <a:ext cx="36007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ementy  psychofizyki  węchu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fade thruBlk="true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971800" y="4054320"/>
            <a:ext cx="342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 =  k   log  LJ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 = f (skład) =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600280" y="1006560"/>
                <a:ext cx="357192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JZ</m:t>
                    </m:r>
                    <m:r>
                      <m:t xml:space="preserve">[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jz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]</m:t>
                    </m:r>
                    <m:r>
                      <m:t xml:space="preserve">¹</m:t>
                    </m:r>
                    <m:r>
                      <m:t xml:space="preserve">S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WW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743200" y="2505240"/>
                <a:ext cx="34290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JZ</m:t>
                    </m:r>
                    <m:r>
                      <m:t xml:space="preserve">[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jz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WW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 txBox="1"/>
          <p:nvPr/>
        </p:nvSpPr>
        <p:spPr>
          <a:xfrm>
            <a:off x="5364000" y="71280"/>
            <a:ext cx="36007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ementy  psychofizyki  węchu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1676520"/>
            <a:ext cx="7924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E  WĘCHOWYCH  INTERAK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tychczas zaproponowano różne empiryczne zależności intensywności zapachu  mieszaniny  dwóch  odorantów od intensywności, jaką miałby zapach poszczególnych składników występujących osob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percepcyjne  modele  węchowych  interakcj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bo od stężeń odorantó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psychofizycz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dele  węchowych  interakcji)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64000" y="71280"/>
            <a:ext cx="36007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ementy  psychofizyki  węchu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371600" y="2743200"/>
                <a:ext cx="60199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limUpp>
                      <m:e/>
                      <m:lim/>
                    </m:limUpp>
                    <m:limLow>
                      <m:e>
                        <m:limUpp>
                          <m:e>
                            <m:r>
                              <m:t xml:space="preserve">=</m:t>
                            </m:r>
                          </m:e>
                          <m:lim/>
                        </m:limUpp>
                      </m:e>
                      <m:lim/>
                    </m:limLow>
                    <m:limUpp>
                      <m:e/>
                      <m:lim/>
                    </m:limUpp>
                    <m:rad>
                      <m:deg/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sSubSup>
                                            <m:e>
                                              <m:r>
                                                <m:t xml:space="preserve">I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A</m:t>
                                              </m:r>
                                            </m:sub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bSup>
                                        </m:e>
                                        <m:e>
                                          <m:r>
                                            <m:t xml:space="preserve">+</m:t>
                                          </m:r>
                                        </m:e>
                                        <m:e>
                                          <m:sSubSup>
                                            <m:e>
                                              <m:r>
                                                <m:t xml:space="preserve">I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bSup>
                                        </m:e>
                                        <m:e>
                                          <m:r>
                                            <m:t xml:space="preserve">+</m:t>
                                          </m:r>
                                        </m:e>
                                      </m:mr>
                                    </m:m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b/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</m:e>
                            <m:e>
                              <m:r>
                                <m:t xml:space="preserve">α</m:t>
                              </m:r>
                            </m:e>
                            <m:e/>
                          </m:mr>
                        </m:m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609480" y="150804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Wektorowe sumowan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365760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świadczalnie stwierdzono, ze stała interakcj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zyjmuje najczęściej wartości z zakresu 102-11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64000" y="71280"/>
            <a:ext cx="36007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ementy  psychofizyki  węchu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09480" y="143208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quiratio Mixture Model, ERM (1983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3946680"/>
            <a:ext cx="79250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zyjmuje się, że stałe a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i n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, charakteryzujące dwuskładnikowe mieszaniny A+B, nie zależą od łącznego stężenia AB, a tylko od stosunku stężeń A:B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łożenie to jest mało uzasadni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85800" y="2811600"/>
                <a:ext cx="777240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sSup>
                      <m:e>
                        <m:r>
                          <m:t xml:space="preserve">=</m:t>
                        </m:r>
                      </m:e>
                      <m:sup/>
                    </m:sSup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limLow>
                      <m:e/>
                      <m:lim/>
                    </m:limLow>
                    <m:sSubSup>
                      <m:e>
                        <m:r>
                          <m:t xml:space="preserve">S</m:t>
                        </m:r>
                      </m:e>
                      <m:sub/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sup>
                    </m:sSubSup>
                    <m:m>
                      <m:mr>
                        <m:e/>
                        <m:e/>
                        <m:e/>
                      </m:mr>
                    </m:m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m>
                      <m:mr>
                        <m:e/>
                        <m:e/>
                        <m:e/>
                      </m:mr>
                    </m:m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 txBox="1"/>
          <p:nvPr/>
        </p:nvSpPr>
        <p:spPr>
          <a:xfrm>
            <a:off x="5364000" y="71280"/>
            <a:ext cx="36007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ementy  psychofizyki  węchu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685800" y="304920"/>
          <a:ext cx="7763040" cy="590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920"/>
                    <a:ext cx="7763040" cy="59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 txBox="1"/>
          <p:nvPr/>
        </p:nvSpPr>
        <p:spPr>
          <a:xfrm>
            <a:off x="5364000" y="71280"/>
            <a:ext cx="36007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ementy  psychofizyki  węchu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6340320"/>
            <a:ext cx="838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Ko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ś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ider J., Zamelczyk-Pajewska M.,</a:t>
            </a:r>
            <a:r>
              <a:rPr b="1" i="1" lang="pl-P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Wyszy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ń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ski B</a:t>
            </a:r>
            <a:r>
              <a:rPr b="1" i="1" lang="pl-P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dour of mixtures of cyclohexane and cyclohexanone.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rch. Ochr.  Środ. </a:t>
            </a:r>
            <a:r>
              <a:rPr b="1" lang="pl-PL" sz="1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28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(2), 29-43, 2002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1366920" y="1623960"/>
          <a:ext cx="6411960" cy="31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6920" y="1623960"/>
                    <a:ext cx="6411960" cy="31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371600" y="1604880"/>
          <a:ext cx="6411960" cy="31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1604880"/>
                    <a:ext cx="6411960" cy="31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3581280" y="4805280"/>
            <a:ext cx="68580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371600" y="1604880"/>
          <a:ext cx="6411960" cy="316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1604880"/>
                    <a:ext cx="6411960" cy="31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4952880" y="4805280"/>
            <a:ext cx="68580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3200040" y="2747520"/>
            <a:ext cx="685800" cy="1143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886200" y="2747520"/>
            <a:ext cx="609480" cy="1143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886200" y="2671920"/>
            <a:ext cx="0" cy="12189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4805280"/>
            <a:ext cx="68580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071720"/>
            <a:ext cx="876312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pote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ie  warstwy neuron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stwa I  (recepcyjna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óżne odoranty pobudzają specyficzne recepto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ystępują one w różnych ilościach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ą rozmieszczone chaotyczni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chuje je różna dywergencj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„rozgałęzienie” akson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stwa II  (percepcyjn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urony niespecyficzn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ołączone z  różnymi receptorami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budzenie typu „zero-jeden”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ła wrażenia ~ liczba „jedynek”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64000" y="52560"/>
            <a:ext cx="360072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ementy  psychofizyki  węchu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647712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J. Kośmider: </a:t>
            </a:r>
            <a:r>
              <a:rPr b="0" i="1" lang="pl-PL" sz="1400" spc="-1" strike="noStrike">
                <a:solidFill>
                  <a:srgbClr val="ffffff"/>
                </a:solidFill>
                <a:latin typeface="Arial"/>
              </a:rPr>
              <a:t>Model analizatora intensywności zapachu 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Arch. Ochr. Środ.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1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29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(3) 17-30, 2003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1371600" y="1604880"/>
          <a:ext cx="6411960" cy="31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4880"/>
                    <a:ext cx="6411960" cy="31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4952880" y="4805280"/>
            <a:ext cx="68580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1604880"/>
          <a:ext cx="6411960" cy="31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1604880"/>
                    <a:ext cx="6411960" cy="31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 flipH="1" flipV="1">
            <a:off x="4647960" y="2747520"/>
            <a:ext cx="685800" cy="1143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334120" y="2747520"/>
            <a:ext cx="609480" cy="1143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334120" y="2671920"/>
            <a:ext cx="0" cy="12189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334120" y="2747520"/>
            <a:ext cx="1218960" cy="1143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3962520" y="2747520"/>
            <a:ext cx="1371600" cy="1143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1071720"/>
            <a:ext cx="876312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pote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ie  warstwy neuron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stwa I  (recepcyjna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óżne odoranty pobudzają specyficzne recepto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ystępują one w różnych ilościach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ą rozmieszczone chaotyczni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chuje je różna dywergencj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„rozgałęzienie” akson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stwa II  (percepcyjn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urony niespecyficzn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ołączone z  różnymi receptorami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budzenie typu „zero-jeden”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ła wrażenia ~ liczba „jedynek”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364000" y="52560"/>
            <a:ext cx="360072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ementy  psychofizyki  węchu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647712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J. Kośmider: </a:t>
            </a:r>
            <a:r>
              <a:rPr b="0" i="1" lang="pl-PL" sz="1400" spc="-1" strike="noStrike">
                <a:solidFill>
                  <a:srgbClr val="ffffff"/>
                </a:solidFill>
                <a:latin typeface="Arial"/>
              </a:rPr>
              <a:t>Model analizatora intensywności zapachu 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Arch. Ochr. Środ.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1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29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(3) 17-30, 2003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050920" y="5013360"/>
            <a:ext cx="1800360" cy="1194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bie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zeczywi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3141720"/>
            <a:ext cx="914400" cy="770040"/>
          </a:xfrm>
          <a:custGeom>
            <a:avLst/>
            <a:gdLst>
              <a:gd name="textAreaLeft" fmla="*/ 208800 w 914400"/>
              <a:gd name="textAreaRight" fmla="*/ 705600 w 914400"/>
              <a:gd name="textAreaTop" fmla="*/ 175680 h 770040"/>
              <a:gd name="textAreaBottom" fmla="*/ 594360 h 77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3782" t="56242" r="52198" b="7157"/>
          <a:stretch/>
        </p:blipFill>
        <p:spPr>
          <a:xfrm>
            <a:off x="4716360" y="1616040"/>
            <a:ext cx="2016360" cy="1236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3782" t="56242" r="52198" b="7157"/>
          <a:stretch/>
        </p:blipFill>
        <p:spPr>
          <a:xfrm>
            <a:off x="4716360" y="3645000"/>
            <a:ext cx="2016360" cy="1236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63640" y="3933720"/>
            <a:ext cx="792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37080" y="1916280"/>
            <a:ext cx="9349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692360" y="1915920"/>
            <a:ext cx="1008000" cy="11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08360" y="4508640"/>
            <a:ext cx="863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2205000"/>
            <a:ext cx="1728720" cy="503280"/>
          </a:xfrm>
          <a:prstGeom prst="ellipse">
            <a:avLst/>
          </a:prstGeom>
          <a:noFill/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4292640"/>
            <a:ext cx="1728720" cy="503280"/>
          </a:xfrm>
          <a:prstGeom prst="ellipse">
            <a:avLst/>
          </a:prstGeom>
          <a:noFill/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1557360"/>
            <a:ext cx="1871640" cy="1366920"/>
          </a:xfrm>
          <a:prstGeom prst="ellipse">
            <a:avLst/>
          </a:prstGeom>
          <a:noFill/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16360" y="3645000"/>
            <a:ext cx="1943280" cy="1368360"/>
          </a:xfrm>
          <a:prstGeom prst="ellipse">
            <a:avLst/>
          </a:prstGeom>
          <a:noFill/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20720" y="335772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Strefa fizycz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4437000"/>
            <a:ext cx="31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Strefa fizjologicz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56360" y="155736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00"/>
                </a:solidFill>
                <a:latin typeface="Arial"/>
              </a:rPr>
              <a:t>Strefa  psychologicz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189000"/>
            <a:ext cx="4176720" cy="6669000"/>
          </a:xfrm>
          <a:prstGeom prst="ellipse">
            <a:avLst/>
          </a:prstGeom>
          <a:noFill/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7004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00"/>
                </a:solidFill>
                <a:latin typeface="Arial"/>
              </a:rPr>
              <a:t>Strefa  psychologicz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2000" y="2349360"/>
            <a:ext cx="31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Strefa fizjologicz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0920" y="836640"/>
            <a:ext cx="1800360" cy="10674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rw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djęc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362320" y="2057400"/>
            <a:ext cx="495288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5120" y="6095880"/>
            <a:ext cx="6095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6236600">
            <a:off x="-498600" y="3241800"/>
            <a:ext cx="4249800" cy="8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czba pobudzonych  komórek  warstwy 2,  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zależna o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 stopnia dywergencj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14600" y="2362320"/>
            <a:ext cx="4724280" cy="2590560"/>
          </a:xfrm>
          <a:custGeom>
            <a:avLst/>
            <a:gdLst/>
            <a:ahLst/>
            <a:rect l="l" t="t" r="r" b="b"/>
            <a:pathLst>
              <a:path w="4064" h="2552">
                <a:moveTo>
                  <a:pt x="0" y="2552"/>
                </a:moveTo>
                <a:cubicBezTo>
                  <a:pt x="112" y="2016"/>
                  <a:pt x="224" y="1480"/>
                  <a:pt x="384" y="1112"/>
                </a:cubicBezTo>
                <a:cubicBezTo>
                  <a:pt x="544" y="744"/>
                  <a:pt x="704" y="520"/>
                  <a:pt x="960" y="344"/>
                </a:cubicBezTo>
                <a:cubicBezTo>
                  <a:pt x="1216" y="168"/>
                  <a:pt x="1456" y="112"/>
                  <a:pt x="1920" y="56"/>
                </a:cubicBezTo>
                <a:cubicBezTo>
                  <a:pt x="2384" y="0"/>
                  <a:pt x="3424" y="16"/>
                  <a:pt x="3744" y="8"/>
                </a:cubicBezTo>
                <a:cubicBezTo>
                  <a:pt x="4064" y="0"/>
                  <a:pt x="3952" y="4"/>
                  <a:pt x="3840" y="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5410080"/>
            <a:ext cx="5486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czba pobudzonych komórek warstwy I,  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zależna od liczby atakujących cząsteczek i liczby receptorów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3124080"/>
            <a:ext cx="4572000" cy="1828800"/>
          </a:xfrm>
          <a:custGeom>
            <a:avLst/>
            <a:gdLst/>
            <a:ahLst/>
            <a:rect l="l" t="t" r="r" b="b"/>
            <a:pathLst>
              <a:path w="4080" h="2496">
                <a:moveTo>
                  <a:pt x="0" y="2496"/>
                </a:moveTo>
                <a:cubicBezTo>
                  <a:pt x="456" y="2008"/>
                  <a:pt x="912" y="1520"/>
                  <a:pt x="1296" y="1200"/>
                </a:cubicBezTo>
                <a:cubicBezTo>
                  <a:pt x="1680" y="880"/>
                  <a:pt x="1984" y="736"/>
                  <a:pt x="2304" y="576"/>
                </a:cubicBezTo>
                <a:cubicBezTo>
                  <a:pt x="2624" y="416"/>
                  <a:pt x="2920" y="336"/>
                  <a:pt x="3216" y="240"/>
                </a:cubicBezTo>
                <a:cubicBezTo>
                  <a:pt x="3512" y="144"/>
                  <a:pt x="3920" y="40"/>
                  <a:pt x="4080" y="0"/>
                </a:cubicBez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590920" y="4191120"/>
            <a:ext cx="4114800" cy="761760"/>
          </a:xfrm>
          <a:prstGeom prst="line">
            <a:avLst/>
          </a:prstGeom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64000" y="71280"/>
            <a:ext cx="36007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ementy  psychofizyki  węchu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647712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J. Kośmider: </a:t>
            </a:r>
            <a:r>
              <a:rPr b="0" i="1" lang="pl-PL" sz="1400" spc="-1" strike="noStrike">
                <a:solidFill>
                  <a:srgbClr val="ffffff"/>
                </a:solidFill>
                <a:latin typeface="Arial"/>
              </a:rPr>
              <a:t>Model analizatora intensywności zapachu 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Arch. Ochr. Środ.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1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29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(3) 17-30, 2003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914400" y="1598760"/>
          <a:ext cx="7467480" cy="47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98760"/>
                    <a:ext cx="7467480" cy="47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1295280" y="1143000"/>
            <a:ext cx="769644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zykład:               warstwa I:        15% 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dywergencja A:   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% 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B:  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63244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64000" y="71280"/>
            <a:ext cx="36007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ementy  psychofizyki  węchu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647712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J. Kośmider: </a:t>
            </a:r>
            <a:r>
              <a:rPr b="0" i="1" lang="pl-PL" sz="1400" spc="-1" strike="noStrike">
                <a:solidFill>
                  <a:srgbClr val="ffffff"/>
                </a:solidFill>
                <a:latin typeface="Arial"/>
              </a:rPr>
              <a:t>Model analizatora intensywności zapachu 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Arch. Ochr. Środ.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1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29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(3) 17-30, 2003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80880" y="1905120"/>
            <a:ext cx="861084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ytan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 Czy  funkcja  rzeczywista I = f (stężenie) jest różna dla różnych związków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 Czy jest w przybliżeniu liniowa w zakresie bardzo małych stężeń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 Czy bywa w przybliżeniu liniowa w całym zakresie stężeń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 Czy model umożliwia wyjaśnienie mechanizmu węchowych interakcji?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64000" y="71280"/>
            <a:ext cx="36007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ementy  psychofizyki  węchu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647712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J. Kośmider: </a:t>
            </a:r>
            <a:r>
              <a:rPr b="0" i="1" lang="pl-PL" sz="1400" spc="-1" strike="noStrike">
                <a:solidFill>
                  <a:srgbClr val="ffffff"/>
                </a:solidFill>
                <a:latin typeface="Arial"/>
              </a:rPr>
              <a:t>Model analizatora intensywności zapachu 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Arch. Ochr. Środ.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1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29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(3) 17-30, 2003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3065400" y="1219320"/>
          <a:ext cx="5742000" cy="34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5400" y="1219320"/>
                    <a:ext cx="5742000" cy="34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3021120" y="1219320"/>
          <a:ext cx="5742000" cy="34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1120" y="1219320"/>
                    <a:ext cx="5742000" cy="34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3021120" y="1190520"/>
          <a:ext cx="5742000" cy="342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21120" y="1190520"/>
                    <a:ext cx="574200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3021120" y="1190520"/>
          <a:ext cx="5742000" cy="3425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1120" y="1190520"/>
                    <a:ext cx="574200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380880" y="3278160"/>
          <a:ext cx="5742000" cy="342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3278160"/>
                    <a:ext cx="5742000" cy="34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380880" y="3278160"/>
          <a:ext cx="5742000" cy="3427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3278160"/>
                    <a:ext cx="5742000" cy="34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414360" y="3278160"/>
          <a:ext cx="5681520" cy="3367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360" y="3278160"/>
                    <a:ext cx="568152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 flipV="1">
            <a:off x="0" y="4266720"/>
            <a:ext cx="1828800" cy="175284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523880" y="5105160"/>
            <a:ext cx="1600200" cy="15238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590920" y="4800600"/>
            <a:ext cx="1828800" cy="175248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647712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J. Kośmider: </a:t>
            </a:r>
            <a:r>
              <a:rPr b="0" i="1" lang="pl-PL" sz="1400" spc="-1" strike="noStrike">
                <a:solidFill>
                  <a:srgbClr val="ffffff"/>
                </a:solidFill>
                <a:latin typeface="Arial"/>
              </a:rPr>
              <a:t>Model analizatora intensywności zapachu 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Arch. Ochr. Środ.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1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29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(3) 17-30, 2003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057400" y="1828800"/>
            <a:ext cx="57150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057400" y="2285640"/>
            <a:ext cx="5715000" cy="25146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05120" y="579132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                      udział  składnika B                 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6171200">
            <a:off x="-904320" y="3259800"/>
            <a:ext cx="4653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spółczynnik nachylenia prostej (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= f(log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647712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J. Kośmider: </a:t>
            </a:r>
            <a:r>
              <a:rPr b="0" i="1" lang="pl-PL" sz="1400" spc="-1" strike="noStrike">
                <a:solidFill>
                  <a:srgbClr val="ffffff"/>
                </a:solidFill>
                <a:latin typeface="Arial"/>
              </a:rPr>
              <a:t>Model analizatora intensywności zapachu 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Arch. Ochr. Środ.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1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29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(3) 17-30, 2003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057400" y="1828800"/>
            <a:ext cx="57150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05120" y="579132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                      udział  składnika B                 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6171200">
            <a:off x="-904320" y="3259800"/>
            <a:ext cx="4653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spółczynnik nachylenia prostej (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= f(log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57400" y="2209680"/>
            <a:ext cx="5715000" cy="2438640"/>
          </a:xfrm>
          <a:custGeom>
            <a:avLst/>
            <a:gdLst/>
            <a:ahLst/>
            <a:rect l="l" t="t" r="r" b="b"/>
            <a:pathLst>
              <a:path w="3600" h="1536">
                <a:moveTo>
                  <a:pt x="0" y="1536"/>
                </a:moveTo>
                <a:cubicBezTo>
                  <a:pt x="160" y="1328"/>
                  <a:pt x="320" y="1120"/>
                  <a:pt x="720" y="912"/>
                </a:cubicBezTo>
                <a:cubicBezTo>
                  <a:pt x="1120" y="704"/>
                  <a:pt x="1920" y="440"/>
                  <a:pt x="2400" y="288"/>
                </a:cubicBezTo>
                <a:cubicBezTo>
                  <a:pt x="2880" y="136"/>
                  <a:pt x="3400" y="56"/>
                  <a:pt x="360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647712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J. Kośmider: </a:t>
            </a:r>
            <a:r>
              <a:rPr b="0" i="1" lang="pl-PL" sz="1400" spc="-1" strike="noStrike">
                <a:solidFill>
                  <a:srgbClr val="ffffff"/>
                </a:solidFill>
                <a:latin typeface="Arial"/>
              </a:rPr>
              <a:t>Model analizatora intensywności zapachu 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Arch. Ochr. Środ.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1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29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(3) 17-30, 2003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057400" y="1828800"/>
            <a:ext cx="57150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05120" y="579132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                      udział  składnika B                 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6171200">
            <a:off x="-904320" y="3259800"/>
            <a:ext cx="4653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spółczynnik nachylenia prostej (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= f(log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57400" y="2362320"/>
            <a:ext cx="5715000" cy="2527200"/>
          </a:xfrm>
          <a:custGeom>
            <a:avLst/>
            <a:gdLst/>
            <a:ahLst/>
            <a:rect l="l" t="t" r="r" b="b"/>
            <a:pathLst>
              <a:path w="3600" h="1592">
                <a:moveTo>
                  <a:pt x="0" y="1488"/>
                </a:moveTo>
                <a:cubicBezTo>
                  <a:pt x="660" y="1540"/>
                  <a:pt x="1320" y="1592"/>
                  <a:pt x="1920" y="1344"/>
                </a:cubicBezTo>
                <a:cubicBezTo>
                  <a:pt x="2520" y="1096"/>
                  <a:pt x="3320" y="224"/>
                  <a:pt x="360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647712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J. Kośmider: </a:t>
            </a:r>
            <a:r>
              <a:rPr b="0" i="1" lang="pl-PL" sz="1400" spc="-1" strike="noStrike">
                <a:solidFill>
                  <a:srgbClr val="ffffff"/>
                </a:solidFill>
                <a:latin typeface="Arial"/>
              </a:rPr>
              <a:t>Model analizatora intensywności zapachu 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Arch. Ochr. Środ.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1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29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(3) 17-30, 2003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057400" y="1828800"/>
            <a:ext cx="57150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05120" y="579132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                      udział  składnika B                 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171200">
            <a:off x="-904320" y="3259800"/>
            <a:ext cx="4653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spółczynnik nachylenia prostej (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= f(log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57400" y="2362320"/>
            <a:ext cx="5715000" cy="2057400"/>
          </a:xfrm>
          <a:custGeom>
            <a:avLst/>
            <a:gdLst/>
            <a:ahLst/>
            <a:rect l="l" t="t" r="r" b="b"/>
            <a:pathLst>
              <a:path w="4128" h="1288">
                <a:moveTo>
                  <a:pt x="0" y="1288"/>
                </a:moveTo>
                <a:cubicBezTo>
                  <a:pt x="124" y="792"/>
                  <a:pt x="248" y="296"/>
                  <a:pt x="576" y="232"/>
                </a:cubicBezTo>
                <a:cubicBezTo>
                  <a:pt x="904" y="168"/>
                  <a:pt x="1552" y="928"/>
                  <a:pt x="1968" y="904"/>
                </a:cubicBezTo>
                <a:cubicBezTo>
                  <a:pt x="2384" y="880"/>
                  <a:pt x="2712" y="176"/>
                  <a:pt x="3072" y="88"/>
                </a:cubicBezTo>
                <a:cubicBezTo>
                  <a:pt x="3432" y="0"/>
                  <a:pt x="3952" y="328"/>
                  <a:pt x="4128" y="3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257800" y="1219320"/>
            <a:ext cx="385452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726" r="0" b="0"/>
          <a:stretch/>
        </p:blipFill>
        <p:spPr>
          <a:xfrm>
            <a:off x="4716360" y="3459240"/>
            <a:ext cx="3530880" cy="1914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0" t="726" r="0" b="0"/>
          <a:stretch/>
        </p:blipFill>
        <p:spPr>
          <a:xfrm>
            <a:off x="4716360" y="1139760"/>
            <a:ext cx="3530880" cy="1914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79640" y="4941720"/>
            <a:ext cx="1800360" cy="11944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bie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zeczywi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37080" y="1916280"/>
            <a:ext cx="9349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708360" y="4508640"/>
            <a:ext cx="863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16360" y="1989000"/>
            <a:ext cx="1728720" cy="1008360"/>
          </a:xfrm>
          <a:prstGeom prst="ellipse">
            <a:avLst/>
          </a:prstGeom>
          <a:noFill/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16360" y="4292640"/>
            <a:ext cx="2087640" cy="1008000"/>
          </a:xfrm>
          <a:prstGeom prst="ellipse">
            <a:avLst/>
          </a:prstGeom>
          <a:noFill/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24360" y="981000"/>
            <a:ext cx="2951280" cy="1800360"/>
          </a:xfrm>
          <a:prstGeom prst="ellipse">
            <a:avLst/>
          </a:prstGeom>
          <a:noFill/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3284640"/>
            <a:ext cx="3024000" cy="1728720"/>
          </a:xfrm>
          <a:prstGeom prst="ellipse">
            <a:avLst/>
          </a:prstGeom>
          <a:noFill/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20720" y="335772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Strefa fizycz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5500800"/>
            <a:ext cx="31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Strefa fizjologicz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56360" y="620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00"/>
                </a:solidFill>
                <a:latin typeface="Arial"/>
              </a:rPr>
              <a:t>Strefa  psychologicz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189000"/>
            <a:ext cx="4176720" cy="6669000"/>
          </a:xfrm>
          <a:prstGeom prst="ellipse">
            <a:avLst/>
          </a:prstGeom>
          <a:noFill/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56360" y="535608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00"/>
                </a:solidFill>
                <a:latin typeface="Arial"/>
              </a:rPr>
              <a:t>Strefa  psychologicz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2997360"/>
            <a:ext cx="31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Strefa fizjologicz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547640" y="855720"/>
            <a:ext cx="1152720" cy="1584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2687760" y="1197000"/>
            <a:ext cx="1092240" cy="1224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2280" y="990720"/>
            <a:ext cx="5257800" cy="132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ODZIEC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 — stimulu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(optyczny, mechaniczny, chemiczny 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438280"/>
            <a:ext cx="114300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184560"/>
            <a:ext cx="5257800" cy="116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SYCHIKA,  ŚWIADOMOŚĆ,  DUS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rozpoznanie wrażenia, analiza cech,  emocje 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4495680"/>
            <a:ext cx="106668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5181480"/>
            <a:ext cx="5257800" cy="132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EAKCJA,  DZIAŁ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 — 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(działanie, plany działania ...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338148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ody  psycholog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spekcyjnej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9920" y="4876920"/>
            <a:ext cx="3124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sychologii behawioralnej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reakcj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bserwowal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ody komputerow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lowania (człowiek jako układ samosterując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24776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dania fizycz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chemicz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533520"/>
            <a:ext cx="891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CEPCJA  WRAŻEŃ  ZMYSŁOWYCH                            METODY BADA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64000" y="71280"/>
            <a:ext cx="36007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ementy  psychofizyki  węchu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685800"/>
            <a:ext cx="830592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PSYCHIKA [gr.]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psychol.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całokształt procesów psychicznych i cech psychicznych istot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żywych; funkcja mózgu; przedmiot badania psycholog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743200"/>
            <a:ext cx="8305560" cy="17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loz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łokształt nabytych i wrodzonych dyspozycji duchowych: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ektualnych, uczuciowych, synonim życia duchoweg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dnostki; inaczej: dusza, świadomość, umysł, „ja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5089680"/>
            <a:ext cx="830592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socjo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stawa i przekonania wspólne określonym grupom społeczny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(np. p. społeczna, p. narodu, mentalność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64000" y="71280"/>
            <a:ext cx="36007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ementy  psychofizyki  węchu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280" y="838080"/>
            <a:ext cx="8915400" cy="42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SYCH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k jednoznacznej i ogólnie przyjętej definicji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akres badań psychologii ciągle rozszerza się i różnicuj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Każde jej określenie ma charakter historyczny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ynika to stąd, że „nauka o psychice” graniczy z wieloma bardzo szybko rozwijającymi się naukami, takimi jak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ologia, fizjologia, medycyna, socjologia, pedagogika, filozofia, lingwistyka i inne (w tym: informatyka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 rozwoju tych nauk zależy postęp psychologi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5622840"/>
            <a:ext cx="899172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Łatwiejsze jest zdefiniowanie poszczególnyc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ziałów psychologi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b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uk wyodrębnionych na pogranicz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sychologii z innymi nauk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64000" y="71280"/>
            <a:ext cx="36007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ementy  psychofizyki  węchu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1905120"/>
            <a:ext cx="8763120" cy="35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BEHAWIORYZM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[ang.],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ierunek  w  psychologii XX w.. Przedmiotem badań  tej  nauki  jest  zachowanie się (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behaviour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) człowiek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Behawioryści  postulow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zastosowanie  w  badaniach  psychologicznych  metod  obiektywnych, spełniających  wymóg  </a:t>
            </a: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sprawdzalności  wyników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zamiast  zajmowania  się  zjawiskami  świadomości  (</a:t>
            </a: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introspekcja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).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64000" y="71280"/>
            <a:ext cx="36007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ementy  psychofizyki  węchu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533520"/>
            <a:ext cx="914400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ff0000"/>
                </a:solidFill>
                <a:latin typeface="Arial"/>
              </a:rPr>
              <a:t>                                             </a:t>
            </a:r>
            <a:r>
              <a:rPr b="1" i="1" lang="pl-PL" sz="3200" spc="-1" strike="noStrike">
                <a:solidFill>
                  <a:srgbClr val="ff0000"/>
                </a:solidFill>
                <a:latin typeface="Arial"/>
              </a:rPr>
              <a:t>S  - 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i="1" lang="pl-PL" sz="2400" spc="-1" strike="noStrike">
                <a:solidFill>
                  <a:srgbClr val="ff0000"/>
                </a:solidFill>
                <a:latin typeface="Arial"/>
              </a:rPr>
              <a:t>stimulus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-  zespół bodźców fizycznych  płynących  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środowiska  naturalnego  i  społeczneg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sytuacja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i="1" lang="pl-PL" sz="2400" spc="-1" strike="noStrike">
                <a:solidFill>
                  <a:srgbClr val="ff0000"/>
                </a:solidFill>
                <a:latin typeface="Arial"/>
              </a:rPr>
              <a:t>reaction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-  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zachowanie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,  zespół  reakcji  ruchow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raz  zmian  fizjologiczny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tórymi  organizm  odpowiada na sytuacj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1148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wiązki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 – R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wytwarzają się i utrwalają w ciągu życi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ą efektem uczenia się określonych reakcji na określone bodź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“behawioryzm” = “teoria uczenia się”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4705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odyfikacje (neobehawioryzm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.in.   wprowadzenie do  formuły  “zmiennych pośredniczących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ędzy bodźcem i reakcją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 - O -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64000" y="71280"/>
            <a:ext cx="36007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ementy  psychofizyki  węchu</a:t>
            </a:r>
            <a:endParaRPr b="0" lang="en-US" sz="20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fade thruBlk="true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2:24:48Z</dcterms:created>
  <dc:creator>Joanna Kośmider</dc:creator>
  <dc:description/>
  <dc:language>en-US</dc:language>
  <cp:lastModifiedBy>ibm</cp:lastModifiedBy>
  <dcterms:modified xsi:type="dcterms:W3CDTF">2008-09-07T16:43:24Z</dcterms:modified>
  <cp:revision>80</cp:revision>
  <dc:subject/>
  <dc:title>Bez tytułu slajdu</dc:title>
</cp:coreProperties>
</file>