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1314-3643-4A97-856B-1590E2FA230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8A6-B897-4C57-BCC5-4C70B11E40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BBCF-B7D6-4F30-8B23-E4B7A4C93B9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38E-192E-4238-9F21-7C5D6FB5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D7C-6AED-432B-B714-F4847FF0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C27-6967-4724-8B26-93EB8B0E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DD9-C51F-4CA4-B2DA-18D60E08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049C-CE28-4D5D-A2DC-B4B62C1B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721-9005-4F0D-84C7-81FBA07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B6D-0369-49C3-8E24-8004A9B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716-2CC2-4DEB-8C77-5819BCD5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654-2EC2-4F2D-8A0F-5AF801E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0D57-A8AE-42B7-B975-52239DC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AAC8-2F50-4391-9BE7-77378EE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26A-16E0-43D0-99D2-B7E3B90B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5E2-4E8A-487D-A35C-7080B83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A53-B5F0-4BC0-82B7-463E3D1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C2D-B68C-449F-AF54-B5CBC75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614-6FDA-4538-A3B1-97CC2B8A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860C-AF53-4518-B04F-2F4AC1F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8336-E81F-4A28-A4CF-91CBAC9D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1DB7-0E70-4184-A58F-75401273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4974-4448-4D9E-AB15-7D7398C9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281A-AC8C-45A4-A988-7267A926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72E4-DC8B-47D5-B3A7-B474799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F2A-66EB-443C-B454-11FBCCE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1AD8-1A3E-4AE9-ACC7-FDEECB9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5F89-068E-4225-8007-8DBF065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2989-7AD3-4817-8CB9-2E1D041E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FD27-69B3-4C5D-B720-681F506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0B0C-4FF4-42FE-BE11-48CD252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BB9A-AD48-4419-A799-BE538BE5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959E-4D58-4B90-B4F0-E4F6A6B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52A-E759-41D2-B864-524E716D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2EE-55CF-4DC5-8ED6-6BB9F4A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88F-8CC1-4624-9BF7-A013BCE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5A6-793A-437E-BBC1-F3BBDC2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E4E-4CAA-44D9-9769-BE3930A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266-F929-496B-A5A9-05D73EFD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C39C-FB47-457E-8FB8-E69DC714FA7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5AC-2C97-4989-B1D7-0697597D60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E647-ADF5-44E8-B50B-DCB8855465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iędzyzdroje, 31 marca 2008 r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509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Uciążliwości odoro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dla środowi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dsekretarz Stanu w Ministerstwie Środowi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łówny Konserwator Przyr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09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r inż. MACIEJ TRZEC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1034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03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1035"/>
          <p:cNvGraphicFramePr/>
          <p:nvPr/>
        </p:nvGraphicFramePr>
        <p:xfrm>
          <a:off x="7596360" y="262080"/>
          <a:ext cx="12236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262080"/>
                    <a:ext cx="1223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Procedowanie z naruszeniami prawa wspólnotoweg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2 etapy procedowania z naruszeniam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Wezwanie do usunięcia naruszenia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Uzasadniona opini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Ewentualna skarga Komisji Europejskiej do Europejskiego Trybunału Sprawiedliwośc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Polsk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3 Wezwania do usunięcia naruszenia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1 Uzasadniona opinia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1 skarga do ETS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+ sprawa obwodnicy Rospudy (Wezwanie, Uzasadniona opinia, Skarga do ETS) – z racji swojej specyfiki pominięta w niniejszej prezentacji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rostokąt 5"/>
          <p:cNvSpPr/>
          <p:nvPr/>
        </p:nvSpPr>
        <p:spPr>
          <a:xfrm>
            <a:off x="1371600" y="304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Naruszenia art. 226 Traktatu Akcesyjnego przez Polskę,  zgłoszone przez Komisję Europejsk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episy unijne i zagraniczn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rak jest ustawodawstwa UE w tym zakre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dynie norma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N 13725 Jakość powietrza Oznaczanie stężenia zapachowego metodą olfaktometrii dynamiczn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nie określa poziomów dopuszczalny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dywidualne rozwiązania poszczególnych krajów oparte na tzw. jednostce zapachowej odpowiadającej progowi wyczuwalności zapachowej tj. takiej masie substancji w jednym metrze sześciennym powietrza, którą wyczuwa połowa zespołu testującego zap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49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Odory problemem lokalnym?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1760" y="2707920"/>
            <a:ext cx="3810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przestrzen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społe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zdrowot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środowisk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ekonomi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SimSun"/>
              </a:rPr>
              <a:t>Wymiar estet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0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7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Ustawa - Poś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05040"/>
            <a:ext cx="76312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awiera w artykule 222 upoważnienie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fakultatywne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dla Ministra Środowiska do wydania rozporządzenia w sprawie wartości odniesienia substancji zapachowych w powietrzu i metod oceny zapachowej jakości powietrz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2048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5592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otychczasowe prace resortu środowiska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jekty rozporządzeń wykorzystujące badanie uciążliwości zapachu metodą sensoryczną (zarzuty: możliwy błąd powtarzalności wyników, co może być przyczyną odwołań i ska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jekty rozporządzeń wykorzystujące stężenia konkretnych substancji zapachowoczynnych.(zarzuty: nie uwzględnia wszystkich aspektów uciążliwości zapachowe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Object 2048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Obecne prace</a:t>
            </a:r>
            <a:r>
              <a:rPr b="1" lang="pl-P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ierownictwo resortu zdecydowało o podjęciu prac nad przygotowaniem projektu ustawy, która regulowałaby kwestię uciążliwości zapachowej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jest to drugie podejście do uregulowania problemu w formie ust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Można ta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9" name="Picture 4" descr="r 2 36a"/>
          <p:cNvPicPr/>
          <p:nvPr/>
        </p:nvPicPr>
        <p:blipFill>
          <a:blip r:embed="rId1"/>
          <a:stretch/>
        </p:blipFill>
        <p:spPr>
          <a:xfrm>
            <a:off x="971640" y="1844640"/>
            <a:ext cx="748980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5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Można tak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73" name="Picture 4" descr="r 2 43a"/>
          <p:cNvPicPr/>
          <p:nvPr/>
        </p:nvPicPr>
        <p:blipFill>
          <a:blip r:embed="rId1"/>
          <a:stretch/>
        </p:blipFill>
        <p:spPr>
          <a:xfrm>
            <a:off x="539640" y="1844640"/>
            <a:ext cx="7920000" cy="417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0"/>
          <p:cNvGraphicFramePr/>
          <p:nvPr/>
        </p:nvGraphicFramePr>
        <p:xfrm>
          <a:off x="179280" y="189000"/>
          <a:ext cx="198144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1981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7"/>
          <p:cNvSpPr/>
          <p:nvPr/>
        </p:nvSpPr>
        <p:spPr>
          <a:xfrm>
            <a:off x="4788000" y="2779560"/>
            <a:ext cx="863640" cy="28908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940360" y="2997360"/>
            <a:ext cx="936720" cy="21564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9:21:02Z</dcterms:created>
  <dc:creator>ms</dc:creator>
  <dc:description/>
  <dc:language>en-US</dc:language>
  <cp:lastModifiedBy>n0862</cp:lastModifiedBy>
  <dcterms:modified xsi:type="dcterms:W3CDTF">2008-03-31T07:06:42Z</dcterms:modified>
  <cp:revision>30</cp:revision>
  <dc:subject/>
  <dc:title>Możliwe odstępstwa od wymagań Dyrektywy 2001/80/WE </dc:title>
</cp:coreProperties>
</file>