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9.wmf" ContentType="image/x-wmf"/>
  <Override PartName="/ppt/media/image6.jpeg" ContentType="image/jpeg"/>
  <Override PartName="/ppt/media/image7.png" ContentType="image/png"/>
  <Override PartName="/ppt/media/image11.wmf" ContentType="image/x-wmf"/>
  <Override PartName="/ppt/media/image8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7AFB-CEC9-41F7-8B30-E59D8239C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E915-BBED-4AE8-89C6-99869300A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34D9-C70F-4AC3-B916-83A5B7996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9DAC-9F90-4F47-8EF8-1475236F2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67816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3B1B-F790-4B14-8E1F-C4A009260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7A5C-4172-4FB4-85C5-EDE671AB2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CAFF-A6CF-42F4-BA0D-F38384AFA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02C7-011E-4501-839F-FD6790D9A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67816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1B8D-6944-4388-87CE-0D5690734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88A7-B400-470A-BC35-CFCEA4AA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90F8-6A30-4639-AFC7-6949B53F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CC61-88B9-4B0E-A8AC-B98B3D29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14600" y="1219320"/>
            <a:ext cx="3886200" cy="47480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533520" y="61261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Garamond Semibold"/>
              </a:rPr>
              <a:t>Auto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5643720"/>
            <a:ext cx="8989920" cy="90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781680" cy="6098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 algn="ctr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61760" y="6019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27EDF-FC9D-4B1A-B389-B88119145230}" type="datetime"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Gerhard GÖ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7862760" y="0"/>
            <a:ext cx="1281240" cy="96516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FD1FD-353B-49A0-B849-FC118F8E1E85}" type="slidenum"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5"/>
          <a:stretch/>
        </p:blipFill>
        <p:spPr>
          <a:xfrm>
            <a:off x="0" y="0"/>
            <a:ext cx="7915320" cy="99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304920"/>
            <a:ext cx="8153280" cy="6157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5410080" cy="11430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570720" y="0"/>
            <a:ext cx="2573280" cy="2376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907560"/>
            <a:ext cx="5410080" cy="11430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ffffff"/>
                </a:solidFill>
                <a:latin typeface="Verdana"/>
              </a:rPr>
              <a:t>Legal Tools for Odour Mitigation in the Austrian Legisl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00200" y="2971440"/>
            <a:ext cx="64771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Limitation of Odour Nuisances in Miedzyzdroje (Poland) on 31 March - 1 April 2008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RTP 26398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260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3260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781680" cy="6098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ffff"/>
                </a:solidFill>
                <a:latin typeface="Verdana"/>
              </a:rPr>
              <a:t>Decision criteria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Incoming statements have to be evaluate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Emissions have to be reduced according to State of the Art respectively BAT- documents ( BREF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High standards of Environment Protection has to be maintained- no degradation of Immission situ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In sensitive areas – air quality, nitrate risks etc.- stricter emission limit values applica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dour Nuisance Workshop Poland 2008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4C3BB2-C7C0-4D29-B80C-39DADAE4BA70}" type="datetime1">
              <a:rPr lang="en-US"/>
              <a:t>07/28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781680" cy="6098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ffff"/>
                </a:solidFill>
                <a:latin typeface="Verdana"/>
              </a:rPr>
              <a:t>Publication of Decision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IPPC permits are adressed to the applicant, the involved authorities, the municipalities and the Environment Ombudsm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In addition permits are published on the internet and announced in two regional newspap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dour Nuisance Workshop Poland 2008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D567E7-C59E-4232-8962-77E702AC669A}" type="datetime1">
              <a:rPr lang="en-US"/>
              <a:t>07/28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781680" cy="6098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ffff"/>
                </a:solidFill>
                <a:latin typeface="Verdana"/>
              </a:rPr>
              <a:t>MONITORING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Emission control measures have to be defined in the perm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Frequency and methodology of measurements must be describ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Two phases of monito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Self monitoring provis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External monitoring by authorised institutions ( civil engineers, technical universities, environment agencies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Odour monitoring including neighbours and local initiativ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EPER- data have to be transmitted to the author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dour Nuisance Workshop Poland 2008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2EC9E5-29D3-4DF1-AC54-4D012A67D36A}" type="datetime1">
              <a:rPr lang="en-US"/>
              <a:t>07/28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781680" cy="6098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ffff"/>
                </a:solidFill>
                <a:latin typeface="Verdana"/>
              </a:rPr>
              <a:t>Description of releases to all media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Operators shall report releases to air, water and land of any pollutant specified in Annex II to the E-PRTR Regulation for which the applicable threshold value specified in Annex II is exceed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All release data have to be expressed in kg/year and with three significant digits. The rounding to three significant digits does not refer to the statistical or scientific uncertainty, but reflects only the accuracy of the reported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dour Nuisance Workshop Poland 2008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D7F1B1-BB80-46FB-A60B-9466B49E326C}" type="datetime1">
              <a:rPr lang="en-US"/>
              <a:t>07/28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6696000" cy="9810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ffff"/>
                </a:solidFill>
                <a:latin typeface="Verdana"/>
              </a:rPr>
              <a:t>Odour Detection system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879640" y="1355760"/>
            <a:ext cx="3861000" cy="451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dour Nuisance Workshop Poland 2008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DCD8F0-3D1B-4568-96F4-C7E7387CB9B9}" type="datetime1">
              <a:rPr lang="en-US"/>
              <a:t>07/28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781680" cy="6098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ffff"/>
                </a:solidFill>
                <a:latin typeface="Verdana"/>
              </a:rPr>
              <a:t>Detection of Odour Emission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Odour emissions are measured by various detection procedures and method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Dissemination Calculations are executed with a calculation model with the basic information from a massstream analysis on the emission sour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dour Nuisance Workshop Poland 2008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10634F-58A7-480A-A29B-8A7C277C5466}" type="datetime1">
              <a:rPr lang="en-US"/>
              <a:t>07/28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781680" cy="6098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ffffff"/>
                </a:solidFill>
                <a:latin typeface="Verdana"/>
              </a:rPr>
              <a:t>Emission Register for Odour Substance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The Detection and Localisation of Odour emission sources is essential for Land use planni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Emissioncatasters have to be established by the regional administration in close co-operation with municipali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214720" y="2924280"/>
            <a:ext cx="4714560" cy="2852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dour Nuisance Workshop Poland 2008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D1E722-19AC-44FF-9C8D-7DA0A3FC97FD}" type="datetime1">
              <a:rPr lang="en-US"/>
              <a:t>07/28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781680" cy="6098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ffffff"/>
                </a:solidFill>
                <a:latin typeface="Verdana"/>
              </a:rPr>
              <a:t>Dispersion Model</a:t>
            </a:r>
            <a:br>
              <a:rPr sz="2000"/>
            </a:br>
            <a:r>
              <a:rPr b="1" lang="de-AT" sz="2000" spc="-1" strike="noStrike">
                <a:solidFill>
                  <a:srgbClr val="ffffff"/>
                </a:solidFill>
                <a:latin typeface="Verdana"/>
              </a:rPr>
              <a:t>AODM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Austrian Odour Dispersio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 u="sng">
                <a:solidFill>
                  <a:srgbClr val="000000"/>
                </a:solidFill>
                <a:uFillTx/>
                <a:latin typeface="Verdana"/>
              </a:rPr>
              <a:t>3 Modu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Emission Module: timescale of single point emiss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Dispersion Module : consideration of emission timescales and meteorolog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Verdana"/>
              </a:rPr>
              <a:t>Peak to mean Module: Calculation of single odour concentrations within a short timefra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dour Nuisance Workshop Poland 2008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DD211F-3A89-41CD-8EB0-B810B5E02219}" type="datetime1">
              <a:rPr lang="en-US"/>
              <a:t>07/28/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781680" cy="6098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ffffff"/>
                </a:solidFill>
                <a:latin typeface="Verdana"/>
              </a:rPr>
              <a:t>Results of AODM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Calculation of minimal distances from detected odour emission sour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Calculation of maximum odour expositions for single immission poi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Definition of tollerable odour quantities per year in order to protect the health of neighbou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Basic data for land use planning depart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dour Nuisance Workshop Poland 2008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70EA39-148D-40B4-85FE-7D4CAF026EF2}" type="datetime1">
              <a:rPr lang="en-US"/>
              <a:t>07/28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781680" cy="6098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ffff"/>
                </a:solidFill>
                <a:latin typeface="Verdana"/>
              </a:rPr>
              <a:t>Land Use Pla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 rot="5400000">
            <a:off x="4416480" y="2144520"/>
            <a:ext cx="4136760" cy="4114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971640" y="1700280"/>
            <a:ext cx="3870360" cy="282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dour Nuisance Workshop Poland 2008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676FED-A810-4305-94E6-1A7869758C18}" type="datetime1">
              <a:rPr lang="en-US"/>
              <a:t>07/28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781680" cy="6098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de-AT" sz="3200" spc="-1" strike="noStrike">
                <a:solidFill>
                  <a:srgbClr val="ffffff"/>
                </a:solidFill>
                <a:latin typeface="Verdana"/>
              </a:rPr>
              <a:t>LEGAL BASI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Clean Air for Europe (CAFE) was launched in March 200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Verdana"/>
              </a:rPr>
              <a:t>IPPC Directive 96/61/EU amended by Dir 1882/200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Verdana"/>
              </a:rPr>
              <a:t>EPER Decision 479/200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Verdana"/>
              </a:rPr>
              <a:t>Environment Information Directive 4/2003/E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Verdana"/>
              </a:rPr>
              <a:t>Aarhus Convention- Access to Just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dour Nuisance Workshop Poland 2008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924EED-80B2-4E17-A65E-9968E1F29EC0}" type="datetime1">
              <a:rPr lang="en-US"/>
              <a:t>07/28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781680" cy="6098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ffff"/>
                </a:solidFill>
                <a:latin typeface="Verdana"/>
              </a:rPr>
              <a:t>Dispersion Plan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 rot="5400000">
            <a:off x="1727280" y="440280"/>
            <a:ext cx="4896000" cy="597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dour Nuisance Workshop Poland 2008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873CC3-6D5A-47AD-981F-A788769695CF}" type="datetime1">
              <a:rPr lang="en-US"/>
              <a:t>07/28/26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781680" cy="6098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ffff"/>
                </a:solidFill>
                <a:latin typeface="Verdana"/>
              </a:rPr>
              <a:t>Evaluation Criteria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Austrian Academy of Science issued a treshold value recomandation for odour exposur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Tollerable treshold values for residential area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Weak odours : maximum 29 days or 701 hou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Strong odours: maximum 11 day or 263 hou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dour Nuisance Workshop Poland 2008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08E0E4-F849-415D-88AE-0B9EFC55B1C1}" type="datetime1">
              <a:rPr lang="en-US"/>
              <a:t>07/28/26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6781680" cy="6098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ffff"/>
                </a:solidFill>
                <a:latin typeface="Verdana"/>
              </a:rPr>
              <a:t>Inspectio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Regular site visits and inspections are carried aout according to the Minimal Criteria for Inspections proposition by the Commis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Several IPPC- installations are subject to the annual inspection pl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Every 5 years permit conditions have to be evaluated and review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Neighbours can ask for additional controls if emission limits prooved to be insufficien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dour Nuisance Workshop Poland 2008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FFDB3E-1EEA-409E-B733-E408D64F40C9}" type="datetime1">
              <a:rPr lang="en-US"/>
              <a:t>07/28/26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781680" cy="6098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ffff"/>
                </a:solidFill>
                <a:latin typeface="Verdana"/>
              </a:rPr>
              <a:t>Authoritie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County administration: authority on local level, permitting smaller installations ( non IPPC in general 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Regional administration: authority on regional level, permitting and controlling IPPC- installations, operates regional EPER- data coll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Federal Ministry: issues regulations and guidelines, reports to EU- Commis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dour Nuisance Workshop Poland 2008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411123-CC44-4A7C-8519-D46B882E8878}" type="datetime1">
              <a:rPr lang="en-US"/>
              <a:t>07/28/26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6781680" cy="6098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  <a:ea typeface="Arial"/>
              </a:rPr>
              <a:t>IPPC Directiv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243240" y="2205000"/>
            <a:ext cx="26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ff"/>
                </a:solidFill>
                <a:latin typeface="Verdana"/>
              </a:rPr>
              <a:t>Thank you for your Atten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dour Nuisance Workshop Poland 2008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1A9ACC-844C-4417-91FF-3945454B6D5B}" type="datetime1">
              <a:rPr lang="en-US"/>
              <a:t>07/28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781680" cy="6098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ffff"/>
                </a:solidFill>
                <a:latin typeface="Verdana"/>
              </a:rPr>
              <a:t>CAFE Programm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CAFE has the following specific objective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to develop scientific information relating to the effects of outdoor air pollution,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to support the implementation and review the effectiveness of existing legislation,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to ensure that the sectoral measures that will be needed to achieve air quality and deposition objectives cost-effectively are taken at the relevant level through the development of effective structural links with sectoral policies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to determine an overall, integrated strategy at regular intervals which defines appropriate air quality objectives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to disseminate widely the technical and policy information arising from implementation of the program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dour Nuisance Workshop Poland 2008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648FB9-507B-4DFF-ABD7-E5F5548540BA}" type="datetime1">
              <a:rPr lang="en-US"/>
              <a:t>07/28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781680" cy="6098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ffff"/>
                </a:solidFill>
                <a:latin typeface="Verdana"/>
              </a:rPr>
              <a:t>Proposal for a New Air Quality Directiv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This new proposal includes the following key element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that most of existing legislation be merged into a single directive (except for the fourth daughter directive) with no change to existing air quality objectiv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new air quality objectives and monitoring requirements for PM2.5 (fine particles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the possibility to discount natural sources of pollution when assessing compliance against limit valu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bsolute time extensions of up to five years for compliance with the dates of entry into force of existing limit val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Verdana"/>
              </a:rPr>
              <a:t>No regulation for odour nuisance includ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dour Nuisance Workshop Poland 2008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04EA46-2669-44EF-971C-28E3DADEDBB2}" type="datetime1">
              <a:rPr lang="en-US"/>
              <a:t>07/28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781680" cy="6098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ffff"/>
                </a:solidFill>
                <a:latin typeface="Verdana"/>
              </a:rPr>
              <a:t>National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Verdana"/>
              </a:rPr>
              <a:t>Legal Act on Industrial Activities 1994, amm. 200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Verdana"/>
              </a:rPr>
              <a:t>Waste Management Act 200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Verdana"/>
              </a:rPr>
              <a:t>Several Regional Legal Acts on Agricultural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Verdana"/>
              </a:rPr>
              <a:t>Regional Construction A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dour Nuisance Workshop Poland 2008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262342-AFB2-4801-8A62-2DA82D2EFA4F}" type="datetime1">
              <a:rPr lang="en-US"/>
              <a:t>07/28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781680" cy="6098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ffff"/>
                </a:solidFill>
                <a:latin typeface="Verdana"/>
              </a:rPr>
              <a:t>Key Requirements for Licensing procedures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66"/>
                </a:solidFill>
                <a:latin typeface="Verdana"/>
                <a:ea typeface="Arial"/>
              </a:rPr>
              <a:t>Operators of installations take preventive measures against pollution, in particular applying Best Availabl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66"/>
                </a:solidFill>
                <a:latin typeface="Verdana"/>
                <a:ea typeface="Arial"/>
              </a:rPr>
              <a:t>No “significant pollution” is caused( including odour emissions 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66"/>
                </a:solidFill>
                <a:latin typeface="Verdana"/>
                <a:ea typeface="Arial"/>
              </a:rPr>
              <a:t>Waste that cannot be avoided is recovered or safely disposed of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66"/>
                </a:solidFill>
                <a:latin typeface="Verdana"/>
                <a:ea typeface="Arial"/>
              </a:rPr>
              <a:t>Energy is used efficient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66"/>
                </a:solidFill>
                <a:latin typeface="Verdana"/>
                <a:ea typeface="Arial"/>
              </a:rPr>
              <a:t>Accidents are prevented and their consequences are limi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66"/>
                </a:solidFill>
                <a:latin typeface="Verdana"/>
                <a:ea typeface="Arial"/>
              </a:rPr>
              <a:t>The site is returned to a satisfactory state when the installation clo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dour Nuisance Workshop Poland 2008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1B2135-2FB1-4A1C-9B23-0E169D062001}" type="datetime1">
              <a:rPr lang="en-US"/>
              <a:t>07/28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781680" cy="6098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ffff"/>
                </a:solidFill>
                <a:latin typeface="Verdana"/>
              </a:rPr>
              <a:t>Requirements for Applications to IPPC licence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Detailed description of all relevant activities within the si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List of installations, engines and substances used on the si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Description of emission sources and quantities of emissions( odour emission souces 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Expected impact on the environ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Measures for emission reduction ( BAT- documents 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Measures to prevent incidents ( SEVESO 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Monitoring system and repor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dour Nuisance Workshop Poland 2008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868D0D-665F-4F80-A192-AA0C4ECA701A}" type="datetime1">
              <a:rPr lang="en-US"/>
              <a:t>07/28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781680" cy="6098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ffff"/>
                </a:solidFill>
                <a:latin typeface="Verdana"/>
              </a:rPr>
              <a:t>Involvement of the Public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All Application Documents are open to the Publ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Application is published in two regional newspapers and the Intern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Monitoring points for odour immissions agre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dour Nuisance Workshop Poland 2008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319D8F-E66D-428A-9C86-11BF40B3F4EA}" type="datetime1">
              <a:rPr lang="en-US"/>
              <a:t>07/28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781680" cy="6098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ffff"/>
                </a:solidFill>
                <a:latin typeface="Verdana"/>
              </a:rPr>
              <a:t>Public Discussio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Concerned neighbours are invited to a public hearing including technical experts for explan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Environment Ombudsman and neighbouring municipalities can give their state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Water Management Department is invited to give its opinion when Water Management Plan is concern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Verdana"/>
              </a:rPr>
              <a:t>NGO`s are involved within a certain time perio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dour Nuisance Workshop Poland 2008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2C1FE6-05E5-490A-8E3B-FC0C5AA2C6A8}" type="datetime1">
              <a:rPr lang="en-US"/>
              <a:t>07/28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1T14:14:12Z</dcterms:created>
  <dc:creator>goedl1</dc:creator>
  <dc:description/>
  <dc:language>en-US</dc:language>
  <cp:lastModifiedBy>Landesstandard</cp:lastModifiedBy>
  <dcterms:modified xsi:type="dcterms:W3CDTF">2008-03-12T15:09:36Z</dcterms:modified>
  <cp:revision>22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19126666</vt:r8>
  </property>
  <property fmtid="{D5CDD505-2E9C-101B-9397-08002B2CF9AE}" pid="3" name="_AuthorEmail">
    <vt:lpwstr>Sandra.POTTS@ec.europa.eu</vt:lpwstr>
  </property>
  <property fmtid="{D5CDD505-2E9C-101B-9397-08002B2CF9AE}" pid="4" name="_AuthorEmailDisplayName">
    <vt:lpwstr>POTTS Sandra (ELARG)</vt:lpwstr>
  </property>
  <property fmtid="{D5CDD505-2E9C-101B-9397-08002B2CF9AE}" pid="5" name="_EmailSubject">
    <vt:lpwstr>RTP 26398</vt:lpwstr>
  </property>
  <property fmtid="{D5CDD505-2E9C-101B-9397-08002B2CF9AE}" pid="6" name="_NewReviewCycle">
    <vt:lpwstr/>
  </property>
</Properties>
</file>