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11D8-C38B-4BB1-9D0B-57EAAE10A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BFA0-8AC9-4337-A9D4-E63C4304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33A-6F9B-4D5A-8E6A-D700D3FC8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CDEF-C560-4722-AEAE-10D53A54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8B52-587F-4BF2-A5E0-213DD0E7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31A-088A-45FA-9634-DA97330D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0CC-BFE3-4D52-BD08-CDE248D0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2551-1041-46DF-A93D-44E223C7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05B8-6D24-424C-B802-9030AE72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BFBF-2C93-4EAC-B608-BDAA6D4E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0D40-0223-4256-88F5-9863F01F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D693-F30A-4B8D-A324-374E0B21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ED83-BA20-4FBC-9042-063D7176324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ędzyzdroje, marzec-kwiecień 2008 r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ace Ministerstwa Środowiska nad stworzeniem uregulowań prawnych w Polsce w sprawie przeciwdziałania uciążliwości zapachowe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228600"/>
          <a:ext cx="1981080" cy="11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198108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ierunki rozwiązań problemu substancji zapachowych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stawa z dnia 7 lipca 1994 r. – Prawo budowlane, dająca delegacje do wydania rozporządzenia określającego warunki techniczne, jakim powinny odpowiadać obiekty budowlane i ich usytuowanie, uwzględniając m.in. kwestie ochrony środowiska, w tym odorów, oraz możliwość wprowadzenia obowiązku stosowania najlepszych dostępnych techn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yraźne zaadresowanie, jak to ma miejsce w w/w krajach UE, problemu odorów do najniższego szczebla samorządu terytorialnego, pozostawiając w jego gestii kontrolę zagadnień do rozstrzygnięcia w zakresie ochrony środowiska, kierując się zasadą znajdowania kompromisu pomiędzy lokalną społecznością, a zakładami produkcyjnymi, usługowymi na danym terenie (np. w formie referendum) jako organu właściwego do spraw lokalizacji inwestycji.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ecne prace</a:t>
            </a: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erownictwo resortu zdecydowało o podjęciu prac nad przygotowaniem projektu ustawy, która regulowałaby kwestię uciążliwości zapachowej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ykorzystanie konsultacji projektu z 2007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dstawowe założenia projektu ustaw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mocowanie gminy, jako podstawowej jednostki w zakresie ograniczania uciążliwości zapachowe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atalog sposobów postępowania ograniczających uciążliwości zapachow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atalog działalności podlegających pod regulacje tej ustaw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atalog substancji podlegających pod regulacje tej ustaw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etody oceny uciążliwości zapachowych (wg rozwiązań proponowanych poprzednio w projekcie rozporządzenia wynikającego z artykułu 222 ustawy z - Prawo ochrony środowis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westie odszkodowa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strumenty finansowe (na wzór opłat za korzystanie ze środowisk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ż zgłaszane zastrzeżeni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ócić do poprzedniego rozporządzen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e wystarczające rozwiązania dla planowanych przedsięwzięć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ica , od której organy ochrony środowiska są zobowiązane do reakcji na skargi na zapach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zostawieniem dla lokalnych władz ustalania akceptowanego poziomu zapach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rzucenie systemu ewidencji, rejestracji i analizy informacj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tęp do założeń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zekazane bezpośrednio do opinii do 36 gmin i związków g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la zainteresowanych są dostępne na stronach internetowych Ministerstwa Środowisk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ział „ Projekty aktów prawnych do konsultacji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uletyn Informacji Publicznej Ministra Środowi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ktualne zapisy w ustawie - Poś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tawa z dnia 27 kwietnia 2001 r. Prawo ochrony środowiska (tekst jednolity Dz.U. Nr 25, poz. 150, z 2008 r.) zawiera w artykule 222 upoważnieni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kultatyw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la Ministra Środowiska do wydania rozporządzenia w sprawie wartości odniesienia substancji zapachowych w powietrzu i metod oceny zapachowej jakości powietrza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zepisy unijn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rma EN 1372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ość powietrza Oznaczanie stężenia zapachowego metodą olfaktometrii dynamicznej (nie określa poziomów dopuszczalny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skie norm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N-EN 12255-9:200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Oczyszczalnie ściekó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Część 9:Kontrola zapachu i wentyl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N- EN 137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kość powietrz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znaczanie stężenia zapachowego metodą     olfaktometrii dynamiczne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echy charakterystyczne modelu "europejskiego"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sada zapobiegania nowym uciążliwościom zapachowy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sada wyznaczania akceptowalnego przez lokalną społeczność poziomu uciążliwości zapachowej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graniczenie metod pomiarów do najprostszych badań subiektywnego odczucia obywateli narażonych na uciążliwość zapachową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racowanie jednego standardu pomiaru liczby jednostek zapachowych (umożliwia to wymianę wyników badań i ocen sensorycznych 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sada stosowania najlepszych dostępnych technologii dla zapobiegania i ograniczania uciążliwości zapachowych przy uwzględnieniu zasady dobrej praktyki oraz zasady ponoszenia rozsądnych kosztów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la organu lokalnego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W wielu krajach ustawodawstwo jest wyraźnie adresowane do najniższego szczebla samorządu terytorialnego pozostawiając w jego gestii kontrolę zagadnień do rozstrzygnięcia w zakresie ochrony środowiska. To lokalny organ rozstrzyga o problemach ochrony środowiska kierując się zasadą znajdowania kompromisu pomiędzy lokalną społecznością, a zakładami produkcyjnymi, usługowymi na danym teren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Times New Roman"/>
              </a:rPr>
              <a:t>Zasady obowiązujące w krajach anglosaskich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ozwolenie na budowę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kargi na uciążliwość zapachow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zny “Plan zarządzania uciążliwością zapachową” (pojedyncze incydenty nie są brane pod uwagę. Również uciążliwość pochodzenia rolniczego nie jest rozpatrywana w ramach “Planu”- jest to obj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ę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e innymi szczególnymi przepisami typu podręcznik dobrej praktyki hodowlanej, rolniczej, itp.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złonkowie lokalnej społeczności jako jedyni decydują jaki poziom substancji zapachowych w powietrzu jest nie do zaakceptowania w ich środowisku zamieszkania, pra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lokalny organ ochrony środowiska współpracuje z lokalną społecznością oraz sprawcą uciążliwości zapachowej dla rozwiązania problem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tychczasowe prace resortu środowiska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y rozporządzeń wykorzystujące badanie uciążliwości zapachu metodą sensoryczną (zarzuty: znaczny błąd powtarzalności wyników, co może być przyczyną odwołań i ska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kty rozporządzeń wykorzystujące stężenia konkretnych substancji zapachowoczynnych.(zarzuty: nie uwzględnia wszystkich aspektów uciążliwości zapachowej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 oprócz rozporządzenia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tawa z dnia 26 lipca 2000r. o nawozach i nawożeni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ządzenie Ministra Środowiska z dnia 23 grudnia 2002 r. w sprawie szczególnych wymagań, jakim powinny odpowiadać programy działań mających na celu ograniczanie odpływu azotu ze źródeł rolniczych (Dz. U. z 2003r. Nr 4, poz. 4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ządzenie Ministra Rolnictwa i Gospodarki Żywnościowej z dnia 7 października 1997 r. w sprawie warunków technicznych, jakim powinny odpowiadać budowle rolnicze i ich usytuowanie (Dz. U. Nr 132, poz. 877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2T19:21:02Z</dcterms:created>
  <dc:creator>ms</dc:creator>
  <dc:description/>
  <dc:language>en-US</dc:language>
  <cp:lastModifiedBy>ms</cp:lastModifiedBy>
  <dcterms:modified xsi:type="dcterms:W3CDTF">2008-03-28T14:34:43Z</dcterms:modified>
  <cp:revision>29</cp:revision>
  <dc:subject/>
  <dc:title>Możliwe odstępstwa od wymagań Dyrektywy 2001/80/WE </dc:title>
</cp:coreProperties>
</file>